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E0CD-9685-4EE8-8E66-6C5EC5018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D37D-8F5F-4C43-BBA3-0D07490B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D39B-B1D2-400D-A967-2E973BCCD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EE7F-4C2C-4C35-8146-9E3FDECAB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4A16-3377-445B-9569-4995F45A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0720-CACF-46EE-998F-E1AE7BA8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309E-B5CD-4BD9-852F-80A69AA3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1B7A-C5F2-4892-810F-7D973B6C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AEB9-473A-4D87-B40E-17E78EA9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1BA8-86E6-461F-A2DC-690FA7CF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E59D-B1D5-4981-A399-EAB3D69C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1159-778D-40A0-8D6F-EABC515D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AF2F-4A80-48CE-9690-CE4BA2B6EB3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as de Clasificación d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izos Roco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920" y="5876640"/>
            <a:ext cx="6400800" cy="77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agrega una corrección para túne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16000" y="763560"/>
            <a:ext cx="8748720" cy="3149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042920" y="4581360"/>
            <a:ext cx="7561440" cy="1146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396480" y="637524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mado de Hoek,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dice Q de Bar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finido por Barton et al. (1974) como el Indice de Calidad de Rocas para Túne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ambién conocida como la clasificación NGI, por la afiliación de los autores (Norwegian Geotechnical Institut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termina la calidad del macizo y se aplica en definición de requerimientos de sostenimiento en excavaciones subterrán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escala logarítmica, de 0,001 a 1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finida a partir de 6 paráme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dice Q de Bar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finido a partir de 6 parámetros que forman 3 cuoc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QD: Rock Quality Desig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Jn: Joint set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Jr: Joint roughness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Ja: Joint Alteration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Jw: Joint water reduction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RF: Stress Reduction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059280" y="2421000"/>
                <a:ext cx="239076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Q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J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Ja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J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R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dice Q de Bar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primer cuociente da cuenta del tamaño de los bloques que se forma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segundo cuociente es un indicador de la resistencia entre los bloques, controlada por la resistencia en las discontinuidad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tercer cuociente, llamado “esfuerzo activo”, considera el efecto de las presiones de agua, grados de confinamiento o relaj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916360" y="1706400"/>
                <a:ext cx="32400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Q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J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Ja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J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R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RQD y J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56908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J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0920" y="1576440"/>
            <a:ext cx="849780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52440" y="44280"/>
            <a:ext cx="7567560" cy="3187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344600" y="3141720"/>
            <a:ext cx="747540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J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45964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R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79640" y="189000"/>
            <a:ext cx="6888240" cy="3065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996920" y="3213000"/>
            <a:ext cx="68230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27712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ósito y Caracterís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ificar de manera cuantitativa la calidad geotécnica de un macizo roco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itir la distinción entre un macizo y otro de manera rápida y fá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er un parámetro para efectos de diseño de fortif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basan en apreciaciones empír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 subjetivos, a mayor experiencia mejor es la clasific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basan en sistema 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t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n que se asigna un puntaje a diversas características y se calcula un puntaje fin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licaciones de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547640" y="1360440"/>
            <a:ext cx="612144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26920" y="573120"/>
            <a:ext cx="7129800" cy="5880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563440" y="640080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eño de Fort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023840" y="262080"/>
            <a:ext cx="7096320" cy="6333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845600" y="6381720"/>
            <a:ext cx="374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ción de velocidad de onda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eological Strength Index (G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ido por Hoek (1995), es un índice que indica la reducción de la resistencia de un macizo rocoso, con respecto a la roca intacta, para diferentes condiciones geológ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define en terreno por observación de dos parámetros principales: estado de fracturamiento; y calidad de las discontinuida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GSI se debe dar en un rango de val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a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767040" y="0"/>
            <a:ext cx="49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12000" y="274320"/>
            <a:ext cx="180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-174600"/>
            <a:ext cx="5143680" cy="7419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139080" y="618480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ek &amp; Brown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rocas estratificadas en que hay clara diferencia entre dos tipos de rocas (por ejemplo alternancia areniscas-lutitas), se propone usar una ponderación de valores de GS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30480" y="2133720"/>
            <a:ext cx="6581520" cy="44672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591600" y="6375240"/>
            <a:ext cx="25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inos &amp; Hoek, 2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16000" y="1073160"/>
            <a:ext cx="7223040" cy="5369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591600" y="6375240"/>
            <a:ext cx="25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inos &amp; Hoek, 2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licaciones de G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buen descriptor de la calidad del macizo rocoso, más rápido de estimar que RMR y en especial Q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utiliza como una de las variables para obtener la resistencia del macizo rocoso mediante el criterio de falla de Hoek-Brown (se verá en las próximas clas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8000" y="274320"/>
            <a:ext cx="353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alidad Geotécnic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4378320" cy="3284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580000" y="1413000"/>
            <a:ext cx="3125880" cy="4687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187280" y="4057560"/>
            <a:ext cx="35290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el estudio de taludes, los sistemas de clasificación más comunes son el RMR de Beniawski y el GSI de Hoek y Br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túneles y excavaciones subterráneas además de las anteriores se usan normalmente el método Q de Barton, el MRMR de Laubsher (minería), entre o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lasificación de Beniaws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ambién conocida como Clasificación Geomecánica, definida por Beniwaski (1976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ersión actualizada de 198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torga puntaje a 5 parámetros, con una suma máxima de 1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puntaje total se llama RMR, “Rock mass rating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lasificación de Beniawski (1989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ámetros a calific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sistencia de la Roca Intacta: A partir de valores de resistencia a la compresión simple (UCS) o de ensayos de carga puntual. Ptje máximo: 1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QD. Ptje Máximo: 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paciamiento de discontinuidades. Ptje. Máximo: 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diciones de las discontinuidades. Ptje Máximo: 3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diciones de Agua Subterránea. Ptje Máximo: 1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RMR= (1)+(2)+(3)+(4)+(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MR Beniaws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1280" y="1484280"/>
            <a:ext cx="8964720" cy="4797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396480" y="637524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mado de Hoek,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alle para puntaje condiciones de discontinuida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8000" y="2116080"/>
            <a:ext cx="8893080" cy="2127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396480" y="637524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mado de Hoek,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dicionalmente, Beniawski (1989) propuso una clasificación (clases I a V), correcciones para casos especiales y recomendaciones de valores de resistencia del macizo y aplicaciones en túne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18:44:29Z</dcterms:created>
  <dc:creator>Sergio Sepulveda</dc:creator>
  <dc:description/>
  <dc:language>en-US</dc:language>
  <cp:lastModifiedBy>Sergio Sepulveda</cp:lastModifiedBy>
  <dcterms:modified xsi:type="dcterms:W3CDTF">2007-08-02T13:29:23Z</dcterms:modified>
  <cp:revision>10</cp:revision>
  <dc:subject/>
  <dc:title>Clasificación de Macizos Rocosos</dc:title>
</cp:coreProperties>
</file>