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536-670E-4BE2-8432-EE3CD5B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0C8-CD75-43AE-B16C-797DA11D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095-2471-4BD9-B7AC-A3D8D1DE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4CF-9FF5-4565-827C-CB498448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1DA-D1F0-4AD2-ACC3-C0FDC62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AE8-7A06-4653-898A-C98E046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2B6-0EEA-4880-A3F4-2F4A3DC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55F-9407-4BFB-91D6-EDB60C4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B4C-F778-439E-9F90-FA745B1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908-4DC7-4448-B492-8837220B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23E-F039-4826-A402-FFD831D5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6E3-1280-40CE-8334-2F221E7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9A5-EBD2-45AB-8932-FB1D095525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 Sepulveda</cp:lastModifiedBy>
  <dcterms:modified xsi:type="dcterms:W3CDTF">2007-08-02T13:29:23Z</dcterms:modified>
  <cp:revision>10</cp:revision>
  <dc:subject/>
  <dc:title>Clasificación de Macizos Rocosos</dc:title>
</cp:coreProperties>
</file>