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23F-4689-4775-8BD8-FF38CC12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8F1-DAA2-48E6-BD3B-2BBEDA8E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391-4B35-4562-93D9-39A3FA8E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2C0E-4307-4CE1-A55B-A1BE41C6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9F8-AEC7-44FD-8734-3B377845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995-7BA2-41B6-A38E-960ACCFD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C973-E830-42B0-8BBB-F7F46FB1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1D0-5838-472D-A885-DC4AFF0F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CE9-FD25-4F48-9039-B8F32D24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453-3F45-4BF4-A215-A81E87B3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64AB-DBD2-4CE7-8D13-75385D70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F72F-C4C3-4318-9A49-1514B568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C55A-43F9-4474-A36D-D67D9E7A488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s de Clasificación 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izos Roco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587664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grega una corrección para túne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6000" y="763560"/>
            <a:ext cx="8748720" cy="314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42920" y="4581360"/>
            <a:ext cx="7561440" cy="1146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96480" y="637524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do de Hoek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ice Q de Ba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do por Barton et al. (1974) como el Indice de Calidad de Rocas para Tún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ién conocida como la clasificación NGI, por la afiliación de los autores (Norwegian Geotechnical Institu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termina la calidad del macizo y se aplica en definición de requerimientos de sostenimiento en excavaciones subterrán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scala logarítmica, de 0,001 a 1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da a partir de 6 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ice Q de Ba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inido a partir de 6 parámetros que forman 3 cuoc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QD: Rock Quality 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n: Joint se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r: Joint roughness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a: Joint Altera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w: Joint water reduc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RF: Stress Reduc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059280" y="2421000"/>
                <a:ext cx="23907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Q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R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ice Q de Ba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imer cuociente da cuenta del tamaño de los bloques que se forma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segundo cuociente es un indicador de la resistencia entre los bloques, controlada por la resistencia en las discontinuida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tercer cuociente, llamado “esfuerzo activo”, considera el efecto de las presiones de agua, grados de confinamiento o relaj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916360" y="1706400"/>
                <a:ext cx="3240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Q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R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QD y J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1576440"/>
            <a:ext cx="84978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52440" y="44280"/>
            <a:ext cx="7567560" cy="3187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344600" y="3141720"/>
            <a:ext cx="74754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J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596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6888240" cy="306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96920" y="3213000"/>
            <a:ext cx="6823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2771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ósito y 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ficar de manera cuantitativa la calidad geotécnica de un macizo roc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ir la distinción entre un macizo y otro de manera rápida y 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er un parámetro para efectos de diseño de fortif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basan en apreciaciones empír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subjetivos, a mayor experiencia mejor es la clas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basan en sistema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n que se asigna un puntaje a diversas características y se calcula un puntaje fi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licaciones de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47640" y="1360440"/>
            <a:ext cx="61214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573120"/>
            <a:ext cx="7129800" cy="5880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563440" y="64008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ño de Fort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23840" y="262080"/>
            <a:ext cx="7096320" cy="6333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845600" y="6381720"/>
            <a:ext cx="37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ción de velocidad de onda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ological Strength Index (G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ido por Hoek (1995), es un índice que indica la reducción de la resistencia de un macizo rocoso, con respecto a la roca intacta, para diferentes condiciones geológ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define en terreno por observación de dos parámetros principales: estado de fracturamiento; y calidad de las discontinu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GSI se debe dar en un rango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6704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12000" y="274320"/>
            <a:ext cx="180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-174600"/>
            <a:ext cx="5143680" cy="7419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39080" y="618480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ek &amp; Brown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rocas estratificadas en que hay clara diferencia entre dos tipos de rocas (por ejemplo alternancia areniscas-lutitas), se propone usar una ponderación de valores de G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30480" y="2133720"/>
            <a:ext cx="6581520" cy="4467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591600" y="63752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nos &amp; Hoek,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16000" y="1073160"/>
            <a:ext cx="7223040" cy="5369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591600" y="63752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nos &amp; Hoek,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licaciones de G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buen descriptor de la calidad del macizo rocoso, más rápido de estimar que RMR y en especial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utiliza como una de las variables para obtener la resistencia del macizo rocoso mediante el criterio de falla de Hoek-Brown (se verá en las próximas clas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alidad Geotécn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4378320" cy="3284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80000" y="1413000"/>
            <a:ext cx="3125880" cy="4687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187280" y="4057560"/>
            <a:ext cx="3529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el estudio de taludes, los sistemas de clasificación más comunes son el RMR de Beniawski y el GSI de Hoek y B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túneles y excavaciones subterráneas además de las anteriores se usan normalmente el método Q de Barton, el MRMR de Laubsher (minería), entr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asificación de Beniaw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bién conocida como Clasificación Geomecánica, definida por Beniwaski (197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rsión actualizada de 198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torga puntaje a 5 parámetros, con una suma máxima de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untaje total se llama RMR, “Rock mass rating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ificación de Beniawski (198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ámetros a califi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istencia de la Roca Intacta: A partir de valores de resistencia a la compresión simple (UCS) o de ensayos de carga puntual. Ptje máximo: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QD. Ptje Máximo: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paciamiento de discontinuidades. Ptje. Máximo: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diciones de las discontinuidades. Ptje Máximo: 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diciones de Agua Subterránea. Ptje Máximo: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MR= (1)+(2)+(3)+(4)+(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MR Beniaw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1280" y="1484280"/>
            <a:ext cx="8964720" cy="4797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396480" y="637524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do de Hoek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alle para puntaje condiciones de discontinui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8000" y="2116080"/>
            <a:ext cx="8893080" cy="2127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396480" y="637524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do de Hoek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icionalmente, Beniawski (1989) propuso una clasificación (clases I a V), correcciones para casos especiales y recomendaciones de valores de resistencia del macizo y aplicaciones en túne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8:44:29Z</dcterms:created>
  <dc:creator>Sergio Sepulveda</dc:creator>
  <dc:description/>
  <dc:language>en-US</dc:language>
  <cp:lastModifiedBy>Sergio Sepulveda</cp:lastModifiedBy>
  <dcterms:modified xsi:type="dcterms:W3CDTF">2007-08-02T13:29:23Z</dcterms:modified>
  <cp:revision>10</cp:revision>
  <dc:subject/>
  <dc:title>Clasificación de Macizos Rocosos</dc:title>
</cp:coreProperties>
</file>