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34A-32A0-46B6-8FDC-239FA581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53D-EBB7-4A84-A1B4-48E42E83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254-E3AD-425A-B60B-A12870C6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122-802A-4A4E-A001-320CD32A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53E-E6A2-4540-89BA-B77C783A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0E1-B502-4DF5-83F7-D416DC12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C62-2734-4E8C-87A5-4D45D538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E9D-6448-46BB-AC00-BC2A7F67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A40-1C37-4A5A-909B-302B16AD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AC9-843B-44A6-9038-7CA99FDF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0C6-573E-450E-9472-54CCBE16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A83-C950-42E8-B67B-DFE5B7AF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7D23-6AAC-4F32-8BC2-642FBE56F5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de Clasificación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izos Roc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87664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grega una corrección para túne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6000" y="763560"/>
            <a:ext cx="8748720" cy="314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42920" y="4581360"/>
            <a:ext cx="7561440" cy="1146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do por Barton et al. (1974) como el Indice de Calidad de Rocas para Tún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conocida como la clasificación NGI, por la afiliación de los autores (Norwegian Geotechnical Institu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a la calidad del macizo y se aplica en definición de requerimientos de sostenimiento en excavaciones subterrá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scala logarítmica, de 0,001 a 1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da a partir de 6 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do a partir de 6 parámetros que forman 3 cuoc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QD: Rock Quality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n: Joint se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r: Joint roughness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a: Joint Altera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Jw: Joint water redu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RF: Stress Redu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59280" y="2421000"/>
                <a:ext cx="23907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ice Q de Bar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imer cuociente da cuenta del tamaño de los bloques que se form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egundo cuociente es un indicador de la resistencia entre los bloques, controlada por la resistencia en las discontinuida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ercer cuociente, llamado “esfuerzo activo”, considera el efecto de las presiones de agua, grados de confinamiento o relaj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916360" y="1706400"/>
                <a:ext cx="32400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Q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R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QD y J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576440"/>
            <a:ext cx="8497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52440" y="44280"/>
            <a:ext cx="7567560" cy="3187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44600" y="3141720"/>
            <a:ext cx="74754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J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4596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6888240" cy="30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96920" y="3213000"/>
            <a:ext cx="6823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771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ósito y 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icar de manera cuantitativa la calidad geotécnica de un macizo roc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ir la distinción entre un macizo y otro de manera rápida y 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er un parámetro para efectos de diseño de fortif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basan en apreciaciones empí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subjetivos, a mayor experiencia mejor es la clas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basan en sistem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 que se asigna un puntaje a diversas características y se calcula un puntaje fi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 de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47640" y="1360440"/>
            <a:ext cx="61214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573120"/>
            <a:ext cx="7129800" cy="5880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63440" y="64008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ño de Fort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23840" y="262080"/>
            <a:ext cx="7096320" cy="6333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845600" y="6381720"/>
            <a:ext cx="37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ción de velocidad de onda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eological Strength Index (G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do por Hoek (1995), es un índice que indica la reducción de la resistencia de un macizo rocoso, con respecto a la roca intacta, para diferentes condiciones geológ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define en terreno por observación de dos parámetros principales: estado de fracturamiento; y calidad de las discontinu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GSI se debe dar en un rango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6704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12000" y="274320"/>
            <a:ext cx="180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-174600"/>
            <a:ext cx="5143680" cy="7419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39080" y="61848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ek &amp; Brown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ocas estratificadas en que hay clara diferencia entre dos tipos de rocas (por ejemplo alternancia areniscas-lutitas), se propone usar una ponderación de valores de G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30480" y="2133720"/>
            <a:ext cx="6581520" cy="4467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591600" y="63752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os &amp; Hoek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6000" y="1073160"/>
            <a:ext cx="7223040" cy="5369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91600" y="63752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os &amp; Hoek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caciones de G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buen descriptor de la calidad del macizo rocoso, más rápido de estimar que RMR y en especial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utiliza como una de las variables para obtener la resistencia del macizo rocoso mediante el criterio de falla de Hoek-Brown (se verá en las próximas clas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alidad Geotécn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378320" cy="328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125880" cy="4687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87280" y="4057560"/>
            <a:ext cx="352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el estudio de taludes, los sistemas de clasificación más comunes son el RMR de Beniawski y el GSI de Hoek y B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túneles y excavaciones subterráneas además de las anteriores se usan normalmente el método Q de Barton, el MRMR de Laubsher (minería), entr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lasificación de Benia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bién conocida como Clasificación Geomecánica, definida por Beniwaski (197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sión actualizada de 198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torga puntaje a 5 parámetros, con una suma máxima de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untaje total se llama RMR, “Rock mass rat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ificación de Beniawski (198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ámetros a calif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istencia de la Roca Intacta: A partir de valores de resistencia a la compresión simple (UCS) o de ensayos de carga puntual. Ptje máximo: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QD. Ptje Máximo: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ciamiento de discontinuidades. Ptje. Máximo: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las discontinuidades. Ptje Máximo: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Agua Subterránea. Ptje Máximo: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RMR= (1)+(2)+(3)+(4)+(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MR Benia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280" y="1484280"/>
            <a:ext cx="8964720" cy="4797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alle para puntaje condiciones de discontinu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8000" y="2116080"/>
            <a:ext cx="8893080" cy="2127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396480" y="63752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do de Hoek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icionalmente, Beniawski (1989) propuso una clasificación (clases I a V), correcciones para casos especiales y recomendaciones de valores de resistencia del macizo y aplicaciones en túne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8:44:29Z</dcterms:created>
  <dc:creator>Sergio Sepulveda</dc:creator>
  <dc:description/>
  <dc:language>en-US</dc:language>
  <cp:lastModifiedBy>Sergio Sepulveda</cp:lastModifiedBy>
  <dcterms:modified xsi:type="dcterms:W3CDTF">2007-08-02T13:29:23Z</dcterms:modified>
  <cp:revision>10</cp:revision>
  <dc:subject/>
  <dc:title>Clasificación de Macizos Rocosos</dc:title>
</cp:coreProperties>
</file>