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3937-0338-4B0F-B50D-8E43B2CCDA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6780-A0C0-43AE-9F98-2AC4CF8074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4936E-1FCA-43CE-8AA6-5BE9FA625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A54A-F0CA-415A-825E-22BFD0C3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EECBB-2D18-41C3-9D96-CBCFA7A79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AD213-C4F0-41A5-91D3-C8D3B9DF2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0541E-DA0A-45A3-9FB0-2BE907C1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0033-DD74-47C5-BDD2-329E1F743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7902-1AE1-4800-8A1B-23701835E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C6D3F-569C-4F5C-B64A-F4C082653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83864-CA1B-4729-AC73-4F707DB0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BDF1-FD0D-4939-999D-72CBF3946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E423-8916-4339-A4C7-ECE6A40D7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8B9B-73CF-49C7-A8A5-555C0165D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D83A-9EF2-4E9A-89B9-3C0F6FDBC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al Cizalle de Discontinuidades en Roc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880" y="5486400"/>
            <a:ext cx="6400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Patton </a:t>
            </a:r>
            <a:endParaRPr b="0" lang="en-US" sz="4400" spc="-1" strike="noStrike">
              <a:solidFill>
                <a:srgbClr val="000000"/>
              </a:solidFill>
              <a:latin typeface="Times New Roman"/>
            </a:endParaRPr>
          </a:p>
        </p:txBody>
      </p:sp>
      <p:sp>
        <p:nvSpPr>
          <p:cNvPr id="66" name="PlaceHolder 2"/>
          <p:cNvSpPr>
            <a:spLocks noGrp="1"/>
          </p:cNvSpPr>
          <p:nvPr>
            <p:ph/>
          </p:nvPr>
        </p:nvSpPr>
        <p:spPr>
          <a:xfrm>
            <a:off x="4952880" y="12189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ton (1966) modeló una discontinuidad con asperidades, usando un ángulo único que representa la asperidad. Los componentes de las fuerzas de corte y normal se pueden expresar co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 S cos i – N sen i;  N*= N cos i + S sen i</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149400" y="2046240"/>
            <a:ext cx="5032080" cy="370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umiendo solo fricción, se puede probar que la relación de fuerzas normal y de corte en la discontinuidad e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 N ta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 i) (Ley de Patto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fecto de las asperidades se mantiene solo con stresses normales bajo un cierto umbral sobre el cual el trabajo requerido para cizallar las asperidades es menor que el trabajo requerido para sobrepasarl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Bilinear de Patton</a:t>
            </a:r>
            <a:endParaRPr b="0" lang="en-US" sz="4400" spc="-1" strike="noStrike">
              <a:solidFill>
                <a:srgbClr val="000000"/>
              </a:solidFill>
              <a:latin typeface="Times New Roman"/>
            </a:endParaRPr>
          </a:p>
        </p:txBody>
      </p:sp>
      <p:sp>
        <p:nvSpPr>
          <p:cNvPr id="71" name="PlaceHolder 2"/>
          <p:cNvSpPr>
            <a:spLocks noGrp="1"/>
          </p:cNvSpPr>
          <p:nvPr>
            <p:ph/>
          </p:nvPr>
        </p:nvSpPr>
        <p:spPr>
          <a:xfrm>
            <a:off x="5105520" y="1981080"/>
            <a:ext cx="3581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o el umbral,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b</a:t>
            </a:r>
            <a:r>
              <a:rPr b="0" lang="es-ES_tradnl" sz="2800" spc="-1" strike="noStrike">
                <a:solidFill>
                  <a:srgbClr val="000000"/>
                </a:solidFill>
                <a:latin typeface="Times New Roman"/>
              </a:rPr>
              <a:t> + 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bre el umbr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C</a:t>
            </a:r>
            <a:r>
              <a:rPr b="0" lang="es-ES_tradnl" sz="2800" spc="-1" strike="noStrike" baseline="-25000">
                <a:solidFill>
                  <a:srgbClr val="000000"/>
                </a:solidFill>
                <a:latin typeface="Times New Roman"/>
              </a:rPr>
              <a:t>j</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 </a:t>
            </a:r>
            <a:r>
              <a:rPr b="0" lang="es-ES_tradnl" sz="2400" spc="-1" strike="noStrike">
                <a:solidFill>
                  <a:srgbClr val="000000"/>
                </a:solidFill>
                <a:latin typeface="Times New Roman"/>
              </a:rPr>
              <a:t>Angulo de fricción interna puro o básico del material</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Cohesión aparente derivada de las asperidades</a:t>
            </a:r>
            <a:endParaRPr b="0" lang="en-US" sz="2400" spc="-1" strike="noStrike">
              <a:solidFill>
                <a:srgbClr val="000000"/>
              </a:solidFill>
              <a:latin typeface="Times New Roman"/>
            </a:endParaRPr>
          </a:p>
        </p:txBody>
      </p:sp>
      <p:sp>
        <p:nvSpPr>
          <p:cNvPr id="72" name=""/>
          <p:cNvSpPr/>
          <p:nvPr/>
        </p:nvSpPr>
        <p:spPr>
          <a:xfrm>
            <a:off x="244332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0" y="1905120"/>
            <a:ext cx="5105160" cy="3885840"/>
            <a:chOff x="0" y="1905120"/>
            <a:chExt cx="5105160" cy="3885840"/>
          </a:xfrm>
        </p:grpSpPr>
        <p:pic>
          <p:nvPicPr>
            <p:cNvPr id="74" name="" descr=""/>
            <p:cNvPicPr/>
            <p:nvPr/>
          </p:nvPicPr>
          <p:blipFill>
            <a:blip r:embed="rId2"/>
            <a:stretch/>
          </p:blipFill>
          <p:spPr>
            <a:xfrm>
              <a:off x="0" y="1905120"/>
              <a:ext cx="5105160" cy="3885840"/>
            </a:xfrm>
            <a:prstGeom prst="rect">
              <a:avLst/>
            </a:prstGeom>
            <a:ln w="0">
              <a:noFill/>
            </a:ln>
          </p:spPr>
        </p:pic>
        <p:sp>
          <p:nvSpPr>
            <p:cNvPr id="75" name=""/>
            <p:cNvSpPr/>
            <p:nvPr/>
          </p:nvSpPr>
          <p:spPr>
            <a:xfrm flipH="1">
              <a:off x="404640" y="3357360"/>
              <a:ext cx="1458360" cy="80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840" y="41612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j</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estudios han intentado “suavizar” la curva bilinear de Patton, basados en modelos experimentales. Ej: Jaeger (1971)</a:t>
            </a:r>
            <a:endParaRPr b="0" lang="en-US" sz="3200" spc="-1" strike="noStrike">
              <a:solidFill>
                <a:srgbClr val="000000"/>
              </a:solidFill>
              <a:latin typeface="Times New Roman"/>
            </a:endParaRPr>
          </a:p>
        </p:txBody>
      </p:sp>
      <p:pic>
        <p:nvPicPr>
          <p:cNvPr id="78" name="" descr=""/>
          <p:cNvPicPr/>
          <p:nvPr/>
        </p:nvPicPr>
        <p:blipFill>
          <a:blip r:embed="rId2"/>
          <a:stretch/>
        </p:blipFill>
        <p:spPr>
          <a:xfrm>
            <a:off x="1371600" y="2590920"/>
            <a:ext cx="6434280" cy="378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Bart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 modelo empírico, Barton (1976) determinó la resistencia al corte de las discontinuidades com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523880" y="327672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 name=""/>
          <p:cNvSpPr/>
          <p:nvPr/>
        </p:nvSpPr>
        <p:spPr>
          <a:xfrm>
            <a:off x="838080" y="4343400"/>
            <a:ext cx="717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delo considera cambios en la resistencia con el stress normal y la rugosidad. Efectos de cohesión aparente están incorporados en la fórmu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arton (cont.)</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RC: Joint Roughness Co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CS: Joint Compressive Str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RC: Expresión del nivel de rugosidad de la discontinuidad, se obtiene por comparación con una tabla. Hay correcciones por efectos de esca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CS: Resistencia de la discontinuidad, se puede obtener de ensayos con martillo de Schmidt. Si la pared es fresca, JCS es similar a compresión uniaxial de la roca (UCS). </a:t>
            </a:r>
            <a:endParaRPr b="0" lang="en-US" sz="2800" spc="-1" strike="noStrike">
              <a:solidFill>
                <a:srgbClr val="000000"/>
              </a:solidFill>
              <a:latin typeface="Times New Roman"/>
            </a:endParaRPr>
          </a:p>
        </p:txBody>
      </p:sp>
      <p:sp>
        <p:nvSpPr>
          <p:cNvPr id="85" name=""/>
          <p:cNvSpPr/>
          <p:nvPr/>
        </p:nvSpPr>
        <p:spPr>
          <a:xfrm>
            <a:off x="1600200" y="152388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190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JRC</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2954160" y="263520"/>
            <a:ext cx="5351760" cy="6365880"/>
          </a:xfrm>
          <a:prstGeom prst="rect">
            <a:avLst/>
          </a:prstGeom>
          <a:ln w="0">
            <a:noFill/>
          </a:ln>
        </p:spPr>
      </p:pic>
      <p:sp>
        <p:nvSpPr>
          <p:cNvPr id="88" name=""/>
          <p:cNvSpPr/>
          <p:nvPr/>
        </p:nvSpPr>
        <p:spPr>
          <a:xfrm>
            <a:off x="285480" y="6165720"/>
            <a:ext cx="2370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rton &amp; Choubey, 19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57440" y="1371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álculo de JCS con Martillo de Schmidt</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43000" y="380880"/>
            <a:ext cx="4786200" cy="618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 escala en JRC</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4038480" y="120600"/>
            <a:ext cx="4229280" cy="6737400"/>
          </a:xfrm>
          <a:prstGeom prst="rect">
            <a:avLst/>
          </a:prstGeom>
          <a:ln w="0">
            <a:noFill/>
          </a:ln>
        </p:spPr>
      </p:pic>
      <p:sp>
        <p:nvSpPr>
          <p:cNvPr id="93" name=""/>
          <p:cNvSpPr/>
          <p:nvPr/>
        </p:nvSpPr>
        <p:spPr>
          <a:xfrm>
            <a:off x="2044440" y="626256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ton, 198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justes de escala JRC y JC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n &amp; Bandis (1982) propusieron los siguientes ajus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onde JRC</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se refieren a muestras in situ para bloques de tamaño L</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y JRC</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se refieren a muestras de laboratorio de tamaño 100 mm (L</a:t>
            </a:r>
            <a:r>
              <a:rPr b="0" lang="es-ES" sz="2400" spc="-1" strike="noStrike" baseline="-25000">
                <a:solidFill>
                  <a:srgbClr val="000000"/>
                </a:solidFill>
                <a:latin typeface="Times New Roman"/>
              </a:rPr>
              <a:t>0</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03640" y="2708280"/>
                <a:ext cx="2924280" cy="797040"/>
              </a:xfrm>
              <a:prstGeom prst="rect">
                <a:avLst/>
              </a:prstGeom>
            </p:spPr>
            <p:txBody>
              <a:bodyPr/>
              <a:p>
                <a14:m>
                  <m:oMath xmlns:m="http://schemas.openxmlformats.org/officeDocument/2006/math">
                    <m:r>
                      <m:rPr>
                        <m:lit/>
                        <m:nor/>
                      </m:rPr>
                      <m:t xml:space="preserve">JRC</m:t>
                    </m:r>
                    <m:r>
                      <m:t xml:space="preserve">n</m:t>
                    </m:r>
                    <m:r>
                      <m:t xml:space="preserve">=</m:t>
                    </m:r>
                    <m:r>
                      <m:rPr>
                        <m:lit/>
                        <m:nor/>
                      </m:rPr>
                      <m:t xml:space="preserve">JRC</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2</m:t>
                        </m:r>
                        <m:r>
                          <m:rPr>
                            <m:lit/>
                            <m:nor/>
                          </m:rPr>
                          <m:t xml:space="preserve">JRC</m:t>
                        </m:r>
                        <m:r>
                          <m:t xml:space="preserve">0</m:t>
                        </m:r>
                      </m:sup>
                    </m:sSup>
                  </m:oMath>
                </a14:m>
              </a:p>
            </p:txBody>
          </p:sp>
        </mc:Choice>
        <mc:Fallback/>
      </mc:AlternateContent>
      <mc:AlternateContent>
        <mc:Choice xmlns:a14="http://schemas.microsoft.com/office/drawing/2010/main" Requires="a14">
          <p:sp>
            <p:nvSpPr>
              <p:cNvPr id="97" name=""/>
              <p:cNvSpPr txBox="1"/>
              <p:nvPr/>
            </p:nvSpPr>
            <p:spPr>
              <a:xfrm>
                <a:off x="3222720" y="3645000"/>
                <a:ext cx="2862000" cy="796680"/>
              </a:xfrm>
              <a:prstGeom prst="rect">
                <a:avLst/>
              </a:prstGeom>
            </p:spPr>
            <p:txBody>
              <a:bodyPr/>
              <a:p>
                <a14:m>
                  <m:oMath xmlns:m="http://schemas.openxmlformats.org/officeDocument/2006/math">
                    <m:r>
                      <m:rPr>
                        <m:lit/>
                        <m:nor/>
                      </m:rPr>
                      <m:t xml:space="preserve">JCS</m:t>
                    </m:r>
                    <m:r>
                      <m:t xml:space="preserve">n</m:t>
                    </m:r>
                    <m:r>
                      <m:t xml:space="preserve">=</m:t>
                    </m:r>
                    <m:r>
                      <m:rPr>
                        <m:lit/>
                        <m:nor/>
                      </m:rPr>
                      <m:t xml:space="preserve">JCS</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3</m:t>
                        </m:r>
                        <m:r>
                          <m:rPr>
                            <m:lit/>
                            <m:nor/>
                          </m:rPr>
                          <m:t xml:space="preserve">JRC</m:t>
                        </m:r>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perimentalmente, se encuentra que la resistencia al corte entre superficies lisas de mineral o roca, sigue una ley linear del tipo:</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gn="ctr">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Jaeger</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Resistencia inherente a la superficie de contacto, equivalente a la cohesión en mecánica de suelos.</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stress normal a la superficie.</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coeficiente de fricción.</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29600" cy="5005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leno</a:t>
            </a:r>
            <a:endParaRPr b="0" lang="en-US" sz="3600" spc="-1" strike="noStrike">
              <a:solidFill>
                <a:srgbClr val="000000"/>
              </a:solidFill>
              <a:latin typeface="Times New Roman"/>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l relleno gobierna el comportamiento de la discontinuidad, por lo que deben ser reconocido.</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características que deben ser descritas son: su naturaleza, espesor o anchura, resistencia al corte y permeabilidad</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lenos comunes: arcillas, óxidos de hierro, salbanda de falla, suelos, calcita. </a:t>
            </a:r>
            <a:endParaRPr b="0" lang="en-US" sz="28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l rellen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discontinuidad está rellena por materiales blandos (ej: arcillas) y el espesor del relleno es superior a la amplitud de las asperidades, la resistencia pasa a ser controlada por el material de relleno, pudiendo bajar drásticament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52760" y="88920"/>
            <a:ext cx="4976640" cy="669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486400"/>
            <a:ext cx="77724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eficiente de fricción no es constante, a bajo stress normal suele ser mayor. También influye la humedad.</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838080" y="533520"/>
            <a:ext cx="74757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04920" y="533520"/>
            <a:ext cx="8589960" cy="54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caso estátic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representa la resistencia para iniciar a deslizar. Sin embargo, cuando hay deslizamiento a velocidad constante, el coeficiente de fricción es distinto al estático, típicamente menor y depende de la velocidad de deslizamient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terminación experimental de la resistencia al corte</a:t>
            </a:r>
            <a:endParaRPr b="0" lang="en-US" sz="4000" spc="-1" strike="noStrike">
              <a:solidFill>
                <a:srgbClr val="000000"/>
              </a:solidFill>
              <a:latin typeface="Times New Roman"/>
            </a:endParaRPr>
          </a:p>
        </p:txBody>
      </p:sp>
      <p:sp>
        <p:nvSpPr>
          <p:cNvPr id="56" name="PlaceHolder 2"/>
          <p:cNvSpPr>
            <a:spLocks noGrp="1"/>
          </p:cNvSpPr>
          <p:nvPr>
            <p:ph/>
          </p:nvPr>
        </p:nvSpPr>
        <p:spPr>
          <a:xfrm>
            <a:off x="609480" y="1143000"/>
            <a:ext cx="7772400" cy="22860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de corte directo (varios tip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bloques simétric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torsión.</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triaxiales. </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2"/>
          <a:stretch/>
        </p:blipFill>
        <p:spPr>
          <a:xfrm>
            <a:off x="1547640" y="3313080"/>
            <a:ext cx="660564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riterio de Falla</a:t>
            </a:r>
            <a:endParaRPr b="0" lang="en-US" sz="4000" spc="-1" strike="noStrike">
              <a:solidFill>
                <a:srgbClr val="000000"/>
              </a:solidFill>
              <a:latin typeface="Times New Roman"/>
            </a:endParaRPr>
          </a:p>
        </p:txBody>
      </p:sp>
      <p:sp>
        <p:nvSpPr>
          <p:cNvPr id="59" name="PlaceHolder 2"/>
          <p:cNvSpPr>
            <a:spLocks noGrp="1"/>
          </p:cNvSpPr>
          <p:nvPr>
            <p:ph/>
          </p:nvPr>
        </p:nvSpPr>
        <p:spPr>
          <a:xfrm>
            <a:off x="107640" y="990720"/>
            <a:ext cx="8497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ípicamente, una curva esfuerzo de corte vs. desplazamiento en una superficie planar tendrá un peak y luego una resistencia residual (Fig. A). Una serie de ensayos resulta en una envolvente de fractura del tipo Mohr-Coulomb:</a:t>
            </a: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peak</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residual</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2"/>
          <a:stretch/>
        </p:blipFill>
        <p:spPr>
          <a:xfrm>
            <a:off x="179280" y="3733920"/>
            <a:ext cx="863784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l agua</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discontinuidad está húmeda, la resistencia puede disminuir por la lubricación producida en la superficie.</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endiendo del material, la incorporación de agua en la roca puede a su vez producir cambios en los valores de c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En especial en rocas con alto contenido de arcilla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hay una presión de agua (ej. hidrostática), entonces el stress normal se reduce a un stress efectivo y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 la rugo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continuidades naturales no son lisas, sino presentan asperidades. Una discontinuidad rugosa tendrá una resistencia al cizalle mayor que una lisa en la misma roca. Al cizallarse, las asperidades se irán a su vez puliendo y la resistencia se aproximará a la de la superficie li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3:44:47Z</dcterms:created>
  <dc:creator>Depto. Geología U. de Chile</dc:creator>
  <dc:description/>
  <dc:language>en-US</dc:language>
  <cp:lastModifiedBy>Sergio Sepulveda</cp:lastModifiedBy>
  <dcterms:modified xsi:type="dcterms:W3CDTF">2007-07-30T22:08:30Z</dcterms:modified>
  <cp:revision>20</cp:revision>
  <dc:subject/>
  <dc:title>Resistencia al Cizalle de Discontinuidades en Roca</dc:title>
</cp:coreProperties>
</file>