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2.jpeg" ContentType="image/jpeg"/>
  <Override PartName="/ppt/media/image28.png" ContentType="image/png"/>
  <Override PartName="/ppt/media/image7.jpeg" ContentType="image/jpeg"/>
  <Override PartName="/ppt/media/image1.jpeg" ContentType="image/jpeg"/>
  <Override PartName="/ppt/media/image16.png" ContentType="image/png"/>
  <Override PartName="/ppt/media/image17.wmf" ContentType="image/x-wmf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DA5-0213-40E0-AB00-F0073F7E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A94-DC0F-4133-A763-384FE858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984-798A-4082-B231-14B8A012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82A-F935-4CE6-A4AD-FE904123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E04-C64F-43F3-BD7D-AC7E95FB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46C-4C9D-4180-9AA8-036B507B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7D4-D5B4-47DF-B8A5-DA8FDE18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BD7-6757-440B-A668-0A1F3A73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DD0-C508-45B1-ABA3-214BE378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2E3-1E7C-4EB3-9755-FF862CC9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CC5-492E-45B2-9DC5-94A25935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BD5-5CD1-4078-ABE2-5E2275BD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2434-CFC4-41C1-A17E-A958A33CC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iedades Ingenieriles de Materiales Roc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sistencia a la Compresión Si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igual a la resistencia máxima en el eje axial en un ensayo uniaxial (no confin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falla = UCS (uniaxial compression strengt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0001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ones esfuerzo-de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2200" y="1938240"/>
            <a:ext cx="835344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sayos de Resis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estados de compresión triaxial, uniaxial o de tra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en simularse niveles de stresses in sit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ración de la muestra puede influir notablemente en los resultado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305240" cy="2867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476800" cy="283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476440" cy="375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876920"/>
            <a:ext cx="5638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dos los ensayos usan fuerzas compres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89120" y="2556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429000"/>
            <a:ext cx="20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ax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No confin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3800" y="32418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i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6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s Uniaxial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(Compresión Simp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3200" y="1267920"/>
            <a:ext cx="6400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ciones no confinada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o/Ancho debe ser 2.5 a 3.0:1 para evitar efectos de bord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emos deben ser paralelos y pulidos, sin grie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encia a la Compresión Uniaxial: U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419720"/>
            <a:ext cx="2666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4764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s Triax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3200" y="7621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sualmente en estado biaxial 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azón Largo/ancho 2.0 a 2.5:1 para evitar efectos de bor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emos deben ser paralelos y pulidos, sin griet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2476440" cy="283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0920" y="4076640"/>
            <a:ext cx="59058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5486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305240" cy="2867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 en Condiciones de Tensión  (Test Brasileño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419120"/>
            <a:ext cx="3505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ra forma de ensayo uniaxial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ámetro: largo debe ser aprox. 1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emos deben ser paralelos y pulidos, sin grie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0579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67080" y="12189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luencia 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amaño de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r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662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6080" y="0"/>
          <a:ext cx="67104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0"/>
                    <a:ext cx="6710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iedades Import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ámetros elásticos (relaciones  stress/st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e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860400"/>
            <a:ext cx="3004920" cy="3505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olución de fractu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38680" y="855720"/>
            <a:ext cx="307188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1000" y="457344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1: Desarrollo de strain e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2: Microfracturamiento, strain no recupe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573440"/>
            <a:ext cx="4648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3: Fracturamiento coalesce y se forma un plano discreto de fract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4: Cizal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cturamiento se puede detectar por emisiones acústicas, las que se elevan al cizal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43676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7280" y="1989000"/>
            <a:ext cx="27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emisiones acústicas han permitido detectar las etapas de fracturamiento en los ensayos de com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61549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0" y="-39600"/>
            <a:ext cx="4572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4692600" cy="655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36960" y="914400"/>
            <a:ext cx="430704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fábrica de la roca, puede tener una gran influencia en la resistencia de materiales roco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j: efecto del clivaje en una piza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¡¡Los materiales geológicos suelen ser anisotrópicos y heterogéneos!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80" y="0"/>
            <a:ext cx="51228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51640" y="3500280"/>
            <a:ext cx="2895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posible estimar la resistencia de la roca en terre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ayo de carga puntual se puede hacer en terreno y labora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5480" y="568440"/>
            <a:ext cx="31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ific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rown (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55640" y="830160"/>
          <a:ext cx="7561440" cy="51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0160"/>
                    <a:ext cx="756144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sayo de carga puntual: El stress aplicado se convierte a valores aproximados de UCS, según el diámetro de la muestr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886200" cy="319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52862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lación Resistencia a la Carga Puntual/ resistencia a la compresión si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8720" y="1919160"/>
            <a:ext cx="7343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fectos del Agu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ones de poros reducen el stress efectiv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ducen los contactos entre granos y la resistencia friccio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ce procesos de meteoriza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5520" y="-360"/>
            <a:ext cx="40384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fecto de presiones de agua en una caliz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ahoma"/>
              </a:rPr>
              <a:t>3=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69 M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mayor presión de poros,baja la resistencia y el comportamiento es más frági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46280"/>
            <a:ext cx="51055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cesos geológicos que afectan las propiedades mecán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biente de depositación: Tamaño de grano, selección, estratificación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énesis, grado de c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al de st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o de compac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bles anisotrop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amorf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gmatismo,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eor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487656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ro parámetro que es función de las propiedades elásticas es la velocidad de ondas sísmicas (velocidad sónica o Vp, y Vs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25560"/>
            <a:ext cx="73915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laciones Esfuerzo-Deformación y Constantes E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deformabilidad de la roca intacta se expresa en términos de la relación entre stress y strain en compresión uniax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22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5334120" cy="325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18520" y="628488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rva típica, deformación frág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00360" y="1294920"/>
            <a:ext cx="449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n embargo, las rocas se deforman de manera diferente según sus características geológica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6306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lasticidad: Módulo de Deformación o de Yo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550880"/>
            <a:ext cx="6705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940360" cy="469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43600" y="609480"/>
            <a:ext cx="3200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módulo de Young se ve afectado por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grado de cementaci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tamaño y forma del gran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: largo de contacto,  D: tamaño del gr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mbién hay relaciones entre E y la porosidad de la ro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66840" y="1916280"/>
            <a:ext cx="838188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unas rocas, especialmente sales y carbonatos a alt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uestran un comportamiento dúcti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5120" y="2236680"/>
            <a:ext cx="49532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azón de Pois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6334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segundo parámetro elástico, mide la razón entre el strain lateral y el strain axial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719440"/>
            <a:ext cx="586728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83600" y="615780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xial St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6640" y="617220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teral St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72360" y="3357720"/>
                <a:ext cx="237492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ódulo de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9898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gualmente que para esfuerzos normales se define el módulo de Young, para esfuerzos de corte se tiene el módulo de cizalle 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ond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 el esfuerzo de corte en un plano, y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l strain de cizalle en ese plano. El módulo de cizalle se relaciona con los otros módulos elá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780000" y="2852640"/>
                <a:ext cx="1152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635280" y="5529240"/>
                <a:ext cx="18716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υ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sistencia del material  rocoso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sistencia de una muestra de roca intacta depende  de la resistencia de los minerales que la  componen y de la  manera en que ellos están unidos -ya sea por cristalización o cementación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resistencia de una roca sedimentaria depende de manera importante del cemento y del arreglo de las partícul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 y G dan cuenta de la “rigidez” (“stiffness”) de la roca. Para rocas isótropas, hay un único valor de E, G y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que la caracterizan. Si la roca no es isotrópica, hay varios valores de E, G y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y en análisis stress-strain pasa a ser un análisis tenso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055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fluyen en la resistenc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maño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ondeamiento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fericidad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os entre gr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o de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o de c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a de Stress y presiones de confinamiento (especialmente en limolitas, lutitas, arcillolit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ipos de Resistencia en Roca Inta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cizal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a tra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a compresión simple (carga uniaxi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sistencia al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roca intacta, se suele usar el modelo de Mohr-Coulomb para resistencia al cizalle, con sus parámetros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hesion (aparente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sección de la envolvente de fractura en eje Y (normalmente en MPa para rocas, mientras para suelos en kP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gulo de Fricció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endiente de la envolvente de frac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35280" y="6021360"/>
                <a:ext cx="3095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riterio Mohr-Cou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3534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sistencia a la Tr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79640" y="1728720"/>
            <a:ext cx="694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9:18:54Z</dcterms:created>
  <dc:creator>Bill  Murphy</dc:creator>
  <dc:description/>
  <dc:language>en-US</dc:language>
  <cp:lastModifiedBy>Sergio Sepulveda</cp:lastModifiedBy>
  <cp:lastPrinted>2003-10-02T07:08:47Z</cp:lastPrinted>
  <dcterms:modified xsi:type="dcterms:W3CDTF">2007-07-23T15:07:41Z</dcterms:modified>
  <cp:revision>47</cp:revision>
  <dc:subject/>
  <dc:title>Engineering Properties of Rocks</dc:title>
</cp:coreProperties>
</file>