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.jpeg" ContentType="image/jpeg"/>
  <Override PartName="/ppt/media/image28.png" ContentType="image/png"/>
  <Override PartName="/ppt/media/image7.jpeg" ContentType="image/jpeg"/>
  <Override PartName="/ppt/media/image1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3F3-C9F9-4AA8-9A84-2BF57F52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754-6648-4B33-8459-F7FD246A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C37-9A93-428B-A9AC-129CEAC0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009-4EFD-408B-9F51-E85365F6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773-3D5B-48BD-BBC3-A870C33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DDA-9E0B-46E6-B3D7-704AB69A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176-BE82-46BC-B858-0674D8D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9E9-4B0A-4BC6-A3B4-F83B76F0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0FB-EFEF-4592-A30E-B337523B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666-FA87-4011-AB76-0A53B41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31F-D385-454C-93E7-720F502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839-66EE-4FDF-969F-FB67C60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5907-F782-4F4D-8195-934AF6798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ngenieriles de Materiales Ro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igual a la resistencia máxima en el eje axial en un ensayo uniaxial (no confin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falla = UCS (uniaxial compression streng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0001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laciones esfuerzo-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200" y="1938240"/>
            <a:ext cx="835344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sayos de Resis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estados de compresión triaxial, uniaxial o de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en simularse niveles de stresses in sit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ación de la muestra puede influir notablemente en los result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305240" cy="28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476800" cy="283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76440" cy="375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8769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os los ensayos usan fuerzas compres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89120" y="2556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42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ax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 confin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3800" y="32418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6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Uniaxial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Compresión Simp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3200" y="12679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ciones no confinada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o/Ancho debe ser 2.5 a 3.0:1 para evitar efectos de bord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encia a la Compresión Uniaxial: U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19720"/>
            <a:ext cx="2666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476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s Triax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32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ualmente en estado biaxial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zón Largo/ancho 2.0 a 2.5:1 para evitar efectos de bor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emos deben ser paralelos y pulidos, sin griet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2476440" cy="2838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5905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5486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ho de muestra debe ser &gt;10 veces el tamaño medio del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05240" cy="2867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sayo en Condiciones de Tensión  (Test Brasileñ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419120"/>
            <a:ext cx="3505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a forma de ensayo uniaxial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ámetro: largo debe ser aprox. 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emos deben ser paralelos y pulidos, sin gri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057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67080" y="1218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luencia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amaño de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r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662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6080" y="0"/>
          <a:ext cx="671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0"/>
                    <a:ext cx="671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iedades Import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ámetros elásticos (relaciones  stress/st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860400"/>
            <a:ext cx="300492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ción de 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855720"/>
            <a:ext cx="30718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000" y="457344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1: Desarrollo de strain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2: Microfracturamiento, strain no recupe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57344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3: Fracturamiento coalesce y se forma un plano discreto de fra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apa 4: Ciza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cturamiento se puede detectar por emisiones acústicas, las que se elevan al cizal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43676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7280" y="198900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emisiones acústicas han permitido detectar las etapas de fracturamiento en los ensayo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6154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0" y="-39600"/>
            <a:ext cx="4572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692600" cy="655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36960" y="914400"/>
            <a:ext cx="43070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fábrica de la roca, puede tener una gran influencia en la resistencia de materiales roco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: efecto del clivaje en una piza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¡¡Los materiales geológicos suelen ser anisotrópicos y heterogéneos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3500280"/>
            <a:ext cx="2895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estimar la resistencia de la roca en terr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ayo de carga puntual se puede hacer en terreno y labor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5480" y="568440"/>
            <a:ext cx="31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n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830160"/>
          <a:ext cx="756144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0160"/>
                    <a:ext cx="75614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sayo de carga puntual: El stress aplicado se convierte a valores aproximados de UCS, según el diámetro de la muestr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886200" cy="319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52862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ón Resistencia a la Carga Puntual/ resistencia a la compresión si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8720" y="1919160"/>
            <a:ext cx="7343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fectos del Agu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de poros reducen el stress efectiv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ducen los contactos entre granos y la resistencia fric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ce procesos de meteoriz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fecto de presiones de agua en una caliz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ahoma"/>
              </a:rPr>
              <a:t>3=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69 M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mayor presión de poros,baja la resistencia y el comportamiento es más frági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46280"/>
            <a:ext cx="5105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cesos geológicos que afectan las propiedades mecán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biente de depositación: Tamaño de grano, selección, estratificación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énesis, grado de 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l de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ompac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s anisotrop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morf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matismo,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ro parámetro que es función de las propiedades elásticas es la velocidad de ondas sísmicas (velocidad sónica o Vp, y V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7391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laciones Esfuerzo-Deformación y Constantes E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eformabilidad de la roca intacta se expresa en términos de la relación entre stress y strain en compresión uniax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533412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8520" y="62848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 típica, deformación frág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00360" y="1294920"/>
            <a:ext cx="449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 embargo, las rocas se deforman de manera diferente según sus características geológicas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630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lasticidad: Módulo de Deformación o de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50880"/>
            <a:ext cx="6705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940360" cy="469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módulo de Young se ve afectado por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rado de cement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amaño y forma del gra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: largo de contacto,  D: tamaño del gr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bién hay relaciones entre E y la porosidad de la ro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6840" y="1916280"/>
            <a:ext cx="838188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unas rocas, especialmente sales y carbonatos a alt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uestran un comportamiento dúct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120" y="2236680"/>
            <a:ext cx="49532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zón de Poi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6334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gundo parámetro elástico, mide la razón entre el strain lateral y el strain axial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2719440"/>
            <a:ext cx="586728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83600" y="61578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xi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640" y="617220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teral 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72360" y="3357720"/>
                <a:ext cx="237492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ódulo de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gualmente que para esfuerzos normales se define el módulo de Young, para esfuerzos de corte se tiene el módulo de cizalle 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 el esfuerzo de corte en un plano,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strain de cizalle en ese plano. El módulo de cizalle se relaciona con los otros módulos elá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80000" y="2852640"/>
                <a:ext cx="115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35280" y="552924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 y G dan cuenta de la “rigidez” (“stiffness”) de la roca. Para rocas isótropas, hay un único valor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que la caracterizan. Si la roca no es isotrópica, hay varios valores de E, G y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y en análisis stress-strain pasa a ser un análisis tenso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fluyen en la resistenc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ñ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ondeamiento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fericidad del g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os entr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 de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o de c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ia de Stress y presiones de confinamiento (especialmente en limolitas, lutitas, arcillolit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pos de Resistencia en Roca Inta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ciza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t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a compresión simple (carga uniaxi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istencia al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roca intacta, se suele usar el modelo de Mohr-Coulomb para resistencia al cizalle, con sus parámetros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hesion (aparent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tersección de la envolvente de fractura en eje Y (normalmente en MPa para rocas, mientras para suelos en kP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gulo de Fricció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ndiente de la envolvente de fra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35280" y="602136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riterio Mohr-Coul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353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istencia a la 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79640" y="1728720"/>
            <a:ext cx="694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9:18:54Z</dcterms:created>
  <dc:creator>Bill  Murphy</dc:creator>
  <dc:description/>
  <dc:language>en-US</dc:language>
  <cp:lastModifiedBy>Sergio Sepulveda</cp:lastModifiedBy>
  <cp:lastPrinted>2003-10-02T07:08:47Z</cp:lastPrinted>
  <dcterms:modified xsi:type="dcterms:W3CDTF">2007-07-23T15:07:41Z</dcterms:modified>
  <cp:revision>47</cp:revision>
  <dc:subject/>
  <dc:title>Engineering Properties of Rocks</dc:title>
</cp:coreProperties>
</file>