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3.png" ContentType="image/png"/>
  <Override PartName="/ppt/media/image4.jpeg" ContentType="image/jpeg"/>
  <Override PartName="/ppt/media/image10.wmf" ContentType="image/x-wmf"/>
  <Override PartName="/ppt/media/image25.png" ContentType="image/png"/>
  <Override PartName="/ppt/media/image6.png" ContentType="image/png"/>
  <Override PartName="/ppt/media/image11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wmf" ContentType="image/x-wmf"/>
  <Override PartName="/ppt/media/image12.png" ContentType="image/png"/>
  <Override PartName="/ppt/media/image30.png" ContentType="image/png"/>
  <Override PartName="/ppt/media/image5.png" ContentType="image/png"/>
  <Override PartName="/ppt/media/image29.jpeg" ContentType="image/jpeg"/>
  <Override PartName="/ppt/media/image2.jpeg" ContentType="image/jpeg"/>
  <Override PartName="/ppt/media/image28.png" ContentType="image/png"/>
  <Override PartName="/ppt/media/image7.jpeg" ContentType="image/jpeg"/>
  <Override PartName="/ppt/media/image1.jpeg" ContentType="image/jpeg"/>
  <Override PartName="/ppt/media/image16.png" ContentType="image/png"/>
  <Override PartName="/ppt/media/image17.wmf" ContentType="image/x-wmf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wmf" ContentType="image/x-wmf"/>
  <Override PartName="/ppt/media/image24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417C-F04D-48E7-A001-73901B31E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C591-54E0-4DE9-BD15-0FEBF895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E410-BE0A-4B68-97B1-F608F8C56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945D-7E00-4C21-A91D-C35724CC4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713A-0C47-4F31-BE21-9DB56B27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3D34-C4DE-40EB-A6CC-20C62055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8632-300A-48CC-A0B3-D2F1B6C3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1640-ED61-4C92-96AF-B80C2687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7527-BE4B-4A95-B8C1-07EC77E2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466C-6EA8-412F-A00B-2DA5DCE7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4F90-5C03-4BE4-87DD-48019071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9371-C756-4E57-A41C-F074F18B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74C3-3D51-4558-BF6D-4A65FE227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piedades Ingenieriles de Materiales Roco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Resistencia a la Compresión Si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 igual a la resistencia máxima en el eje axial en un ensayo uniaxial (no confinad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en falla = UCS (uniaxial compression strength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435640" y="3716280"/>
            <a:ext cx="200016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laciones esfuerzo-deform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2200" y="1938240"/>
            <a:ext cx="835344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nsayos de Resist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 estados de compresión triaxial, uniaxial o de tra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ben simularse niveles de stresses in situ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paración de la muestra puede influir notablemente en los resultado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305240" cy="2867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2476800" cy="2838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477120" y="2895480"/>
            <a:ext cx="2476440" cy="3753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4876920"/>
            <a:ext cx="5638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dos los ensayos usan fuerzas compresiv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89120" y="25560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92720" y="3429000"/>
            <a:ext cx="205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iax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No confina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73800" y="324180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iax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142920"/>
            <a:ext cx="86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nsayos Uniaxiale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(Compresión Simp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3200" y="1267920"/>
            <a:ext cx="64008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ciones no confinadas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rgo/Ancho debe ser 2.5 a 3.0:1 para evitar efectos de bord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emos deben ser paralelos y pulidos, sin grie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cho de muestra debe ser &gt;10 veces el tamaño medio del gr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istencia a la Compresión Uniaxial: U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419720"/>
            <a:ext cx="2666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24764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nsayos Triaxi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743200" y="762120"/>
            <a:ext cx="6400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Usualmente en estado biaxial 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azón Largo/ancho 2.0 a 2.5:1 para evitar efectos de bor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tremos deben ser paralelos y pulidos, sin grieta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ncho de muestra debe ser &gt;10 veces el tamaño medio del grano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6320" y="914400"/>
            <a:ext cx="2476440" cy="2838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050920" y="4076640"/>
            <a:ext cx="590580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4190760"/>
            <a:ext cx="5486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cho de muestra debe ser &gt;10 veces el tamaño medio del gr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4305240" cy="2867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nsayo en Condiciones de Tensión  (Test Brasileño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1419120"/>
            <a:ext cx="35053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ra forma de ensayo uniaxial,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ámetro: largo debe ser aprox. 1: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emos deben ser paralelos y pulidos, sin grie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405792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67080" y="1218960"/>
            <a:ext cx="5562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fluencia d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amaño del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Gra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56620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216080" y="0"/>
          <a:ext cx="67104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6080" y="0"/>
                    <a:ext cx="67104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piedades Import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is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ámetros elásticos (relaciones  stress/st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ros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mea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ns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860400"/>
            <a:ext cx="3004920" cy="35053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olución de fractur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638680" y="855720"/>
            <a:ext cx="3071880" cy="3581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1000" y="4573440"/>
            <a:ext cx="4419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apa 1: Desarrollo de strain elá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apa 2: Microfracturamiento, strain no recuper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95680" y="4573440"/>
            <a:ext cx="46483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apa 3: Fracturamiento coalesce y se forma un plano discreto de fractu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apa 4: Cizall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cturamiento se puede detectar por emisiones acústicas, las que se elevan al cizall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85800" y="1436760"/>
            <a:ext cx="815328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27280" y="1989000"/>
            <a:ext cx="273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s emisiones acústicas han permitido detectar las etapas de fracturamiento en los ensayos de compres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615492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0" y="-39600"/>
            <a:ext cx="4572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4692600" cy="6553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836960" y="914400"/>
            <a:ext cx="4307040" cy="58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fábrica de la roca, puede tener una gran influencia en la resistencia de materiales rocos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j: efecto del clivaje en una pizar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¡¡Los materiales geológicos suelen ser anisotrópicos y heterogéneos!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8680" y="0"/>
            <a:ext cx="51228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651640" y="3500280"/>
            <a:ext cx="28954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 posible estimar la resistencia de la roca en terre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ayo de carga puntual se puede hacer en terreno y laborator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75480" y="568440"/>
            <a:ext cx="311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lasificació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rown (198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755640" y="830160"/>
          <a:ext cx="7561440" cy="517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830160"/>
                    <a:ext cx="7561440" cy="51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762120"/>
            <a:ext cx="496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sayo de carga puntual: El stress aplicado se convierte a valores aproximados de UCS, según el diámetro de la muestra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257800" y="685800"/>
            <a:ext cx="3886200" cy="3198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28600" y="2438280"/>
            <a:ext cx="5286240" cy="39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560" y="340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Relación Resistencia a la Carga Puntual/ resistencia a la compresión si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28720" y="1919160"/>
            <a:ext cx="734364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fectos del Agu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iones de poros reducen el stress efectivo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reducen los contactos entre granos y la resistencia friccion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uce procesos de meteorizació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105520" y="-360"/>
            <a:ext cx="403848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Efecto de presiones de agua en una caliz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ahoma"/>
              </a:rPr>
              <a:t>3=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69 MP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A mayor presión de poros,baja la resistencia y el comportamiento es más frágil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646280"/>
            <a:ext cx="51055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rocesos geológicos que afectan las propiedades mecáni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biente de depositación: Tamaño de grano, selección, estratificación, et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agénesis, grado de ce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storial de str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do de compac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ibles anisotrop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amorf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gmatismo, crist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eor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52280" y="4876560"/>
            <a:ext cx="88394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ro parámetro que es función de las propiedades elásticas es la velocidad de ondas sísmicas (velocidad sónica o Vp, y Vs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09480" y="25560"/>
            <a:ext cx="73915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Relaciones Esfuerzo-Deformación y Constantes Elásti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eform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deformabilidad de la roca intacta se expresa en términos de la relación entre stress y strain en compresión uniaxi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622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87280" y="3141720"/>
            <a:ext cx="5334120" cy="32544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718520" y="6284880"/>
            <a:ext cx="41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rva típica, deformación frág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00360" y="1294920"/>
            <a:ext cx="449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n embargo, las rocas se deforman de manera diferente según sus características geológicas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46306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Elasticidad: Módulo de Deformación o de You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371600" y="1550880"/>
            <a:ext cx="67057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5940360" cy="4697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943600" y="609480"/>
            <a:ext cx="32004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módulo de Young se ve afectado por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grado de cementació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tamaño y forma del grano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L: largo de contacto,  D: tamaño del gra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09120" y="380880"/>
            <a:ext cx="81536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mbién hay relaciones entre E y la porosidad de la roc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66840" y="1916280"/>
            <a:ext cx="8381880" cy="48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952880" y="1143000"/>
            <a:ext cx="4191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unas rocas, especialmente sales y carbonatos a alto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uestran un comportamiento dúctil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95120" y="2236680"/>
            <a:ext cx="495324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Razón de Pois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413000"/>
            <a:ext cx="63342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 segundo parámetro elástico, mide la razón entre el strain lateral y el strain axial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2719440"/>
            <a:ext cx="5867280" cy="3889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883600" y="6157800"/>
            <a:ext cx="116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xial Str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6640" y="6172200"/>
            <a:ext cx="128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ateral Str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372360" y="3357720"/>
                <a:ext cx="2374920" cy="17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ε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ódulo de Ciza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9898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gualmente que para esfuerzos normales se define el módulo de Young, para esfuerzos de corte se tiene el módulo de cizalle 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onde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es el esfuerzo de corte en un plano, y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el strain de cizalle en ese plano. El módulo de cizalle se relaciona con los otros módulos elástic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780000" y="2852640"/>
                <a:ext cx="115236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τ</m:t>
                        </m:r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635280" y="5529240"/>
                <a:ext cx="187164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υ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Resistencia del material  rocoso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resistencia de una muestra de roca intacta depende  de la resistencia de los minerales que la  componen y de la  manera en que ellos están unidos -ya sea por cristalización o cementación.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resistencia de una roca sedimentaria depende de manera importante del cemento y del arreglo de las partícul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 y G dan cuenta de la “rigidez” (“stiffness”) de la roca. Para rocas isótropas, hay un único valor de E, G y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que la caracterizan. Si la roca no es isotrópica, hay varios valores de E, G y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, y en análisis stress-strain pasa a ser un análisis tensor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30556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nfluyen en la resistenci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maño del gr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ondeamiento del gr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fericidad del gr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ctos entre gr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po de ce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do de ce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storia de Stress y presiones de confinamiento (especialmente en limolitas, lutitas, arcillolita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Tipos de Resistencia en Roca Intac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l cizal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 la tra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 la compresión simple (carga uniaxia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sistencia al Ciza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 roca intacta, se suele usar el modelo de Mohr-Coulomb para resistencia al cizalle, con sus parámetros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hesion (aparente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Intersección de la envolvente de fractura en eje Y (normalmente en MPa para rocas, mientras para suelos en kP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ngulo de Fricción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endiente de la envolvente de fractu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635280" y="6021360"/>
                <a:ext cx="309564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417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riterio Mohr-Coulo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835344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sistencia a la Tr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79640" y="1728720"/>
            <a:ext cx="694836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09:18:54Z</dcterms:created>
  <dc:creator>Bill  Murphy</dc:creator>
  <dc:description/>
  <dc:language>en-US</dc:language>
  <cp:lastModifiedBy>Sergio Sepulveda</cp:lastModifiedBy>
  <cp:lastPrinted>2003-10-02T07:08:47Z</cp:lastPrinted>
  <dcterms:modified xsi:type="dcterms:W3CDTF">2007-07-23T15:07:41Z</dcterms:modified>
  <cp:revision>47</cp:revision>
  <dc:subject/>
  <dc:title>Engineering Properties of Rocks</dc:title>
</cp:coreProperties>
</file>