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56D-EDCA-46FC-AF22-2707D98D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AAF-AE66-4443-B2CE-2A337CA6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446-BA24-437E-9DFC-84089B7C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7CE-E917-44E9-A5D3-BB62FDB4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CC07-96FB-4E9C-B9E2-2F7BB059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26B8-DD7A-4FED-B2B3-F774798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2D8E-E6F1-4377-BB86-9D4594AA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FF0E-AE35-4312-AB34-4977746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1514-E6EC-4948-AB5F-6ADEB391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0DA5-0544-4936-87BC-CDF164CB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824B-8A97-48FE-B37C-E6B6422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ABB-3970-4F4E-8540-90DB03E7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0DB9-C139-48EB-BC05-D28A81A8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0AA4-5A4D-4EA8-8527-9F878C82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A90-7DF7-4739-B645-88DEECD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C97-36C4-424A-91A6-4105DE4D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83D-80AE-49C3-B787-C6A03C3F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83C-F947-4304-8242-31FD8F99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CE7-3784-4BA4-B4DA-2270459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959-80D2-4FFE-A9C9-61BD871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2D7-81CD-4A42-85F1-47B65290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F3C-5C1A-424F-B18F-B286EB9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B0E-7837-413F-981E-873964A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969-5C92-464A-8027-56AD19A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1A22-FE81-4737-A326-BD9C8393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0476-C70E-4D43-927F-DEE3C1A4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978920"/>
            <a:ext cx="74678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Arrested orogenic development: eclogization, delamination and tectonic collaps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ry L. Leech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reaccion desprende agua que fluye rapidamente debido a las fracturas y ayudan el metamorfismo de las rocas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l final del ciclo, si la corteza subductante es fria (&lt;500ºC) fluye mas despacio y la erosion se encarga de degradar la cadena montañosa, en cambio si la corteza subductante es caliente (&gt;700ªC) habra mas delaminacion y predominara una mecanica ext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531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Los Urales: un orogeno estancad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Urales (devonico-permico) son el resultado de la colision de la placa europea con placas microcontinetnales y la intervencion de un arco de is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resentan evidencia de colapso tectonico post orogenico y esta estancado desde el paleozoico, tiene una topografia baja y una gran raiz co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ho esta a una profindidad aprox de 55 Km y se hace difuso en e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21824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 Black"/>
              </a:rPr>
              <a:t>Control de la exhumación de las rocas UHP por buyanci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ien en algunos complejos se exhuman debido solamente a la erosión, en otros es debido a la buyancia, al tener una raiz eclogizada esta se delamina cayendo al manto, luego se “eliminan” asi las rocas maficas y quedan solamente las felsicas que son mas livianas, esto explica el por que las UPH se observan parcialmente eclogizadas o son mayormente fel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en en estos complejos se observa metamorfismo retrogrado, esto produce anfiboles y otros minerales livianos que también ayudan mas a la buyancia de la corteza y a su exhum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2600" y="53352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 Black"/>
              </a:rPr>
              <a:t>(Comparacion de los Urales con el orogeno Trans-Hud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fluidos y no la temperatura los que controlan la eclogizacion, delaminacion y colapso tect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yoria de los orogenos colapsan, pero hay al menos dos que no lo hicieron (Urales y OTH) y se puede especular que es debido a que estos son secos (continente contin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 propuesta de evolucion debido a los fluidos tiene consecuencias para la exhumacion de las tierras U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usencia de extension post orogenica en los urales indica que la buyancia es mucho mas importante para la exhumacion de las UHP lo que se pens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0"/>
            <a:ext cx="74674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3300"/>
                </a:solidFill>
                <a:latin typeface="Arial Black"/>
              </a:rPr>
              <a:t>...fin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1707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introducci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de las raíces corticales es responsable de su delaminación y posterior colapso tect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no es solamente dependiente de las condiciones P-T, los fluidos cumplen un rol muy importante y es necesario para la cinemática de la formacion de eclog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general un ciclo orogenico se puede dividir en tres par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ision, engrosamiento de la corteza y formacion de la topografia superior y de las ra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amorfismo de las raices corticales 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 delaminacion de esta o del manto litosfe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S Shell Dlg"/>
              </a:rPr>
              <a:t>Colapso extensional y re equilibrio del mo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616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00"/>
                </a:solidFill>
                <a:latin typeface="Arial Black"/>
              </a:rPr>
              <a:t>Los fluidos en la eclogizacion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clogizacion ocurre en dos zonas principales en la subduccion: en la corteza subductante y en la base de la corteza mon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luidos  inyectados por la subducion o por el manto cumplen un rol mucho mas importante en el metamorfismo que las condiciones P-T, sin agua las reaciones no son completas dejando las rocas en estado meta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292760"/>
            <a:ext cx="746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Ocurrencias de eclogizacion parcia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logitas se encuentran en varias partes del mu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estan en transiciones de anfibolitas, gabros y granulitas formadas a las mismas P-T-t por lo que debe haber otro factor que controle  el metamorf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ncuentran tambien gabros, anfibolitas y granulitas en facies de eclogita por lo que solo un fluido es capaz de permitir su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ree que fueron frentes de fluidos en los  montes Urales los que produjeron la eclogizacion y luego la mineralizacion y zonas de granates y micas, y luego su rapida exhumacion impidio que se complet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experimentales: albita anhidra en facie eclogita no produjo jadeita mientras que con un 1% de agua a temperaturas menores si se produjo , hay que notar que no se nesecitan grandes cantidades de fluido ya que estos estan de manera temporal solamente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27000"/>
            <a:ext cx="746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 Black"/>
              </a:rPr>
              <a:t>-reacciones desidratantes en las placas subductante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ransición de esq-azules a granulitas libera importantes cantidades agua (desde sobre un 6% a un 0.8-0.0%)y junto con las peridotitas serpentinizadas son el principal aporte de fluidos al sistema debido al colapso de la lawsonita, epidota, clorita y anfíbolas, el agua es luego absorbida por las rocas secas circ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zonas donde subduce corteza continental ésta tiene menos agua disponible, la mayoria se concentra en micas como la pengita que estable a altas presiones, esto hace que haya menos o nula eclogiz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6201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 Black"/>
              </a:rPr>
              <a:t>Condiciones para el colapso orogenic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rde corteza-nato vs moho sis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ristalizacion de la corteza inferior mafica produce un importante cambio de densidad, por esto Vp de las eclogitas es de ~8Km-s por lo que se ubicaria debajo del moho, como la eclogizacion puede ser gradual, esto puede estar cerca del moho sismico y confundirse con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aminacion de la raiz co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s eclogitas son mas débiles, en zonas de alto strain estas se folian y son dúctiles y el agua ayuda mas aun, además adelgazan la corteza y combinado con la boyancia negativa con el manto hacen que se desprendan y caigan al m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reacción de pasar a eclogita es rá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9:07:00Z</dcterms:created>
  <dc:creator>jescriba</dc:creator>
  <dc:description/>
  <dc:language>en-US</dc:language>
  <cp:lastModifiedBy>PREGRADO10</cp:lastModifiedBy>
  <dcterms:modified xsi:type="dcterms:W3CDTF">2007-09-10T16:34:40Z</dcterms:modified>
  <cp:revision>7</cp:revision>
  <dc:subject/>
  <dc:title>Arrestes orogenic development: eclogization, delamination and tectonic collapse</dc:title>
</cp:coreProperties>
</file>