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3BB-695C-499C-B4EE-F4542C94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831-7B40-47AB-91C0-38D8EBD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50A-7C97-4EA6-88D9-4AF29D60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81B-FED0-4AF6-AA8F-EBC9367C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250-8733-4CAF-B113-FC68B109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5B6F-48A1-4B27-868F-C47EDAA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DBE2-BC25-47B3-AC94-74DECC1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86E9-A72C-44BC-B5F8-FC5831C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266B-9F30-450A-93E8-C6ABD8A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73E3-BEFB-478D-B481-9251A8A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B9E6-6E64-43C8-898C-59B3FAA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0D5-DB02-4B48-AD0C-7F8E51C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894-F3B9-43D1-874C-E96B890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8E1-E865-4019-AAD0-D030FA7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DB9-AECB-4087-93D9-5E6369F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CE7-49AF-46CD-A693-3F24762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42C6-19BE-483E-A9FC-DBC2D6B3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674-6D44-44D2-A3E5-B0F7D84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57C-3ECB-4267-965C-BF9A56C8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FA7-4967-4EEF-BCB4-C5A37E36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C45-2936-4E55-AAE9-EB717806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9EE-D9FF-4FB3-BD1C-62237E6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19C-0D61-4372-9EB0-4AD8F1F5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612-44B8-4ED4-9816-EEF6AA2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196-26D7-431D-9B19-91FDE8F6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9BE6-F133-4022-8B92-CEBDE0DF7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978920"/>
            <a:ext cx="7467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Arrested orogenic development: eclogization, delamination and tectonic collap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y L. Leech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reaccion desprende agua que fluye rapidamente debido a las fracturas y ayudan el metamorfismo de las rocas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l final del ciclo, si la corteza subductante es fria (&lt;500ºC) fluye mas despacio y la erosion se encarga de degradar la cadena montañosa, en cambio si la corteza subductante es caliente (&gt;700ªC) habra mas delaminacion y predominara una mecanica ext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531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Los Urales: un orogeno estancad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Urales (devonico-permico) son el resultado de la colision de la placa europea con placas microcontinetnales y la intervencion de un arco de i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esentan evidencia de colapso tectonico post orogenico y esta estancado desde el paleozoico, tiene una topografia baja y una gran raiz co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ho esta a una profindidad aprox de 55 Km y se hace difuso en e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21824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Control de la exhumación de las rocas UHP por buyanci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ien en algunos complejos se exhuman debido solamente a la erosión, en otros es debido a la buyancia, al tener una raiz eclogizada esta se delamina cayendo al manto, luego se “eliminan” asi las rocas maficas y quedan solamente las felsicas que son mas livianas, esto explica el por que las UPH se observan parcialmente eclogizadas o son mayormente fel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en en estos complejos se observa metamorfismo retrogrado, esto produce anfiboles y otros minerales livianos que también ayudan mas a la buyancia de la corteza y a su exhu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2600" y="5335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 Black"/>
              </a:rPr>
              <a:t>(Comparacion de los Urales con el orogeno Trans-Hud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fluidos y no la temperatura los que controlan la eclogizacion, delaminacion y colapso tect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yoria de los orogenos colapsan, pero hay al menos dos que no lo hicieron (Urales y OTH) y se puede especular que es debido a que estos son secos (continente conti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propuesta de evolucion debido a los fluidos tiene consecuencias para la exhumacion de las tierras U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usencia de extension post orogenica en los urales indica que la buyancia es mucho mas importante para la exhumacion de las UHP lo que se pens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3300"/>
                </a:solidFill>
                <a:latin typeface="Arial Black"/>
              </a:rPr>
              <a:t>...fin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07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introducc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de las raíces corticales es responsable de su delaminación y posterior colapso tect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no es solamente dependiente de las condiciones P-T, los fluidos cumplen un rol muy importante y es necesario para la cinemática de la formacion de eclo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general un ciclo orogenico se puede dividir en tres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ision, engrosamiento de la corteza y formacion de la topografia superior y de las ra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amorfismo de las raices corticales 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delaminacion de esta o del manto litosfe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S Shell Dlg"/>
              </a:rPr>
              <a:t>Colapso extensional y re equilibrio del mo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00"/>
                </a:solidFill>
                <a:latin typeface="Arial Black"/>
              </a:rPr>
              <a:t>Los fluidos en la eclogizacio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ocurre en dos zonas principales en la subduccion: en la corteza subductante y en la base de la corteza mo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luidos  inyectados por la subducion o por el manto cumplen un rol mucho mas importante en el metamorfismo que las condiciones P-T, sin agua las reaciones no son completas dejando las rocas en estado meta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92760"/>
            <a:ext cx="746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Ocurrencias de eclogizacion parcia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logitas se encuentran en varias partes del mu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estan en transiciones de anfibolitas, gabros y granulitas formadas a las mismas P-T-t por lo que debe haber otro factor que controle  el metamor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cuentran tambien gabros, anfibolitas y granulitas en facies de eclogita por lo que solo un fluido es capaz de permitir su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e que fueron frentes de fluidos en los  montes Urales los que produjeron la eclogizacion y luego la mineralizacion y zonas de granates y micas, y luego su rapida exhumacion impidio que se complet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experimentales: albita anhidra en facie eclogita no produjo jadeita mientras que con un 1% de agua a temperaturas menores si se produjo , hay que notar que no se nesecitan grandes cantidades de fluido ya que estos estan de manera temporal solamente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27000"/>
            <a:ext cx="746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reacciones desidratantes en las placas subductante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ransición de esq-azules a granulitas libera importantes cantidades agua (desde sobre un 6% a un 0.8-0.0%)y junto con las peridotitas serpentinizadas son el principal aporte de fluidos al sistema debido al colapso de la lawsonita, epidota, clorita y anfíbolas, el agua es luego absorbida por las rocas secas circ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zonas donde subduce corteza continental ésta tiene menos agua disponible, la mayoria se concentra en micas como la pengita que estable a altas presiones, esto hace que haya menos o nula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6201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Condiciones para el colapso orogenic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rde corteza-nato vs moho sis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ristalizacion de la corteza inferior mafica produce un importante cambio de densidad, por esto Vp de las eclogitas es de ~8Km-s por lo que se ubicaria debajo del moho, como la eclogizacion puede ser gradual, esto puede estar cerca del moho sismico y confundirse con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aminacion de la raiz co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s eclogitas son mas débiles, en zonas de alto strain estas se folian y son dúctiles y el agua ayuda mas aun, además adelgazan la corteza y combinado con la boyancia negativa con el manto hacen que se desprendan y caigan al m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reacción de pasar a eclogita es 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9:07:00Z</dcterms:created>
  <dc:creator>jescriba</dc:creator>
  <dc:description/>
  <dc:language>en-US</dc:language>
  <cp:lastModifiedBy>PREGRADO10</cp:lastModifiedBy>
  <dcterms:modified xsi:type="dcterms:W3CDTF">2007-09-10T16:34:40Z</dcterms:modified>
  <cp:revision>7</cp:revision>
  <dc:subject/>
  <dc:title>Arrestes orogenic development: eclogization, delamination and tectonic collapse</dc:title>
</cp:coreProperties>
</file>