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8778-FC13-4F84-826A-5728695CA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0A72-CAE6-46ED-BB2A-66921B22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458B-6044-48F4-AC78-D0BF21AB2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9825-FDC8-4038-A457-CD547EFEB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7528-C388-4A80-8EE2-D9E39B611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919D-3E39-4A4D-8D49-2CD4650E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1713-F296-42E9-A7E6-5E60A004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0A3C-BE2B-4D13-B78C-D4B20C25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E648-BB00-4EAB-9FED-ADE10E75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-349200"/>
            <a:ext cx="746748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AE5F-7919-4BB6-A121-8C48E025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841F-C8B6-4F60-8B3D-CBFD3766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2834-0760-4ED3-BFB0-8A2639E7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014A3-8D8A-4AB2-A18C-2C561650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196C-EA1F-4769-A71E-2B8B0BC5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9883-6AB6-45C3-B522-97BCF52A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EF1C-8C70-4CAE-8B27-E95BA606F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32EF-2CE8-4AB7-8E50-90CA82451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AD99-3D2C-40A0-A467-F9499C61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7447-8950-45AB-A744-74E86762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98CA-28E3-4A3D-B1D6-3C47110B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-349200"/>
            <a:ext cx="746748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2AAA-9992-478E-9DC3-6B38584A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9983-F2E2-4A8B-97D3-942AD4C4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6828-D0A6-44D3-B945-C99D0F3C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FFDE-061A-4C81-A06C-35A72878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4E1C-FD63-4478-92AB-B9BDA5DC3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88520"/>
            <a:ext cx="624816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C5E0-B4D0-4CF3-AD35-4B360A1E6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978920"/>
            <a:ext cx="746784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Arial Black"/>
              </a:rPr>
              <a:t>Arrested orogenic development: eclogization, delamination and tectonic collapse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38095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ry L. Leech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56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la reaccion desprende agua que fluye rapidamente debido a las fracturas y ayudan el metamorfismo de las rocas de arri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al final del ciclo, si la corteza subductante es fria (&lt;500ºC) fluye mas despacio y la erosion se encarga de degradar la cadena montañosa, en cambio si la corteza subductante es caliente (&gt;700ªC) habra mas delaminacion y predominara una mecanica exten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53120" cy="60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123192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Arial Black"/>
              </a:rPr>
              <a:t>Los Urales: un orogeno estancado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Urales (devonico-permico) son el resultado de la colision de la placa europea con placas microcontinetnales y la intervencion de un arco de is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 presentan evidencia de colapso tectonico post orogenico y esta estancado desde el paleozoico, tiene una topografia baja y una gran raiz cor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moho esta a una profindidad aprox de 55 Km y se hace difuso en el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1218240"/>
            <a:ext cx="746748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Arial Black"/>
              </a:rPr>
              <a:t>Control de la exhumación de las rocas UHP por buyancia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2743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bien en algunos complejos se exhuman debido solamente a la erosión, en otros es debido a la buyancia, al tener una raiz eclogizada esta se delamina cayendo al manto, luego se “eliminan” asi las rocas maficas y quedan solamente las felsicas que son mas livianas, esto explica el por que las UPH se observan parcialmente eclogizadas o son mayormente fels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mbien en estos complejos se observa metamorfismo retrogrado, esto produce anfiboles y otros minerales livianos que también ayudan mas a la buyancia de la corteza y a su exhum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2600" y="533520"/>
            <a:ext cx="645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00"/>
                </a:solidFill>
                <a:latin typeface="Arial Black"/>
              </a:rPr>
              <a:t>(Comparacion de los Urales con el orogeno Trans-Huds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00"/>
                </a:solidFill>
                <a:latin typeface="Arial Black"/>
              </a:rPr>
              <a:t>conclusione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 los fluidos y no la temperatura los que controlan la eclogizacion, delaminacion y colapso tecto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ayoria de los orogenos colapsan, pero hay al menos dos que no lo hicieron (Urales y OTH) y se puede especular que es debido a que estos son secos (continente continen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 propuesta de evolucion debido a los fluidos tiene consecuencias para la exhumacion de las tierras U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ausencia de extension post orogenica en los urales indica que la buyancia es mucho mas importante para la exhumacion de las UHP lo que se pensa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045600"/>
            <a:ext cx="746748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3300"/>
                </a:solidFill>
                <a:latin typeface="Arial Black"/>
              </a:rPr>
              <a:t>...fin</a:t>
            </a:r>
            <a:endParaRPr b="0" lang="en-US" sz="5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117072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Arial Black"/>
              </a:rPr>
              <a:t>introduccion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236232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eclogizacion de las raíces corticales es responsable de su delaminación y posterior colapso tectó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Ésta no es solamente dependiente de las condiciones P-T, los fluidos cumplen un rol muy importante y es necesario para la cinemática de la formacion de eclog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28240" y="456840"/>
            <a:ext cx="7543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general un ciclo orogenico se puede dividir en tres par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lision, engrosamiento de la corteza y formacion de la topografia superior y de las ra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tamorfismo de las raices corticales 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 delaminacion de esta o del manto litosfe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MS Shell Dlg"/>
              </a:rPr>
              <a:t>Colapso extensional y re equilibrio del mo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561600"/>
            <a:ext cx="74674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00"/>
                </a:solidFill>
                <a:latin typeface="Arial Black"/>
              </a:rPr>
              <a:t>Los fluidos en la eclogizacion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eclogizacion ocurre en dos zonas principales en la subduccion: en la corteza subductante y en la base de la corteza mont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fluidos  inyectados por la subducion o por el manto cumplen un rol mucho mas importante en el metamorfismo que las condiciones P-T, sin agua las reaciones no son completas dejando las rocas en estado metae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8077320" cy="63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292760"/>
            <a:ext cx="7467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 Black"/>
              </a:rPr>
              <a:t>-Ocurrencias de eclogizacion parcial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clogitas se encuentran en varias partes del mu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s estan en transiciones de anfibolitas, gabros y granulitas formadas a las mismas P-T-t por lo que debe haber otro factor que controle  el metamorf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encuentran tambien gabros, anfibolitas y granulitas en facies de eclogita por lo que solo un fluido es capaz de permitir su eclogiz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cree que fueron frentes de fluidos en los  montes Urales los que produjeron la eclogizacion y luego la mineralizacion y zonas de granates y micas, y luego su rapida exhumacion impidio que se completara el 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udios experimentales: albita anhidra en facie eclogita no produjo jadeita mientras que con un 1% de agua a temperaturas menores si se produjo , hay que notar que no se nesecitan grandes cantidades de fluido ya que estos estan de manera temporal solamente en el 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927000"/>
            <a:ext cx="7467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 Black"/>
              </a:rPr>
              <a:t>-reacciones desidratantes en las placas subductante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ransición de esq-azules a granulitas libera importantes cantidades agua (desde sobre un 6% a un 0.8-0.0%)y junto con las peridotitas serpentinizadas son el principal aporte de fluidos al sistema debido al colapso de la lawsonita, epidota, clorita y anfíbolas, el agua es luego absorbida por las rocas secas circund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zonas donde subduce corteza continental ésta tiene menos agua disponible, la mayoria se concentra en micas como la pengita que estable a altas presiones, esto hace que haya menos o nula eclogiz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762012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683280"/>
            <a:ext cx="746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Arial Black"/>
              </a:rPr>
              <a:t>Condiciones para el colapso orogenico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orde corteza-nato vs moho sism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recristalizacion de la corteza inferior mafica produce un importante cambio de densidad, por esto Vp de las eclogitas es de ~8Km-s por lo que se ubicaria debajo del moho, como la eclogizacion puede ser gradual, esto puede estar cerca del moho sismico y confundirse con 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laminacion de la raiz cortic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las eclogitas son mas débiles, en zonas de alto strain estas se folian y son dúctiles y el agua ayuda mas aun, además adelgazan la corteza y combinado con la boyancia negativa con el manto hacen que se desprendan y caigan al ma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la reacción de pasar a eclogita es ráp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19:07:00Z</dcterms:created>
  <dc:creator>jescriba</dc:creator>
  <dc:description/>
  <dc:language>en-US</dc:language>
  <cp:lastModifiedBy>PREGRADO10</cp:lastModifiedBy>
  <dcterms:modified xsi:type="dcterms:W3CDTF">2007-09-10T16:34:40Z</dcterms:modified>
  <cp:revision>7</cp:revision>
  <dc:subject/>
  <dc:title>Arrestes orogenic development: eclogization, delamination and tectonic collapse</dc:title>
</cp:coreProperties>
</file>