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11.jpeg" ContentType="image/jpe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BEF1-4F79-44EA-81B4-AFA5D724730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/Sr will help identify Kspar vs P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re incompatible -&gt; first partial melts (or residual liquids of F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depends on the mineral pha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S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excluded from most common minerals except </a:t>
            </a:r>
            <a:r>
              <a:rPr b="0" lang="en-US" sz="1400" spc="-1" strike="noStrike">
                <a:solidFill>
                  <a:srgbClr val="ff0066"/>
                </a:solidFill>
                <a:latin typeface="Arial"/>
              </a:rPr>
              <a:t>plagiocl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B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ilarly excluded except in </a:t>
            </a: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alkali 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the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rat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a/Sr increases with crystallization of plagioclase, but may decrease when orthoclase begins to crystal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ll of the above cases using ratios, the idea is to find a mineral with a unique pair of elements for which it alone has a relatively high value of D for one element and a relatively low value of D for the other. The ratio of these elements is then sensitive only to liquid/crystal fractionation associated with that particular mi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mbers of Group IIIA of the Periodic Table La -&gt; to Lutetium (Z = 57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very similar chemical and physical properties -&gt; behave as a coher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have a 3+ oxidation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onic radius decreases steadily with increasing atomic number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thanide contr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ndrite normal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 to chondrite meteorite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avoid Oddo-Harkins (even Z more comm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think chondrite = primitive earth, so can compare to initi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* is the value Eu “should” have if Eu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d not -&gt; plagiocl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other example of how RATIOS can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 alone is inconclusive (low REE of low E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/Eu is slope or Eu anomaly trough (Use Eu*/Eu any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der of elements based on estimates of increasing incompatibility from right to left in a "typical" mantle undergoing partial mel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all incompatible (D&lt;1) during most partial melting and fractional crystallization processe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exceptions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, which may be compatible if plagioclase is involv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 and Yb with ga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 with magn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oughs at these elements would indicate respective miner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eanic basal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large degrees of PM, their spider diagrams should reflect the trace element patterns of their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incompatible elements on the right-hand side should be less enriched during PM (particularly for small degrees of it), tilting the curve up on the left -&gt; (-) slop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ly, FX subsequent to magma segregation from the source should tip the pattern even fur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 Distrib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.as a tool in the interpretation of the history of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elements have diff. affinities for environments to reside: Si later melts  -  Mg early x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from Chapter 1: A.  Goldschmid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der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e, Pt, 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ulfide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alc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,Cu,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lements silicates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thoph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"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,K,Ca,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STIC    Xl Field Theory best results.  Study of elec. envir. in lattice &amp; mel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ce Elements: very low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's don't govern the appearance of a phase (as K req. Ksp or Bi), but enter various phases by sub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Compare H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E usually vary by &l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RB-normaliz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L on left and HFS on right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r. incompatibility toward ce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herent magma with enrichment has hump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 often vary by &gt;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very useful since so sensitive to distr. &amp; fractio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 some TE's will follow similar major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is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s on the minerals involv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r -&gt; melt as ol &amp; px separate  -&gt;  plag (Ca) &amp; not melt if plag is phenocryst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standardized to mantle compositions (olivine, pyroxenes, and perhaps garn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major elements Mg and Fe would usually be referred to as compatible, while K and Na as incompat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 exact, sinc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varies with the composition of mins &amp; me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F26-A811-4843-A76D-CEE92E40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256-32C9-4962-8C58-4ACD58E5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2FF-1250-43F4-A5CE-B065398D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444-7400-4FBB-8D41-B8ECD18D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04F0-F2CF-4783-9906-6A1B576B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5726-BBC6-4B6D-8DA5-56679A22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8A6C-6ABB-48C6-83F6-1A0A0FDC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DF44-5F7C-4B66-AD23-8B0B5310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31E7-E03F-4302-9C49-F6AD23B4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2BC1-8020-43A9-B0A2-B9F97C7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E651-9A46-41A4-AA2C-D293292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A4B-8726-46CB-98D3-DD5BC02F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4C8F-9ABF-44A0-8688-B96EAEA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2D9A-D16A-48AB-84A2-CA66A670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1199-C91D-40AE-AC17-178B4A5F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5D08-962C-41A8-9B1A-D18764A4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22B2-43D9-4D2B-B1FE-FD86F79E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DA9-0FA9-43BF-BD54-51AD7D74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A17-DB4A-45A1-8727-75E22275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5B4-63CB-46E9-9254-D448DB44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B3C-B4A1-489E-8283-BE4354E1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C49-8D58-49ED-BF2D-9E6C9A10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FB5-2DDE-4D17-BC2B-D29A680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A0D-4006-4C5D-BB93-48E1B07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71E3-5FE0-413B-8226-A1633AFC74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6A1D-2F32-4DE9-9788-855767B61F8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64240" y="2043000"/>
            <a:ext cx="542628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GEOQUÍMICA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Desdemona"/>
              </a:rPr>
              <a:t>ELEMENTOS TRA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erramientas para la interpre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de la historia de rocas Ig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473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GL54C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5520" y="511200"/>
            <a:ext cx="82566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os Incompatibl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íqu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76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jan la proporción de líquido a un estado dado de  cristalización o fu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51120" y="2419200"/>
            <a:ext cx="542772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894888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r y 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lem. Inc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portamiento depende de las fases minerales involucr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s excluido desde la mayoria de los minerales comunes excepto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g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419040" indent="-3816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B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xcluido de la misma manera excepto en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d-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79760" y="2440080"/>
          <a:ext cx="6084720" cy="441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40080"/>
                    <a:ext cx="60847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0" y="3387600"/>
            <a:ext cx="2651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Pg 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cc00"/>
                </a:solidFill>
                <a:latin typeface="Times New Roman"/>
              </a:rPr>
              <a:t>FX Or =&gt; Ba/Sr </a:t>
            </a:r>
            <a:r>
              <a:rPr b="1" lang="es-CL" sz="2200" spc="-1" strike="noStrike">
                <a:solidFill>
                  <a:srgbClr val="00cc00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51000"/>
            <a:ext cx="82566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Ejm. Elementos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Ni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uertemente fraccionad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livin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&gt; pirox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Sc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piroxenos &gt;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livin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/Cr o Ni/Sc permiten distinguir el efecto de olivino y augita en un fundido parcial o en una serie de rocas generadas por F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22240" y="3757680"/>
          <a:ext cx="742320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3757680"/>
                    <a:ext cx="74232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0" t="105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5880" y="0"/>
            <a:ext cx="79786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re Earth Elements (R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1560" y="4967280"/>
            <a:ext cx="7107120" cy="8874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58880" y="784080"/>
            <a:ext cx="25581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Similares, e.d.o. +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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N°At =&gt; </a:t>
            </a:r>
            <a:r>
              <a:rPr b="0" lang="es-CL" sz="2400" spc="-1" strike="noStrike">
                <a:solidFill>
                  <a:srgbClr val="003b76"/>
                </a:solidFill>
                <a:latin typeface="Symbol"/>
                <a:ea typeface="Symbol"/>
              </a:rPr>
              <a:t>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R.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1040" y="177840"/>
            <a:ext cx="8501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astes y similitudes en los Coeficientes de Partició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das las REE son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54120" y="1679400"/>
          <a:ext cx="655020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4120" y="1679400"/>
                    <a:ext cx="65502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2136600"/>
            <a:ext cx="261288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HRE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nos incompatibles, especialmente en el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3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concentra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210960"/>
            <a:ext cx="77724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s de R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400" y="1108080"/>
            <a:ext cx="818856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áficos de concentración (eje-y) v/s número atómico c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do de compatibilidad aumenta desde la izquierda a la dere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774800" y="3227040"/>
            <a:ext cx="0" cy="275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-128520" y="4584240"/>
            <a:ext cx="25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6600" y="6118200"/>
            <a:ext cx="50292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11600" y="627840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 Ce  Nd  Sm  Eu  Tb  Er  Dy  Yb 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455760" y="0"/>
          <a:ext cx="8340480" cy="47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0"/>
                    <a:ext cx="83404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233280" y="4799160"/>
            <a:ext cx="849312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rmalizando a un estándar se elimina </a:t>
            </a:r>
            <a:r>
              <a:rPr b="0" lang="en-US" sz="2400" spc="-1" strike="noStrike">
                <a:solidFill>
                  <a:srgbClr val="00cc00"/>
                </a:solidFill>
                <a:latin typeface="Verdana"/>
              </a:rPr>
              <a:t>Oddo-Harkins effec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hace la escal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ás fun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ciones de las REE del manto primor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ntraciones de los meteoritos condr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6208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¿Cómo se veria un diagrama de REE normalizado al condr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805040" y="2119320"/>
            <a:ext cx="5332320" cy="3746520"/>
            <a:chOff x="1805040" y="2119320"/>
            <a:chExt cx="5332320" cy="3746520"/>
          </a:xfrm>
        </p:grpSpPr>
        <p:sp>
          <p:nvSpPr>
            <p:cNvPr id="225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35280" y="2430360"/>
              <a:ext cx="3801960" cy="2552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35280" y="2430360"/>
              <a:ext cx="1440" cy="25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35280" y="49831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35280" y="474012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35280" y="448452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35280" y="42418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5280" y="39862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5280" y="37432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5280" y="3487680"/>
              <a:ext cx="27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5280" y="324468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5280" y="2989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5280" y="27464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5280" y="2489040"/>
              <a:ext cx="270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5280" y="49831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5280" y="448452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5280" y="39862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5280" y="3487680"/>
              <a:ext cx="4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5280" y="298944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5280" y="2489040"/>
              <a:ext cx="41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5280" y="4983120"/>
              <a:ext cx="380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352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952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1687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84720" y="495432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021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1780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0356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25448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8308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70052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1652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33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34996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67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783400" y="495432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999040" y="495432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216480" y="49543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3528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1687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6021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0356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483080" y="4938480"/>
              <a:ext cx="32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91652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4996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83400" y="49384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16480" y="4938480"/>
              <a:ext cx="18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63400" y="48783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63400" y="43797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63400" y="3881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3400" y="33829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3400" y="28843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720" y="2386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053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387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7184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052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31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8656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2000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308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6520" y="5105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1392480" y="3572280"/>
              <a:ext cx="147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05040" y="2119320"/>
              <a:ext cx="5332320" cy="374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84600" y="5175360"/>
              <a:ext cx="25056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2040" y="519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0508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8520" y="5189400"/>
              <a:ext cx="2793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4560" y="5189400"/>
              <a:ext cx="266760" cy="249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5056200"/>
              <a:ext cx="412128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2280" y="5075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82800" y="5105520"/>
              <a:ext cx="354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 Ce       Nd      Sm  Eu      Tb         Er        Yb 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0560" y="3308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b76"/>
                  </a:solidFill>
                  <a:latin typeface="Times New Roman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3080" y="4484520"/>
            <a:ext cx="82166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Anomalía 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europio (Eu/Eu*)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ndo plagioclasa 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mineral que crist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sólido residual en la fu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0880" y="887400"/>
            <a:ext cx="2648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rama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E de una lherzolita hipotética con 20 wt% Pg, lo que resulta en una pronunciada 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 negativa de E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Eu*= (Sm+Gd)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Anomalía=Eu/Eu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90400" y="334800"/>
            <a:ext cx="5337360" cy="3857760"/>
            <a:chOff x="590400" y="334800"/>
            <a:chExt cx="5337360" cy="385776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590400" y="334800"/>
              <a:ext cx="533736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6200000">
              <a:off x="-441000" y="1884240"/>
              <a:ext cx="323208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0.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	</a:t>
              </a:r>
              <a:r>
                <a:rPr b="0" lang="es-ES_tradnl" sz="1600" spc="-1" strike="noStrike">
                  <a:solidFill>
                    <a:srgbClr val="003b76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00" y="190440"/>
            <a:ext cx="914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iagramas Multielementales (Araña o “Spider”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3680" y="1065240"/>
            <a:ext cx="8950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 una extensión de la técnica de normalización utilizada en las REE hacia un mayor espectro de elemen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040" y="2774880"/>
            <a:ext cx="398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hondrite/Mantle-normalized spider diag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n comúnmente ordenados por aumento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l grado de incompat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Diferentes estimacione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ferente ordenami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oca estandarización!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983040" y="2328840"/>
            <a:ext cx="516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65320"/>
            <a:ext cx="40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mayo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l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062240" y="919080"/>
            <a:ext cx="5081760" cy="593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120" y="0"/>
            <a:ext cx="7619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Elementos Mayores ([X]&gt;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w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%-1000 ppm) </a:t>
            </a: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adicionalmente son 10 (Si, Ti, Al, Fe, Mn, Mg, Ca, Na, K y P), se expresan como óxi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1. Clasificación de ro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2. Construcción de diagramas de var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3. Métodos compa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4. Usados (+ET) en la identificación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mbiente tectónico de formació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040" y="63360"/>
            <a:ext cx="8259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Diagrama Spider normalizado a MO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280" y="68580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Pearce (1983): Separa LILE y HFSE de acuerdo a su grado de incompatibilidad y a su movilidad en un medio ac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13560" y="3948120"/>
            <a:ext cx="2347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IB graficado en un mid-ocean ridge basalt (MORB) normalized spider diagram del tipo propuesto por Pearce (1983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3680" y="1576440"/>
            <a:ext cx="6315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3760" y="16992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plicación de Elementos Traza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Sistemas Igne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05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n usados como los elementos mayores en diagramas de variación para describir FX, asimilacíon, etc. en un set de ro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s sensitivo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randes variaciones durante los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56160" y="3336840"/>
            <a:ext cx="4587840" cy="352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855960"/>
            <a:ext cx="429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Identificación de la roca fuente o de un mineral particular involucrado ya sea en procesos de fusión parcial o de Cx fraccio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587680" y="1851120"/>
          <a:ext cx="6549840" cy="50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1851120"/>
                    <a:ext cx="65498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0"/>
            <a:ext cx="840420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jm.: Kd </a:t>
            </a:r>
            <a:r>
              <a:rPr b="0" lang="en-US" sz="2400" spc="-1" strike="noStrike" baseline="-25000">
                <a:solidFill>
                  <a:srgbClr val="00cc00"/>
                </a:solidFill>
                <a:latin typeface="Times New Roman"/>
              </a:rPr>
              <a:t>HREE-Gt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&gt; 1 (</a:t>
            </a:r>
            <a:r>
              <a:rPr b="0" lang="en-US" sz="2400" spc="-1" strike="noStrike">
                <a:solidFill>
                  <a:srgbClr val="00cc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G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centra HR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í, si el Gt está en equilibrio con el fundido parcial (es una fase residual en la fuente) esperaríamos una pendiente (-) fuerte en REE y especialmente e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5240" y="2887560"/>
            <a:ext cx="8118000" cy="3436200"/>
            <a:chOff x="165240" y="2887560"/>
            <a:chExt cx="8118000" cy="3436200"/>
          </a:xfrm>
        </p:grpSpPr>
        <p:sp>
          <p:nvSpPr>
            <p:cNvPr id="320" name=""/>
            <p:cNvSpPr/>
            <p:nvPr/>
          </p:nvSpPr>
          <p:spPr>
            <a:xfrm>
              <a:off x="165240" y="2887560"/>
              <a:ext cx="2321280" cy="34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cc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Ejm.: Kd </a:t>
              </a:r>
              <a:r>
                <a:rPr b="0" lang="en-US" sz="2400" spc="-1" strike="noStrike" baseline="-25000">
                  <a:solidFill>
                    <a:srgbClr val="00cc00"/>
                  </a:solidFill>
                  <a:latin typeface="Times New Roman"/>
                </a:rPr>
                <a:t>Eu-Pg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Fusión parcial de un manto a poca profundidad     (&lt; 40 km) tendrá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plagioclasa</a:t>
              </a: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 en el residuo y se generará  anomalía de 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E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39280" y="4914720"/>
              <a:ext cx="543960" cy="49356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513480" y="5362560"/>
            <a:ext cx="716040" cy="111276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73160" y="209520"/>
            <a:ext cx="4327560" cy="2917800"/>
            <a:chOff x="173160" y="209520"/>
            <a:chExt cx="4327560" cy="2917800"/>
          </a:xfrm>
        </p:grpSpPr>
        <p:sp>
          <p:nvSpPr>
            <p:cNvPr id="324" name=""/>
            <p:cNvSpPr/>
            <p:nvPr/>
          </p:nvSpPr>
          <p:spPr>
            <a:xfrm>
              <a:off x="173160" y="209520"/>
              <a:ext cx="4327560" cy="29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3360" y="511200"/>
              <a:ext cx="3379680" cy="22575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3360" y="511200"/>
              <a:ext cx="1440" cy="225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3360" y="276876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3360" y="254484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360" y="23194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73360" y="2095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73360" y="187020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3360" y="16462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3360" y="141120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3360" y="118584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73360" y="96228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3360" y="73512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3360" y="511200"/>
              <a:ext cx="28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360" y="276876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360" y="2319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3360" y="18702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360" y="1411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360" y="9622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73360" y="511200"/>
              <a:ext cx="38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3360" y="2768760"/>
              <a:ext cx="337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8733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08756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2924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5084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2260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92744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14308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34972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6248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781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98152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197520" y="2739960"/>
              <a:ext cx="28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341316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618000" y="2739960"/>
              <a:ext cx="180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832200" y="2739960"/>
              <a:ext cx="32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0388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253040" y="27399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87336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2924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72260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43080" y="27306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562480" y="2730600"/>
              <a:ext cx="288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8152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1316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832200" y="2730600"/>
              <a:ext cx="32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253040" y="273060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7560" y="874800"/>
              <a:ext cx="204840" cy="477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2400" y="1352520"/>
              <a:ext cx="430200" cy="303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2600" y="1656000"/>
              <a:ext cx="420480" cy="206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3080" y="1862280"/>
              <a:ext cx="206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49720" y="1862280"/>
              <a:ext cx="428400" cy="4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78120" y="1909800"/>
              <a:ext cx="635040" cy="115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13160" y="2025720"/>
              <a:ext cx="41904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832200" y="1977840"/>
              <a:ext cx="206640" cy="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600" y="26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0600" y="2241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0600" y="17924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0600" y="1332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600" y="882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560" y="4348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98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96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84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0744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2720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73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775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9728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18120" y="2876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-155880" y="15429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5360" y="2847960"/>
              <a:ext cx="37227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8120" y="287676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9800" y="804960"/>
              <a:ext cx="18543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77680" y="816120"/>
              <a:ext cx="209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7% Ol    17% Opx    17% Cp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336920" y="3524400"/>
            <a:ext cx="4533840" cy="3270240"/>
            <a:chOff x="4336920" y="3524400"/>
            <a:chExt cx="4533840" cy="3270240"/>
          </a:xfrm>
        </p:grpSpPr>
        <p:sp>
          <p:nvSpPr>
            <p:cNvPr id="401" name=""/>
            <p:cNvSpPr/>
            <p:nvPr/>
          </p:nvSpPr>
          <p:spPr>
            <a:xfrm>
              <a:off x="4336920" y="3524400"/>
              <a:ext cx="4533840" cy="327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3888000"/>
              <a:ext cx="3558960" cy="237636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60880" y="3888000"/>
              <a:ext cx="2880" cy="237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60880" y="626436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60880" y="602964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60880" y="5791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60880" y="55566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60880" y="53182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0880" y="50817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880" y="483588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0880" y="459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0880" y="436104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60880" y="4123080"/>
              <a:ext cx="29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0880" y="3888000"/>
              <a:ext cx="29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626436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60880" y="579132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60880" y="531828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60880" y="48358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60880" y="4361040"/>
              <a:ext cx="410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0880" y="38880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60880" y="6264360"/>
              <a:ext cx="355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06088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28624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503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73084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562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171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39900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1500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84036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067520" y="6235560"/>
              <a:ext cx="288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28172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51032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73712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951680" y="6235560"/>
              <a:ext cx="14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817848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394480" y="6235560"/>
              <a:ext cx="324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619840" y="623556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060880" y="6224760"/>
              <a:ext cx="28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0368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9562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99000" y="622476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84036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281720" y="6224760"/>
              <a:ext cx="32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73712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817848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619840" y="622476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6240" y="4329360"/>
              <a:ext cx="217440" cy="422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03680" y="4751640"/>
              <a:ext cx="452520" cy="3096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956200" y="5061240"/>
              <a:ext cx="442800" cy="185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9000" y="5247000"/>
              <a:ext cx="216000" cy="31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15000" y="5565960"/>
              <a:ext cx="452520" cy="45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6018480"/>
              <a:ext cx="669600" cy="154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7120" y="6172560"/>
              <a:ext cx="441360" cy="2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480" y="6202440"/>
              <a:ext cx="216000" cy="1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46240" y="6183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6240" y="57103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2358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46240" y="47516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46240" y="4278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0000" y="38070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.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256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9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200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63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068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89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148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284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586360" y="6378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6200000">
              <a:off x="3994920" y="498456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ample/chondrit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8200" y="6348600"/>
              <a:ext cx="392112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49240" y="6378840"/>
              <a:ext cx="311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  Nd   Sm Eu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97360" y="4196160"/>
              <a:ext cx="25732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1720" y="4206960"/>
              <a:ext cx="278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7% Ol    14% Opx    14% Cpx   14% Gr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944960" y="102888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ecto del Granate y la Plagioclasa en los patrones de H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7240" y="3521160"/>
            <a:ext cx="4110120" cy="3290760"/>
            <a:chOff x="57240" y="3521160"/>
            <a:chExt cx="4110120" cy="3290760"/>
          </a:xfrm>
        </p:grpSpPr>
        <p:sp>
          <p:nvSpPr>
            <p:cNvPr id="479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240" y="3521160"/>
              <a:ext cx="4110120" cy="3290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74640" y="3905280"/>
              <a:ext cx="301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06280" y="3936960"/>
              <a:ext cx="3738240" cy="2470680"/>
              <a:chOff x="206280" y="3936960"/>
              <a:chExt cx="3738240" cy="2470680"/>
            </a:xfrm>
          </p:grpSpPr>
          <p:sp>
            <p:nvSpPr>
              <p:cNvPr id="483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83720" y="4015440"/>
                <a:ext cx="3157560" cy="231660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83720" y="4015440"/>
                <a:ext cx="1440" cy="231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3720" y="63320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3720" y="609696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3720" y="58708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3720" y="563544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3720" y="540936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3720" y="5172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3720" y="493740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3720" y="471348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" y="4478400"/>
                <a:ext cx="2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3720" y="4252320"/>
                <a:ext cx="2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3720" y="4015440"/>
                <a:ext cx="2664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3720" y="633204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3720" y="587088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83720" y="540936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3720" y="4937400"/>
                <a:ext cx="35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3720" y="4478400"/>
                <a:ext cx="3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3720" y="4015440"/>
                <a:ext cx="3528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3720" y="6332040"/>
                <a:ext cx="31575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837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9853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7792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3780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570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722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19652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21668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236664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255960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276084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295416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5360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34548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3548520" y="6302160"/>
                <a:ext cx="14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739680" y="6302160"/>
                <a:ext cx="180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3941280" y="6302160"/>
                <a:ext cx="3240" cy="2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837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117792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7068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19652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236664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76084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3153600" y="6293520"/>
                <a:ext cx="180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3548520" y="629352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941280" y="6293520"/>
                <a:ext cx="32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5320" y="4563720"/>
                <a:ext cx="192600" cy="3733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77920" y="4937400"/>
                <a:ext cx="392760" cy="235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570680" y="5172480"/>
                <a:ext cx="394560" cy="196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65240" y="5369400"/>
                <a:ext cx="201240" cy="33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2166840" y="5409360"/>
                <a:ext cx="392760" cy="2952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59600" y="5409360"/>
                <a:ext cx="593640" cy="127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53600" y="5537160"/>
                <a:ext cx="394560" cy="19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48520" y="5556960"/>
                <a:ext cx="191160" cy="67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9600" y="62550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9600" y="57942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600" y="533124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600" y="48610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89600" y="43981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760" y="39369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.0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200000">
                <a:off x="-241920" y="5058360"/>
                <a:ext cx="104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ample/chondrit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22200" y="4447080"/>
                <a:ext cx="2326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942840" y="4173480"/>
                <a:ext cx="283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%  Ol   15% Opx   15%  Cpx   10%Pla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757440" y="6446880"/>
              <a:ext cx="30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 Ce   Nd   Sm Eu     Tb          Er     Yb Lu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314720" y="490680"/>
            <a:ext cx="68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Tabla: Resumen de algunos elementos traza particularmente útiles en petrología Ígne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0800" y="1112760"/>
            <a:ext cx="80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Elem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5960" y="1095480"/>
            <a:ext cx="334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Uso como indicador petrogené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93400" y="154944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Ni, Co, 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37600" y="1511280"/>
            <a:ext cx="626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altamente incompatibles. Ni (y Co) son concentrados en olivino, y Cr en espinel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39400" y="1716120"/>
            <a:ext cx="451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linopiroxeno. Altas concentraciones indican una fuente mantélica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82680" y="204624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V, 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37240" y="2046240"/>
            <a:ext cx="66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Ambos altamente fraccionados en Fe-Ti óxidos (ilmenita o titanomagnetita). Si ellos se compor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35440" y="2249640"/>
            <a:ext cx="638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diferentemente, Probablemente el Ti se fracciono en una fase accesoria, como esfeno o ruti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83040" y="25812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Zr, H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39040" y="2581200"/>
            <a:ext cx="572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muy incompatibles que no se sustituyen en las fases mayores silicata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042640" y="2782800"/>
            <a:ext cx="376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(aunque ellos pueden reemplazar Ti en esfeno o rutilo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80880" y="3116160"/>
            <a:ext cx="46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Ba, 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036520" y="3116160"/>
            <a:ext cx="614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Elementos incompatibles que substituyen K en Feld-K, micas, o hornblenda. Rb substituy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40480" y="3317760"/>
            <a:ext cx="590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menos fácilmente en Hb que en Feld-K y en micas, K/Ba permite distinguir estas f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208160" y="1406520"/>
            <a:ext cx="7548120" cy="1619280"/>
            <a:chOff x="1208160" y="1406520"/>
            <a:chExt cx="7548120" cy="1619280"/>
          </a:xfrm>
        </p:grpSpPr>
        <p:sp>
          <p:nvSpPr>
            <p:cNvPr id="564" name=""/>
            <p:cNvSpPr/>
            <p:nvPr/>
          </p:nvSpPr>
          <p:spPr>
            <a:xfrm>
              <a:off x="1208160" y="1406520"/>
              <a:ext cx="754812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8160" y="194148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8160" y="3011400"/>
              <a:ext cx="754812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82320" y="3852720"/>
            <a:ext cx="15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5440" y="3852720"/>
            <a:ext cx="635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Sustituye al Ca en plagioclasas (pero no en piroxenos), y, en menor cantidad, K en los Feld-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2560" y="4057560"/>
            <a:ext cx="67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Se comporta como elemento compatible a baja presión donde plagioclasa se forma temprano, p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036520" y="4259160"/>
            <a:ext cx="54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omo incompatible a mayores presiones, donde la plagioclasa ya no es es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1960" y="459108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R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34360" y="4591080"/>
            <a:ext cx="671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Granate acomoda las HREE más que las LREE, y ortopiroxeno y hornblenda en menor propor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43360" y="4791240"/>
            <a:ext cx="68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feno y plagioclasa acomodan más las LREE. Eu</a:t>
            </a:r>
            <a:r>
              <a:rPr b="0" lang="en-US" sz="1200" spc="-1" strike="noStrike" baseline="30000">
                <a:solidFill>
                  <a:srgbClr val="ccecff"/>
                </a:solidFill>
                <a:latin typeface="Arial"/>
              </a:rPr>
              <a:t>2+ 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es fuertemente fraccionado por las plagioclas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81960" y="5330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034360" y="5330880"/>
            <a:ext cx="683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cecff"/>
                </a:solidFill>
                <a:latin typeface="Arial"/>
              </a:rPr>
              <a:t>Comunmente incompatible (como HREE). Fuertemente particionado en el granate y anfíbola. Esf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34000" y="5533920"/>
            <a:ext cx="6483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Y apatito también concentran Y, por lo tanto la presencia de ellos como accesorios podría te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un efecto signif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78200" y="1030320"/>
            <a:ext cx="10800" cy="4913280"/>
            <a:chOff x="1978200" y="1030320"/>
            <a:chExt cx="10800" cy="4913280"/>
          </a:xfrm>
        </p:grpSpPr>
        <p:sp>
          <p:nvSpPr>
            <p:cNvPr id="578" name=""/>
            <p:cNvSpPr/>
            <p:nvPr/>
          </p:nvSpPr>
          <p:spPr>
            <a:xfrm>
              <a:off x="1978200" y="1030320"/>
              <a:ext cx="10800" cy="3412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8200" y="1371600"/>
              <a:ext cx="10800" cy="158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78200" y="1387440"/>
              <a:ext cx="10800" cy="519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78200" y="190656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78200" y="192096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78200" y="244152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78200" y="2455920"/>
              <a:ext cx="10800" cy="5205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78200" y="297648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8200" y="2990880"/>
              <a:ext cx="10800" cy="7239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78200" y="3714840"/>
              <a:ext cx="10800" cy="1404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78200" y="3728880"/>
              <a:ext cx="10800" cy="725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78200" y="4465800"/>
              <a:ext cx="10800" cy="725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78200" y="5207040"/>
              <a:ext cx="10800" cy="7221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78200" y="5929200"/>
              <a:ext cx="10800" cy="1440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225440" y="3745080"/>
            <a:ext cx="7548840" cy="15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25440" y="452448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25440" y="5245200"/>
            <a:ext cx="7548840" cy="14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6276960"/>
            <a:ext cx="584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57640" y="6243480"/>
            <a:ext cx="429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reen (1980). Tectonophys.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67-38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868200" y="2840040"/>
            <a:ext cx="1736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00cc00"/>
                </a:solidFill>
                <a:latin typeface="Desdemona"/>
              </a:rPr>
              <a:t>FI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8200" y="728640"/>
            <a:ext cx="422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ora notar la magnitud de los cambios en la concentración de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elementos traz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y útiles =&gt; Alta sensibilidad en procesos de fraccion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terminan la aparición de una fase (K en Bt; K-Fe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Sustituyen a otros element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los cris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92600" y="619200"/>
            <a:ext cx="43862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65200" y="369720"/>
            <a:ext cx="7772400" cy="59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istribución de los ele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imes New Roman"/>
              </a:rPr>
              <a:t>Reglas de Goldschmidt (simplísticas, pero úti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os iones con la misma valencia y radio debieran intercambiarse fácilmente y entrar en una solución sólida en cantidades iguales a sus proporciones origi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Si dos iones tienen distintos radios iónicos y la misma valencia, el más pequeño es preferencialn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400" indent="-484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Si dos iones tienen radios ionicos similares pero diferente valencia, el con la carga más alta es preferencialmente incorporado en el sólido más que en el líqu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002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raccionamiento Quím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20" y="1459080"/>
            <a:ext cx="84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ícese de la distribución inequitativa de un ion entre dos fases competentes (en equilib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9840" y="3011400"/>
            <a:ext cx="85518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ambio en equilibrio de un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componente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 do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fases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ólido y líqu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cc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=           =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oeficiente de part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414240" y="3979800"/>
            <a:ext cx="1035720" cy="1258920"/>
            <a:chOff x="3414240" y="3979800"/>
            <a:chExt cx="1035720" cy="1258920"/>
          </a:xfrm>
        </p:grpSpPr>
        <p:sp>
          <p:nvSpPr>
            <p:cNvPr id="175" name=""/>
            <p:cNvSpPr/>
            <p:nvPr/>
          </p:nvSpPr>
          <p:spPr>
            <a:xfrm>
              <a:off x="3414240" y="3979800"/>
              <a:ext cx="1035720" cy="11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a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49520" y="4687560"/>
              <a:ext cx="588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8320" y="417024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68320" y="4659120"/>
              <a:ext cx="23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-25000">
                  <a:solidFill>
                    <a:srgbClr val="00cc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908600" y="3916440"/>
            <a:ext cx="1403280" cy="1361520"/>
            <a:chOff x="4908600" y="3916440"/>
            <a:chExt cx="1403280" cy="1361520"/>
          </a:xfrm>
        </p:grpSpPr>
        <p:sp>
          <p:nvSpPr>
            <p:cNvPr id="180" name=""/>
            <p:cNvSpPr/>
            <p:nvPr/>
          </p:nvSpPr>
          <p:spPr>
            <a:xfrm>
              <a:off x="4908600" y="3916440"/>
              <a:ext cx="1403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sol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cc00"/>
                  </a:solidFill>
                  <a:latin typeface="Times New Roman"/>
                </a:rPr>
                <a:t>X</a:t>
              </a:r>
              <a:r>
                <a:rPr b="0" i="1" lang="en-US" sz="2800" spc="-1" strike="noStrike">
                  <a:solidFill>
                    <a:srgbClr val="00cc00"/>
                  </a:solidFill>
                  <a:latin typeface="Times New Roman"/>
                </a:rPr>
                <a:t> </a:t>
              </a:r>
              <a:r>
                <a:rPr b="0" lang="en-US" sz="2800" spc="-1" strike="noStrike" baseline="30000">
                  <a:solidFill>
                    <a:srgbClr val="00cc00"/>
                  </a:solidFill>
                  <a:latin typeface="Times New Roman"/>
                </a:rPr>
                <a:t>liquid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937040" y="4111560"/>
              <a:ext cx="727560" cy="1166400"/>
              <a:chOff x="4937040" y="4111560"/>
              <a:chExt cx="727560" cy="1166400"/>
            </a:xfrm>
          </p:grpSpPr>
          <p:sp>
            <p:nvSpPr>
              <p:cNvPr id="182" name=""/>
              <p:cNvSpPr/>
              <p:nvPr/>
            </p:nvSpPr>
            <p:spPr>
              <a:xfrm>
                <a:off x="4937040" y="4669920"/>
                <a:ext cx="592200" cy="108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19480" y="412704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0688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25920" y="41115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19440" y="4698360"/>
                <a:ext cx="238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cc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957720" y="3987720"/>
            <a:ext cx="1247760" cy="1248480"/>
            <a:chOff x="6957720" y="3987720"/>
            <a:chExt cx="1247760" cy="1248480"/>
          </a:xfrm>
        </p:grpSpPr>
        <p:sp>
          <p:nvSpPr>
            <p:cNvPr id="188" name=""/>
            <p:cNvSpPr/>
            <p:nvPr/>
          </p:nvSpPr>
          <p:spPr>
            <a:xfrm>
              <a:off x="6957720" y="3987720"/>
              <a:ext cx="1247760" cy="12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Min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600" spc="-1" strike="noStrike">
                  <a:solidFill>
                    <a:srgbClr val="00cc00"/>
                  </a:solidFill>
                  <a:latin typeface="Times New Roman"/>
                </a:rPr>
                <a:t>C</a:t>
              </a:r>
              <a:r>
                <a:rPr b="0" lang="es-CL" sz="1800" spc="-1" strike="noStrike">
                  <a:solidFill>
                    <a:srgbClr val="00cc00"/>
                  </a:solidFill>
                  <a:latin typeface="Times New Roman"/>
                </a:rPr>
                <a:t>Fundi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9960" y="4648320"/>
              <a:ext cx="9273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5920" y="1001880"/>
            <a:ext cx="8337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in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líquido (fundi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 «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mentos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 compatibl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on concentrados en el sólido (miner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ó D »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0440" y="282600"/>
            <a:ext cx="817092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incompatib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omúnmente divididos en dos subgru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High Field Strength Elemen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(HFS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ás pequeños (bajo radio iónico), alta carga, inmóviles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REE, Th, U, Ce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4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Ti, Zr-Hf, Nb-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w field strength Elements (LFSE) ó Large Ion Lithophile Elements (LILE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ja carga y alto radio iónico, móviles, particularmente cuando está involucrada una fase fluida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(K, Rb, Cs, Ba, Pb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, Sr, Eu</a:t>
            </a:r>
            <a:r>
              <a:rPr b="0" lang="en-US" sz="2800" spc="-1" strike="noStrike" baseline="30000">
                <a:solidFill>
                  <a:srgbClr val="00cc00"/>
                </a:solidFill>
                <a:latin typeface="Verdana"/>
              </a:rPr>
              <a:t>2+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030400" y="2403360"/>
          <a:ext cx="6006960" cy="43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403360"/>
                    <a:ext cx="600696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243000" y="270000"/>
            <a:ext cx="89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ompatibilidad depende de los minerales y los fundidos involucrados, por lo tanto no son valores exactos (depende de cada sistema)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Qué elementos son incompatibles? Por qué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jm.: PF v/s FX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5520" y="333360"/>
            <a:ext cx="8256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COMPORTAMIENTO DE LOS ELEMENTOS (K</a:t>
            </a:r>
            <a:r>
              <a:rPr b="0" lang="en-US" sz="2800" spc="-1" strike="noStrike" baseline="-25000">
                <a:solidFill>
                  <a:srgbClr val="66ccff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mentos Traza compatibles 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) son fuertemente </a:t>
            </a: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fraccionad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determinados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Ni-olivin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la Tabla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45000" y="3327480"/>
            <a:ext cx="4599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5:16:19Z</dcterms:created>
  <dc:creator>Luis López V.</dc:creator>
  <dc:description/>
  <dc:language>en-US</dc:language>
  <cp:lastModifiedBy>Luis López V.</cp:lastModifiedBy>
  <dcterms:modified xsi:type="dcterms:W3CDTF">2006-11-02T01:54:14Z</dcterms:modified>
  <cp:revision>2</cp:revision>
  <dc:subject/>
  <dc:title>Diapositiva 1</dc:title>
</cp:coreProperties>
</file>