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826-1DC1-49BF-A460-DB20B2AC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4AE-414E-4030-B233-712C57C5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F8E-30BE-4383-9AF6-F9D6E787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0DA-041B-46F3-BD52-14167F05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A07D-CF79-49A9-B549-80F79B95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D5A5-CDFD-4DC1-A6FC-2C0F6100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768B-A87E-4E68-AD6C-D054D884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070F-96BC-4A56-ACB8-E516C95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D92D-A8D0-4924-BD59-A7A2B9BF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D3B0-A960-4C6E-A24B-52C5B86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8E16-6F5E-445F-92CE-963EEC19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B23-2D86-45D6-A052-FD83A4AD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CB18-1292-46EF-BAED-235B2EE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8627-2B4B-401B-BF42-97D9E088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E803-D1E0-4FB5-823D-39D1D5B6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785A-7C67-44A1-AC4A-3B86BB9E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29E9-2356-4D47-9B04-1B82BA0A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573-A65A-4527-8947-BAF8E783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42D-BF7B-4BE5-A5E8-182A036E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8E5-C73C-48BD-9854-E8DC7D1D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BC4-698C-4F15-A022-9B893239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E10-EF2C-465F-9138-E3C5BCA1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533-528E-4F3C-8CD0-779CD3E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1F4-6BFF-4BC9-A264-50A63E6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08FA-2AAA-4ECF-A37E-E4A589FFF441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D094-F74E-4E5B-AF2A-6F6F9784411C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ANÁLISIS DE PROVENIENCIA 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DE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 SEDIMENTOS TERRÍGENO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609480"/>
            <a:ext cx="8610480" cy="53341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609480"/>
          <a:ext cx="8610480" cy="5334120"/>
        </p:xfrm>
        <a:graphic>
          <a:graphicData uri="http://schemas.openxmlformats.org/drawingml/2006/table">
            <a:tbl>
              <a:tblPr/>
              <a:tblGrid>
                <a:gridCol w="1877760"/>
                <a:gridCol w="2740320"/>
                <a:gridCol w="39924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ien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e tectó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ción de arenis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tón estab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taforma estable o en el interior del continent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ricas en Qt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m/Qp y K/P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z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ba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t uplift)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de de rift o ruptura transform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feldespáticas con bajas concentraciones de Lt y relaciones de Qm/F y K/P similares a las de la fuente de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de isla o arco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volcanoclásticas y feldespáticas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 P/K y Lv/Ls.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 rocas plutónicas expuesta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areniscas son cuarzofeldespáticas (ricas en Qm y F)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ogé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jos de subducción o cinturones de pliegues y cabalgadur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líticas (ricas en Qt y Lt) con bajas concentraciones de F y Lv y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ariables de Qm/Qp y Qp/L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447920"/>
            <a:ext cx="8686800" cy="4952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1886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bientes tectónicos, cuencas de depósito y p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enienci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la concentración de elementos mayores en roca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liciclástic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athia, 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447920"/>
          <a:ext cx="8686800" cy="4978440"/>
        </p:xfrm>
        <a:graphic>
          <a:graphicData uri="http://schemas.openxmlformats.org/drawingml/2006/table">
            <a:tbl>
              <a:tblPr/>
              <a:tblGrid>
                <a:gridCol w="1447560"/>
                <a:gridCol w="2514600"/>
                <a:gridCol w="2743200"/>
                <a:gridCol w="1981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iente tectó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nca de depósito domin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eza de la corteza adyacente</a:t>
                      </a:r>
                      <a:br>
                        <a:rPr sz="2000"/>
                      </a:b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a cue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proven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o de islas oceá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s-arco y ante-ar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oceánica o sobre corteza continental delgad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magmáticos no disecta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de islas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ra-arco, tras-arco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ante-ar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 disectado u oróge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a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ncas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inales de antepaí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land" transtensivas y transpresiv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 gruesa o basamento cristalin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Levant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pas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encas pericratonales y margenes de "rifts" continent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ógenos levantados e interior de crat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veniencia se utilizan para tratar de determinar el área fuente de l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es completamente confiable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 (fragmentos menos resistentes se desintegran, enriqueciendo relativamente en granos más resisten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dimentos con alto porcentaje de matriz NO permiten buena determinación de la f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, con poco porcentaje de matriz y reemplazo o alteración post -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petrográfico: conteo de granos con el microsco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M (Qz mono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qzos &gt; 0,0625 mm, aunque hayan varios granos ju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P (Qz poli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local. Composición de sedimentos controladas por roc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regional. Composición de diversas áreas e influencia transporte. Tectónica determina roca expuesta de l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64767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5181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74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14680" y="1076400"/>
            <a:ext cx="58291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Ó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ricas en Qt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l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ALZADO (base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t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-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ricas en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oca plutónica expuesta las areniscas son ricas en Qm y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Ó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5638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 total, Qm = qz monocristalino, Qp = qz policristalino, F = feldespatos monocristalinos totales, P = Plagioclasa, K = fd potásico, L = FL totales + qz policristalino, Lt = FL policristalinos totales, Lv = FL volcánicos, Ls = FL sedimen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29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906480"/>
            <a:ext cx="8458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Valentina Flores Aqueveque</dc:creator>
  <dc:description/>
  <dc:language>en-US</dc:language>
  <cp:lastModifiedBy>VALENTINA</cp:lastModifiedBy>
  <dcterms:modified xsi:type="dcterms:W3CDTF">2007-05-04T05:07:59Z</dcterms:modified>
  <cp:revision>15</cp:revision>
  <dc:subject>Clase 7</dc:subject>
  <dc:title>Análisis de proveniencia</dc:title>
</cp:coreProperties>
</file>