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4BB-6BEF-4850-B70D-AE13F6E0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7DD7-5ADC-4068-9ECF-5352D83A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FED-58F6-4072-B210-2D84272A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DCBE-DD8B-422D-A82E-D390A2C8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CDDD-3C11-40E3-A80F-941FB903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69CC-123F-46A0-A492-3178EF29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BAA6-EB24-4CF4-8D82-5254713B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7DCA-19E9-47C5-A6CC-76F23524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F2F9-81A8-4A3C-AFC6-0B6C974A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C7F9-C3EB-43E4-B824-CC0ADCDB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84C7-29CA-4D75-A8DA-DB88131E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9B3-9080-430F-BFC9-785EA614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A06A-C10B-42BD-BB0A-3154FB89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F194-A915-4174-A444-4B0E53B5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702A-63E6-4597-8744-FA046B2C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D045-DBA3-4D7F-9ED4-8D5FB552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E6D8-71EB-4894-A146-0BA25069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A44-E165-40F3-8533-622D0638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954-F290-4E9D-A6D7-D14BF8F3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B6B-A090-47EE-B5A3-D33283D7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B77E-4195-491A-A04A-CFF75F95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695-B70B-48BB-A463-05620AE0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2F05-F254-4257-A05E-B4CB51AF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BFF-0446-43FE-951F-4641DD78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C4D6-E847-43CF-A5E3-513B1D39D600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4A1B-2330-4BD2-8075-7A15F96A264D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05740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ANÁLISIS DE PROVENIENCIA </a:t>
            </a:r>
            <a:br>
              <a:rPr sz="4000"/>
            </a:b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DE</a:t>
            </a:r>
            <a:br>
              <a:rPr sz="4000"/>
            </a:b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 SEDIMENTOS TERRÍGENOS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609480"/>
            <a:ext cx="8610480" cy="53341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609480"/>
          <a:ext cx="8610480" cy="5334120"/>
        </p:xfrm>
        <a:graphic>
          <a:graphicData uri="http://schemas.openxmlformats.org/drawingml/2006/table">
            <a:tbl>
              <a:tblPr/>
              <a:tblGrid>
                <a:gridCol w="1877760"/>
                <a:gridCol w="2740320"/>
                <a:gridCol w="399240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ien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biente tectón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sición de arenis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atón establ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taforma estable o en el interior del continent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ricas en Qt con altas 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Qm/Qp y K/P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amento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z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bas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t uplift)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rde de rift o ruptura transform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cuarzofeldespáticas con bajas concentraciones de Lt y relaciones de Qm/F y K/P similares a las de la fuente de a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magmátic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de isla o arco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volcanoclásticas y feldespáticas con altas 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e P/K y Lv/Ls.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 rocas plutónicas expuestas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 areniscas son cuarzofeldespáticas (ricas en Qm y F)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ogéno recicl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jos de subducción o cinturones de pliegues y cabalgadura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iscas cuarzolíticas (ricas en Qt y Lt) con bajas concentraciones de F y Lv y 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variables de Qm/Qp y Qp/L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1447920"/>
            <a:ext cx="8686800" cy="49528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4360" y="1886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bientes tectónicos, cuencas de depósito y pr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enienci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partir de la concentración de elementos mayores en rocas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liciclástic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Bathia, 19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50920" y="1447920"/>
          <a:ext cx="8686800" cy="4978440"/>
        </p:xfrm>
        <a:graphic>
          <a:graphicData uri="http://schemas.openxmlformats.org/drawingml/2006/table">
            <a:tbl>
              <a:tblPr/>
              <a:tblGrid>
                <a:gridCol w="1447560"/>
                <a:gridCol w="2514600"/>
                <a:gridCol w="2743200"/>
                <a:gridCol w="1981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biente tectón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nca de depósito domin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eza de la corteza adyacente</a:t>
                      </a:r>
                      <a:br>
                        <a:rPr sz="2000"/>
                      </a:b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la cuen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proveni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o de islas oceán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ras-arco y ante-ar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formado sobre corteza oceánica o sobre corteza continental delgad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s magmáticos no disectad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s de islas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ntra-arco, tras-arco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ante-ar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formado sobre corteza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o magmático disectado u orógeno recicl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en continental act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ncas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inales de antepaís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“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land" transtensivas y transpresiva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teza continental gruesa o basamento cristalin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amento Levantad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en continental pas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encas pericratonales y margenes de "rifts" continental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teza continental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ógenos levantados e interior de crato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análisis de proveniencia se utilizan para tratar de determinar el área fuente de los sedimentos a partir de su estudio petro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nstrucciones paleogeográficas, paleoclimas, régimen tectónic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método NO es completamente confiable. Se deben realizar otro tipo de estudios (geoquímica, catodoluminiscencia, geología regional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arenas son los sedimentos detríticos más utilizados en estudios de proced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ervan composición y textura original cuando están formadas por F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to grado de madurez puede alterar interpretación de la composición de la roca total (fragmentos menos resistentes se desintegran, enriqueciendo relativamente en granos más resistent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dimentos con alto porcentaje de matriz NO permiten buena determinación de la fu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jor tipo de roca son arenitas inmaduras a submaduras, con poco porcentaje de matriz y reemplazo o alteración post - depós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petrográfico: conteo de granos con el microscop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TIPOS DE GRANO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UARZ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M (Qz monocristalino)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qzos &gt; 0,0625 mm, aunque hayan varios granos ju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P (Qz policristalino)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os &lt; 0,062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ELDESPA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distingue entre Pg y F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RAGMENTOS LI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distingue entre LV (líticos volcánicos), LS (líticos sedimentarios + metamórfic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granos son &gt; 0,0625 mm, se consideran como granos individuales (de Qz, Pg, FdK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R son todos aquellos formados por granos &lt; 0,062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ESCALA DE MUESTREO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° orden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naje local. Composición de sedimentos controladas por roca fu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° orden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naje regional. Composición de diversas áreas e influencia transporte. Tectónica determina roca expuesta de la fu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° orden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stemas fluviales mayores y ambientes costeros. Suma de todos los factores que influyeron en formación (clima, transporte, composición roca fuente, meteorización). Indicadores de ambientes tectónicos a nivel continental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447920" y="914400"/>
            <a:ext cx="64767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5181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 QF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ickinson, 1986). Q = cuarzo total, F = feldespatos monocristalinos totales, L = fragmentos líticos inestables totales (L = Lv + Ls), donde Lv = FL volcanogénicos y  Ls = FL sedimentarios y metasedimentarios, excepto chert y metachert. Flechas discontinuas indican incremento de madur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744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14680" y="1076400"/>
            <a:ext cx="58291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RATÓN ESTAB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taforma estable o en el interior del conti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ricas en Qt con altas relaciones Qm/Qp y K/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os fragmentos de rocas, en particular volcán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ASAMENTO ALZADO (basement uplift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rde de rift o ruptura transform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-feldespáticas (ricas en Qm y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centraciones de Lt y relaciones Qm/F y K/P similares a las de la fuente de a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RCO MAGMÁT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co de isla o arco contin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volcaniclásticas y ricas en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s concentraciones de P/K y Lv/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hay roca plutónica expuesta las areniscas son ricas en Qm y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ÓGENO RECICL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lejos de subducción o cinturones de pliegues y cabalgad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líticas (ricas en Qt y 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as concentraciones de F y L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laciones variables de Qm/Qp y Qp/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2120" y="5638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s de Dickinson (1986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Qt = qz total, Qm = qz monocristalino, Qp = qz policristalino, F = feldespatos monocristalinos totales, P = Plagioclasa, K = fd potásico, L = FL totales + qz policristalino, Lt = FL policristalinos totales, Lv = FL volcánicos, Ls = FL sediment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ROVENIENCIA Y AMBIENTE TECTÓNICO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4296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80880" y="906480"/>
            <a:ext cx="84582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8:04:05Z</dcterms:created>
  <dc:creator>Valentina Flores Aqueveque</dc:creator>
  <dc:description/>
  <dc:language>en-US</dc:language>
  <cp:lastModifiedBy>VALENTINA</cp:lastModifiedBy>
  <dcterms:modified xsi:type="dcterms:W3CDTF">2007-05-04T05:07:59Z</dcterms:modified>
  <cp:revision>15</cp:revision>
  <dc:subject>Clase 7</dc:subject>
  <dc:title>Análisis de proveniencia</dc:title>
</cp:coreProperties>
</file>