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4A6-C847-4C91-B4D6-EBB80148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411-A4E0-4FF2-8BA6-071A7591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C0A-4EC8-4284-ADB1-E314D7BE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6F1-9DC5-479E-B624-9E3528AB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47CF-A33C-48EE-948F-8FA9501C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998D-B8C0-49C1-BF9C-B95F37D0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6EB4-00BF-48D1-A92F-C712CD88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EAD2-27AC-45AB-BE3B-045E8BA8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671C-2DF3-4724-AD53-992EE35F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65AC-62C9-484F-A3EC-1CD192AF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14D2-8A4E-4AEF-89FC-AB53D3F3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7A0-66D1-4AC4-9698-E7BB6A90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C4CF-2258-4ABF-83E6-64889EEC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36D5-EDCD-473B-94CB-279EC01B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47A9-894F-42FB-B685-F54CB440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B130-55EB-4916-91C3-A161FE2E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4A14-0DC9-4A65-B66E-00E86B0F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971-AF70-45B4-8FB5-3DFA42F7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471-B400-4672-8149-DC7A3F83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6B0-B6A0-4E44-8E71-C02154E0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07C-63D9-4030-8213-C16774E2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8AF-FA17-4917-A133-3A236167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897-1AAF-4AC0-83AE-AAACD1F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8ED-E5D4-48F9-B6C5-5056E3BA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1A7-6DA6-48F5-8749-758BD9DB0009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1433-A04A-4A6C-8651-934D4A19F0E3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ANÁLISIS DE PROVENIENCIA 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DE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 SEDIMENTOS TERRÍGENO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609480"/>
            <a:ext cx="8610480" cy="53341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609480"/>
          <a:ext cx="8610480" cy="5334120"/>
        </p:xfrm>
        <a:graphic>
          <a:graphicData uri="http://schemas.openxmlformats.org/drawingml/2006/table">
            <a:tbl>
              <a:tblPr/>
              <a:tblGrid>
                <a:gridCol w="1877760"/>
                <a:gridCol w="2740320"/>
                <a:gridCol w="39924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ien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e tectó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ción de arenis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tón estab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taforma estable o en el interior del continent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ricas en Qt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m/Qp y K/P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z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ba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t uplift)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de de rift o ruptura transform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feldespáticas con bajas concentraciones de Lt y relaciones de Qm/F y K/P similares a las de la fuente de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de isla o arco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volcanoclásticas y feldespáticas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 P/K y Lv/Ls.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 rocas plutónicas expuesta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areniscas son cuarzofeldespáticas (ricas en Qm y F)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ogé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jos de subducción o cinturones de pliegues y cabalgadur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líticas (ricas en Qt y Lt) con bajas concentraciones de F y Lv y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ariables de Qm/Qp y Qp/L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447920"/>
            <a:ext cx="8686800" cy="4952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1886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bientes tectónicos, cuencas de depósito y p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enienci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la concentración de elementos mayores en roca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liciclástic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athia, 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447920"/>
          <a:ext cx="8686800" cy="4978440"/>
        </p:xfrm>
        <a:graphic>
          <a:graphicData uri="http://schemas.openxmlformats.org/drawingml/2006/table">
            <a:tbl>
              <a:tblPr/>
              <a:tblGrid>
                <a:gridCol w="1447560"/>
                <a:gridCol w="2514600"/>
                <a:gridCol w="2743200"/>
                <a:gridCol w="1981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iente tectó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nca de depósito domin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eza de la corteza adyacente</a:t>
                      </a:r>
                      <a:br>
                        <a:rPr sz="2000"/>
                      </a:b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a cue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proven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o de islas oceá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s-arco y ante-ar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oceánica o sobre corteza continental delgad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magmáticos no disecta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de islas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ra-arco, tras-arco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ante-ar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 disectado u oróge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a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ncas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inales de antepaí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land" transtensivas y transpresiv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 gruesa o basamento cristalin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Levant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pas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encas pericratonales y margenes de "rifts" continent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ógenos levantados e interior de crat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veniencia se utilizan para tratar de determinar el área fuente de l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es completamente confiable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 (fragmentos menos resistentes se desintegran, enriqueciendo relativamente en granos más resisten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dimentos con alto porcentaje de matriz NO permiten buena determinación de la f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, con poco porcentaje de matriz y reemplazo o alteración post -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petrográfico: conteo de granos con el microsco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M (Qz mono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qzos &gt; 0,0625 mm, aunque hayan varios granos ju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P (Qz poli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local. Composición de sedimentos controladas por roc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regional. Composición de diversas áreas e influencia transporte. Tectónica determina roca expuesta de l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64767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5181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74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14680" y="1076400"/>
            <a:ext cx="58291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Ó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ricas en Qt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l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ALZADO (base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t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-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ricas en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oca plutónica expuesta las areniscas son ricas en Qm y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Ó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5638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 total, Qm = qz monocristalino, Qp = qz policristalino, F = feldespatos monocristalinos totales, P = Plagioclasa, K = fd potásico, L = FL totales + qz policristalino, Lt = FL policristalinos totales, Lv = FL volcánicos, Ls = FL sedimen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29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906480"/>
            <a:ext cx="8458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Valentina Flores Aqueveque</dc:creator>
  <dc:description/>
  <dc:language>en-US</dc:language>
  <cp:lastModifiedBy>VALENTINA</cp:lastModifiedBy>
  <dcterms:modified xsi:type="dcterms:W3CDTF">2007-05-04T05:07:59Z</dcterms:modified>
  <cp:revision>15</cp:revision>
  <dc:subject>Clase 7</dc:subject>
  <dc:title>Análisis de proveniencia</dc:title>
</cp:coreProperties>
</file>