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1DAD-10D0-45C8-B931-AD26D71CF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1A5E-03B8-4E05-B249-515E74E3F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F1C2-81CB-4A31-A36A-A6F474D24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C81D-45CD-4511-B9A3-50AC9D2A1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BB61B-3E51-496F-8501-02CB23925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0AC34-5824-4D7A-94F4-C296C5E5C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6D477-6631-414F-8BC6-6EE51E3F2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8A94B-DE21-4547-A321-0F4EB1D95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F921C-C0BF-48DA-ABF2-4C2EF288B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1F8EE-BE82-44F9-A7CB-4C917069F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F798B-F420-44BE-BF75-7ED022C15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B487-FC19-406B-8186-030EA9A88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17DB9-B9A9-4D1C-97D1-07850257B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5AD3A-54E0-462D-9926-9FEFC4AA3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41650-F2D1-4ED1-803E-2BB1A1715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B9C5D-C206-49B4-87E7-6E6D23A06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C6022-967F-4525-A130-C04F331A7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5826-03B3-443D-B3E5-FE76A3D12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CA99-6C9A-4032-A79E-6B2D318D8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694F-AF4F-4038-9012-548239F91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7A17-AF22-4484-BDEB-D94831A7D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89F8-9764-4F8E-AE4D-978A9268D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2FEB-CA5E-474C-8FEA-D371E4742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DEB1-71E2-46CC-A62D-68F22B6CD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Expbanna" descr=""/>
          <p:cNvPicPr/>
          <p:nvPr/>
        </p:nvPicPr>
        <p:blipFill>
          <a:blip r:embed="rId3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0D0F0-9D04-4175-BD05-193BDEB32C52}" type="slidenum">
              <a:rPr b="0" lang="es-E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EXPHORSA" descr=""/>
          <p:cNvPicPr/>
          <p:nvPr/>
        </p:nvPicPr>
        <p:blipFill>
          <a:blip r:embed="rId4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95F2B-9DF8-4625-A77F-9E2F1968C01C}" type="slidenum">
              <a:rPr b="0" lang="es-E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48" name="Expbanna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EXPHORSA" descr="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" name="EXPHORSA" descr=""/>
          <p:cNvPicPr/>
          <p:nvPr/>
        </p:nvPicPr>
        <p:blipFill>
          <a:blip r:embed="rId5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4.png"/><Relationship Id="rId6" Type="http://schemas.openxmlformats.org/officeDocument/2006/relationships/image" Target="../media/image7.png"/><Relationship Id="rId7" Type="http://schemas.openxmlformats.org/officeDocument/2006/relationships/image" Target="../media/image4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4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4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2057400"/>
            <a:ext cx="8763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82400"/>
                </a:solidFill>
                <a:latin typeface="Times New Roman"/>
              </a:rPr>
              <a:t>ANÁLISIS DE PROVENIENCIA </a:t>
            </a:r>
            <a:br>
              <a:rPr sz="4000"/>
            </a:br>
            <a:r>
              <a:rPr b="1" lang="en-US" sz="4000" spc="-1" strike="noStrike">
                <a:solidFill>
                  <a:srgbClr val="482400"/>
                </a:solidFill>
                <a:latin typeface="Times New Roman"/>
              </a:rPr>
              <a:t>DE</a:t>
            </a:r>
            <a:br>
              <a:rPr sz="4000"/>
            </a:br>
            <a:r>
              <a:rPr b="1" lang="en-US" sz="4000" spc="-1" strike="noStrike">
                <a:solidFill>
                  <a:srgbClr val="482400"/>
                </a:solidFill>
                <a:latin typeface="Times New Roman"/>
              </a:rPr>
              <a:t> SEDIMENTOS TERRÍGENOS</a:t>
            </a:r>
            <a:br>
              <a:rPr sz="4000"/>
            </a:b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04920" y="609480"/>
            <a:ext cx="8610480" cy="533412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304920" y="609480"/>
          <a:ext cx="8610480" cy="5334120"/>
        </p:xfrm>
        <a:graphic>
          <a:graphicData uri="http://schemas.openxmlformats.org/drawingml/2006/table">
            <a:tbl>
              <a:tblPr/>
              <a:tblGrid>
                <a:gridCol w="1877760"/>
                <a:gridCol w="2740320"/>
                <a:gridCol w="3992400"/>
              </a:tblGrid>
              <a:tr h="64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o</a:t>
                      </a: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nien</a:t>
                      </a: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mbiente tectónic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posición de arenisc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atón estable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ataforma estable o en el interior del continente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eniscas ricas en Qt con altas r</a:t>
                      </a: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zones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Qm/Qp y K/P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samento </a:t>
                      </a: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zado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bas</a:t>
                      </a: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nt uplift)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orde de rift o ruptura transform</a:t>
                      </a: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eniscas cuarzofeldespáticas con bajas concentraciones de Lt y relaciones de Qm/F y K/P similares a las de la fuente de apor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co magmático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co de isla o arco continental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eniscas volcanoclásticas y feldespáticas con altas r</a:t>
                      </a: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zones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de P/K y Lv/Ls. </a:t>
                      </a: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 rocas plutónicas expuestas 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s areniscas son cuarzofeldespáticas (ricas en Qm y F).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rogéno reciclado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plejos de subducción o cinturones de pliegues y cabalgaduras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eniscas cuarzolíticas (ricas en Qt y Lt) con bajas concentraciones de F y Lv y r</a:t>
                      </a: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zones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variables de Qm/Qp y Qp/Ls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28600" y="1447920"/>
            <a:ext cx="8686800" cy="495288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84360" y="1886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bientes tectónicos, cuencas de depósito y pro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veniencia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 partir de la concentración de elementos mayores en rocas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siliciclástica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(Bathia, 198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250920" y="1447920"/>
          <a:ext cx="8686800" cy="4978440"/>
        </p:xfrm>
        <a:graphic>
          <a:graphicData uri="http://schemas.openxmlformats.org/drawingml/2006/table">
            <a:tbl>
              <a:tblPr/>
              <a:tblGrid>
                <a:gridCol w="1447560"/>
                <a:gridCol w="2514600"/>
                <a:gridCol w="2743200"/>
                <a:gridCol w="198144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biente tectóni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enca de depósito dominan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turaleza de la corteza adyacente</a:t>
                      </a:r>
                      <a:br>
                        <a:rPr sz="2000"/>
                      </a:b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 la cuen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po de provenienc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co de islas oceáni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Tras-arco y ante-arc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co formado sobre corteza oceánica o sobre corteza continental delgada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cos magmáticos no disectado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cos de islas continental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Intra-arco, tras-arco</a:t>
                      </a: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 o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 ante-ar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co formado sobre corteza continental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co magmático disectado u orógeno reciclado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rgen continental activ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encas </a:t>
                      </a: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ginales de antepaís</a:t>
                      </a: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“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oreland" transtensivas y transpresivas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rteza continental gruesa o basamento cristalino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samento Levantado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rgen continental pasiv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encas pericratonales y margenes de "rifts" continentales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rteza continental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rógenos levantados e interior de cratones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82400"/>
                </a:solidFill>
                <a:latin typeface="Times New Roman"/>
              </a:rPr>
              <a:t>INTRODUCCIÓN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os análisis de proveniencia se utilizan para tratar de determinar el área fuente de los sedimentos a partir de su estudio petrográfi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construcciones paleogeográficas, paleoclimas, régimen tectónico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ste método NO es completamente confiable. Se deben realizar otro tipo de estudios (geoquímica, catodoluminiscencia, geología regional, etc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s arenas son los sedimentos detríticos más utilizados en estudios de procedenc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4386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onservan composición y textura original cuando están formadas por FL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82400"/>
                </a:solidFill>
                <a:latin typeface="Times New Roman"/>
              </a:rPr>
              <a:t>INTRODUCCIÓN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lto grado de madurez puede alterar interpretación de la composición de la roca total (fragmentos menos resistentes se desintegran, enriqueciendo relativamente en granos más resistente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dimentos con alto porcentaje de matriz NO permiten buena determinación de la fue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ejor tipo de roca son arenitas inmaduras a submaduras, con poco porcentaje de matriz y reemplazo o alteración post - depósi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étodo petrográfico: conteo de granos con el microscop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82400"/>
                </a:solidFill>
                <a:latin typeface="Times New Roman"/>
              </a:rPr>
              <a:t>TIPOS DE GRANO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686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CUARZ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QM (Qz monocristalino):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os qzos &gt; 0,0625 mm, aunque hayan varios granos jun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QP (Qz policristalino):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granos &lt; 0,0625 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FELDESPAT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 distingue entre Pg y F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FRAGMENTOS LITIC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 distingue entre LV (líticos volcánicos), LS (líticos sedimentarios + metamórfic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i granos son &gt; 0,0625 mm, se consideran como granos individuales (de Qz, Pg, FdK, et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R son todos aquellos formados por granos &lt; 0,0625 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2400"/>
                </a:solidFill>
                <a:latin typeface="Times New Roman"/>
              </a:rPr>
              <a:t>ESCALA DE MUESTREO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4952520"/>
            <a:ext cx="83059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SzPct val="20592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° orden: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renaje local. Composición de sedimentos controladas por roca fuent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° orden: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renaje regional. Composición de diversas áreas e influencia transporte. Tectónica determina roca expuesta de la fuent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SzPct val="20592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° orden: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stemas fluviales mayores y ambientes costeros. Suma de todos los factores que influyeron en formación (clima, transporte, composición roca fuente, meteorización). Indicadores de ambientes tectónicos a nivel continental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1447920" y="914400"/>
            <a:ext cx="6476760" cy="38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82400"/>
                </a:solidFill>
                <a:latin typeface="Times New Roman"/>
              </a:rPr>
              <a:t>PROVENIENCIA Y AMBIENTE TECTÓNICO</a:t>
            </a:r>
            <a:endParaRPr b="0" lang="en-US" sz="3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8080" y="5181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Diagrama QFL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(Dickinson, 1986). Q = cuarzo total, F = feldespatos monocristalinos totales, L = fragmentos líticos inestables totales (L = Lv + Ls), donde Lv = FL volcanogénicos y  Ls = FL sedimentarios y metasedimentarios, excepto chert y metachert. Flechas discontinuas indican incremento de madurez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657440" y="14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714680" y="1076400"/>
            <a:ext cx="5829120" cy="38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82400"/>
                </a:solidFill>
                <a:latin typeface="Times New Roman"/>
              </a:rPr>
              <a:t>PROVENIENCIA Y AMBIENTE TECTÓNICO</a:t>
            </a:r>
            <a:endParaRPr b="0" lang="en-US" sz="3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CRATÓN ESTABLE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lataforma estable o en el interior del contin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reniscas ricas en Qt con altas relaciones Qm/Qp y K/P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ocos fragmentos de rocas, en particular volcánic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BASAMENTO ALZADO (basement uplift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orde de rift o ruptura transforma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reniscas cuarzo-feldespáticas (ricas en Qm y 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centraciones de Lt y relaciones Qm/F y K/P similares a las de la fuente de apor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82400"/>
                </a:solidFill>
                <a:latin typeface="Times New Roman"/>
              </a:rPr>
              <a:t>PROVENIENCIA Y AMBIENTE TECTÓNICO</a:t>
            </a:r>
            <a:endParaRPr b="0" lang="en-US" sz="3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ARCO MAGMÁTIC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rco de isla o arco continent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reniscas volcaniclásticas y ricas en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ltas concentraciones de P/K y Lv/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i hay roca plutónica expuesta las areniscas son ricas en Qm y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ORÓGENO RECICLAD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mplejos de subducción o cinturones de pliegues y cabalgadur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reniscas cuarzolíticas (ricas en Qt y L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ajas concentraciones de F y L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laciones variables de Qm/Qp y Qp/L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762120" y="5638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Diagramas de Dickinson (1986)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. Qt = qz total, Qm = qz monocristalino, Qp = qz policristalino, F = feldespatos monocristalinos totales, P = Plagioclasa, K = fd potásico, L = FL totales + qz policristalino, Lt = FL policristalinos totales, Lv = FL volcánicos, Ls = FL sedimentari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773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82400"/>
                </a:solidFill>
                <a:latin typeface="Times New Roman"/>
              </a:rPr>
              <a:t>PROVENIENCIA Y AMBIENTE TECTÓNICO</a:t>
            </a:r>
            <a:endParaRPr b="0" lang="en-US" sz="3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42960" y="17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380880" y="906480"/>
            <a:ext cx="8458200" cy="46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7T18:04:05Z</dcterms:created>
  <dc:creator>Valentina Flores Aqueveque</dc:creator>
  <dc:description/>
  <dc:language>en-US</dc:language>
  <cp:lastModifiedBy>VALENTINA</cp:lastModifiedBy>
  <dcterms:modified xsi:type="dcterms:W3CDTF">2007-05-04T05:07:59Z</dcterms:modified>
  <cp:revision>15</cp:revision>
  <dc:subject>Clase 7</dc:subject>
  <dc:title>Análisis de proveniencia</dc:title>
</cp:coreProperties>
</file>