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4BA-5A3A-43BF-B660-59879334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C62F-0B0C-4C8D-8B64-CA149EC7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AFEB-13B2-43FE-B849-8EA76581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717B-5777-41C5-B84C-6CA66540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435C-BDF1-43BB-AB65-26E8C693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71BD-581C-4DCB-A1D3-E54538C5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F32E-ED9D-4759-B723-B8D516F6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F866-271A-4AB1-BCA5-A1B4DFD3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708B-F819-427D-8B9A-B5403249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37FD-CF10-4115-8E3A-E8FAAB68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5A75-B748-4544-BE2E-7ABEE915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16BC-2A68-4A2F-A9CD-5AC8556B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B01C-4302-4678-84E1-56C001BE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DFD5-3734-42ED-B1BB-2D2682CF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D1FC-64B6-44FF-9CDE-F439BA35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4911-AC6F-4C11-A49F-42388F43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D24D-AF7B-43EC-9CC5-4C06DD01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F6D6-8B6E-4FC3-A688-0B0D779A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3F5-B2B0-486F-84F7-A1902E5E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493-B12A-491F-819F-881D0F7F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CD9-9889-47C2-ABF0-278B11F6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5DAA-0497-4AA6-997B-FF23DBC6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2910-50C5-431A-8B7F-61F78AED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D8D-6BE0-4E34-B3B4-9E0EB21B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6A10-E0B6-47C3-B422-B5145731DEF7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1A89-8476-47AC-9539-EB3DACB6CA5D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523520"/>
            <a:ext cx="6858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82400"/>
                </a:solidFill>
                <a:latin typeface="Times New Roman"/>
              </a:rPr>
              <a:t>ROCAS SILICICLÁSTICAS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esquistos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433520" y="1444680"/>
            <a:ext cx="67960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482400"/>
                </a:solidFill>
                <a:latin typeface="Times New Roman"/>
              </a:rPr>
              <a:t>Cuarzo policristalino (nícoles paralelos)</a:t>
            </a:r>
            <a:endParaRPr b="0" lang="en-US" sz="35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447920" y="1812960"/>
            <a:ext cx="678168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_tradnl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s-ES_tradnl" sz="3500" spc="-1" strike="noStrike">
                <a:solidFill>
                  <a:srgbClr val="482400"/>
                </a:solidFill>
                <a:latin typeface="Times New Roman"/>
              </a:rPr>
              <a:t>Cuarzo policristalino (nícoles cruzados)</a:t>
            </a:r>
            <a:endParaRPr b="0" lang="en-US" sz="35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6705720" cy="4444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800600" y="5334120"/>
            <a:ext cx="4038480" cy="12189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15080" y="5432400"/>
            <a:ext cx="39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Contactos suturados (metamórfico)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Matriz de cuarzo monocristalino y fragmentos de lutita o pizarra (caf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policristalino cizallado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7010280" cy="4708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00600" y="5334120"/>
            <a:ext cx="3886200" cy="12189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02120" y="54450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Extinción ondulosa de los cristales individuales producto del str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Cher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743880" cy="4578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724280" y="5029200"/>
            <a:ext cx="4114800" cy="15238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13200" y="511488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Cuarzo de grano muy fino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matriz con fragmentos subangulosos a suredondeados de cuarzo, chert. Cemento rico en ox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rcRect l="28183" t="21470" r="8536" b="16065"/>
          <a:stretch/>
        </p:blipFill>
        <p:spPr>
          <a:xfrm>
            <a:off x="1697040" y="1371600"/>
            <a:ext cx="6456240" cy="4842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Cher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3404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Plagioclasa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76520" y="1430280"/>
            <a:ext cx="659592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3404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Microclina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362240" y="1295280"/>
            <a:ext cx="701964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82320" y="460080"/>
            <a:ext cx="73407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Ortoclasa (nícoles paralelos)</a:t>
            </a:r>
            <a:br>
              <a:rPr sz="3200"/>
            </a:br>
            <a:r>
              <a:rPr b="0" lang="es-ES_tradnl" sz="2400" spc="-1" strike="noStrike">
                <a:solidFill>
                  <a:srgbClr val="482400"/>
                </a:solidFill>
                <a:latin typeface="Times New Roman"/>
              </a:rPr>
              <a:t>Alterado, cuarzo no alterado. Relieve &lt; bálsamo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67816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82320" y="507960"/>
            <a:ext cx="73407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82400"/>
                </a:solidFill>
                <a:latin typeface="Times New Roman"/>
              </a:rPr>
              <a:t>Ortoclasa </a:t>
            </a:r>
            <a:br>
              <a:rPr sz="3600"/>
            </a:br>
            <a:r>
              <a:rPr b="0" lang="es-ES_tradnl" sz="3000" spc="-1" strike="noStrike">
                <a:solidFill>
                  <a:srgbClr val="482400"/>
                </a:solidFill>
                <a:latin typeface="Times New Roman"/>
              </a:rPr>
              <a:t>(nícoles cruzados)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519200" y="1689120"/>
            <a:ext cx="68626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componentes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672320" cy="3711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27520" y="606600"/>
            <a:ext cx="29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82400"/>
                </a:solidFill>
                <a:latin typeface="Times New Roman"/>
              </a:rPr>
              <a:t>Compon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512640"/>
            <a:ext cx="78613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Fragmento roca metamórfica (FRM)</a:t>
            </a:r>
            <a:br>
              <a:rPr sz="3000"/>
            </a:b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IZARRA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628640" y="1676520"/>
            <a:ext cx="6677280" cy="4789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66920" y="3429000"/>
            <a:ext cx="4608720" cy="2087640"/>
          </a:xfrm>
          <a:prstGeom prst="ellipse">
            <a:avLst/>
          </a:prstGeom>
          <a:noFill/>
          <a:ln w="38160">
            <a:solidFill>
              <a:srgbClr val="dfd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82320" y="558720"/>
            <a:ext cx="73407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FRM </a:t>
            </a:r>
            <a:br>
              <a:rPr sz="3200"/>
            </a:b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ESQUISTO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630072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agmento roca sedimentaria (FRS) </a:t>
            </a:r>
            <a:br>
              <a:rPr sz="3200"/>
            </a:b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ARENISCA (nícoles paralelos)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76520" y="1676520"/>
            <a:ext cx="670536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996480"/>
            <a:ext cx="8915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S </a:t>
            </a:r>
            <a:br>
              <a:rPr sz="3200"/>
            </a:b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ARENISCA (nícoles cruzados)</a:t>
            </a:r>
            <a:br>
              <a:rPr sz="3200"/>
            </a:b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89040" y="1676520"/>
            <a:ext cx="664056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agmento roca volcánica (FRV)</a:t>
            </a:r>
            <a:br>
              <a:rPr sz="32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Pg en masa de grano muy fino (centro)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Frag. con cxs de qz en matriz de arcilla (?) (derecha)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Cx. individuales de qz y pg.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655308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agmento roca ígnea</a:t>
            </a:r>
            <a:br>
              <a:rPr sz="3200"/>
            </a:br>
            <a:r>
              <a:rPr b="0" lang="es-ES_tradnl" sz="1800" spc="-1" strike="noStrike">
                <a:solidFill>
                  <a:srgbClr val="482400"/>
                </a:solidFill>
                <a:latin typeface="Times New Roman"/>
              </a:rPr>
              <a:t>Izq. y centro: FRV básica (pg, px, opacos)</a:t>
            </a:r>
            <a:br>
              <a:rPr sz="1800"/>
            </a:br>
            <a:r>
              <a:rPr b="0" lang="es-ES_tradnl" sz="1800" spc="-1" strike="noStrike">
                <a:solidFill>
                  <a:srgbClr val="482400"/>
                </a:solidFill>
                <a:latin typeface="Times New Roman"/>
              </a:rPr>
              <a:t>Abajo: frag rx plutónicas de grano grueso (pg, fd, px)</a:t>
            </a:r>
            <a:br>
              <a:rPr sz="1800"/>
            </a:br>
            <a:r>
              <a:rPr b="0" lang="es-ES_tradnl" sz="1800" spc="-1" strike="noStrike">
                <a:solidFill>
                  <a:srgbClr val="482400"/>
                </a:solidFill>
                <a:latin typeface="Times New Roman"/>
              </a:rPr>
              <a:t>Dcha: anfíbola</a:t>
            </a:r>
            <a:endParaRPr b="0" lang="en-US" sz="1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7057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Matriz arcillosa</a:t>
            </a:r>
            <a:br>
              <a:rPr sz="3200"/>
            </a:br>
            <a:r>
              <a:rPr b="0" lang="es-ES_tradnl" sz="2400" spc="-1" strike="noStrike">
                <a:solidFill>
                  <a:srgbClr val="482400"/>
                </a:solidFill>
                <a:latin typeface="Times New Roman"/>
              </a:rPr>
              <a:t>Grauwacka (arenisca con más del 15% de matriz)</a:t>
            </a: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319040" y="1371600"/>
            <a:ext cx="698688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12560"/>
            <a:ext cx="7772400" cy="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Cuarzo monocristalin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47920" y="1835280"/>
            <a:ext cx="670536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6324480" cy="4303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9907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3987720"/>
            <a:ext cx="3886200" cy="1447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6094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plutón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9960" y="4267080"/>
            <a:ext cx="3987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xtinción levemente ond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gunas vacuolas y microlitos (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enomórfico (anhed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ípico de gran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plutónic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47920" y="1441440"/>
            <a:ext cx="678168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volcánic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447920" y="1488960"/>
            <a:ext cx="66243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volcánic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47920" y="1378080"/>
            <a:ext cx="678168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con inclusiones fluidas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12920" y="1447920"/>
            <a:ext cx="6840360" cy="4836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105520" y="3809880"/>
            <a:ext cx="3886200" cy="1447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870360"/>
            <a:ext cx="358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Oscuras y formando líneas. Corresponden a gases o líquidos atrapados en minerales.Pueden tener distintas for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policristalin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5229" t="21470" r="30582" b="16065"/>
          <a:stretch/>
        </p:blipFill>
        <p:spPr>
          <a:xfrm>
            <a:off x="1752480" y="15238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03:31:27Z</dcterms:created>
  <dc:creator>Valentina Flores Aqueveque</dc:creator>
  <dc:description/>
  <dc:language>en-US</dc:language>
  <cp:lastModifiedBy>Kyty</cp:lastModifiedBy>
  <dcterms:modified xsi:type="dcterms:W3CDTF">2007-04-19T21:41:03Z</dcterms:modified>
  <cp:revision>18</cp:revision>
  <dc:subject>Clase 5</dc:subject>
  <dc:title>Rocas siliciclásticas</dc:title>
</cp:coreProperties>
</file>