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912-8C2C-4E3B-931D-1003DBD5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88A-5B1C-4879-8ED3-5D7AF619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AD2-3A63-434B-84D8-E930CBFB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0EC-E835-41AC-9C8C-B9A2A147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B0C6-2FD8-4B01-9C47-A4EE9149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2227-0F8F-4B5F-825A-BC0D528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2CE-0A42-4A70-87D6-A544F687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5404-4424-49B1-A96D-A73A4F3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DB06-B530-4C37-8BA1-20F4E38E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AD44-2CFE-42B6-A09D-DC162A93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1E9A-118F-4179-AF3F-65227BB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553-BAF6-4D40-BC30-5BDA8C1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CED8-20A0-4B22-B941-D0E0D78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F40A-1CCE-4594-B24C-CF0891E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6ACF-0687-4CFC-A8EF-929732F6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E03E-9C1F-40FE-A3C5-5F81BB83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16D0-AE89-43B3-B2AB-B45CB125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1AD-6390-440C-9599-85478066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A9F-E2FA-4FAD-A370-AA03A51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5E3-0BDB-4048-8B29-6940E6D7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3B4-FF09-4888-B1A6-82C87D70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903-DDCA-409A-BAF2-8CA9712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C7C-E8BF-47D4-B2C4-08A7301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1D5-E8B6-4BDA-998A-1552AE69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97E5-7052-443E-BF63-11B93458D067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6855-0305-4516-A53C-B4EBBF5C818A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82400"/>
                </a:solidFill>
                <a:latin typeface="Times New Roman"/>
              </a:rPr>
              <a:t>ROCAS SILICICLÁSTICA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esquistos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33520" y="1444680"/>
            <a:ext cx="6796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paralel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812960"/>
            <a:ext cx="67816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cruzad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00600" y="5334120"/>
            <a:ext cx="403848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5432400"/>
            <a:ext cx="39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ontactos suturados (metamórfic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de cuarzo monocristalino y fragmentos de lutita o pizarra (caf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 cizallado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010280" cy="470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5334120"/>
            <a:ext cx="388620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2120" y="54450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Extinción ondulosa de los cristales individuales producto del s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743880" cy="457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5029200"/>
            <a:ext cx="4114800" cy="1523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3200" y="5114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uarzo de grano muy fino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con fragmentos subangulosos a suredondeados de cuarzo, chert. Cemento rico en ox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28183" t="21470" r="8536" b="16065"/>
          <a:stretch/>
        </p:blipFill>
        <p:spPr>
          <a:xfrm>
            <a:off x="1697040" y="1371600"/>
            <a:ext cx="6456240" cy="484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lagioclas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76520" y="1430280"/>
            <a:ext cx="65959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Microclin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2240" y="1295280"/>
            <a:ext cx="70196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2320" y="460080"/>
            <a:ext cx="7340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Ortoclasa (nícoles paralelos)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Alterado, cuarzo no alterado. Relieve &lt; bálsamo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781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2320" y="50796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82400"/>
                </a:solidFill>
                <a:latin typeface="Times New Roman"/>
              </a:rPr>
              <a:t>Ortoclasa </a:t>
            </a:r>
            <a:br>
              <a:rPr sz="3600"/>
            </a:br>
            <a:r>
              <a:rPr b="0" lang="es-ES_tradnl" sz="3000" spc="-1" strike="noStrike">
                <a:solidFill>
                  <a:srgbClr val="482400"/>
                </a:solidFill>
                <a:latin typeface="Times New Roman"/>
              </a:rPr>
              <a:t>(nícoles cruzados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19200" y="1689120"/>
            <a:ext cx="6862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mponentes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672320" cy="371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27520" y="606600"/>
            <a:ext cx="29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82400"/>
                </a:solidFill>
                <a:latin typeface="Times New Roman"/>
              </a:rPr>
              <a:t>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8613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Fragmento roca metamórfica (FRM)</a:t>
            </a:r>
            <a:br>
              <a:rPr sz="3000"/>
            </a:b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IZARRA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28640" y="1676520"/>
            <a:ext cx="6677280" cy="47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dfd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2320" y="55872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FRM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QUIS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6300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sedimentaria (FRS)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paralelos)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6705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648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S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cruzados)</a:t>
            </a:r>
            <a:br>
              <a:rPr sz="3200"/>
            </a:b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89040" y="1676520"/>
            <a:ext cx="66405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volcánica (FRV)</a:t>
            </a:r>
            <a:br>
              <a:rPr sz="32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Pg en masa de grano muy fino (centr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Frag. con cxs de qz en matriz de arcilla (?) (derecha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x. individuales de qz y pg.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53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ígnea</a:t>
            </a:r>
            <a:br>
              <a:rPr sz="32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Izq. y centro: FRV básica (pg, px, opacos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Abajo: frag rx plutónicas de grano grueso (pg, fd, px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Dcha: anfíbola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705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Matriz arcillosa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Grauwacka (arenisca con más del 15% de matriz)</a:t>
            </a: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19040" y="1371600"/>
            <a:ext cx="69868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uarzo mono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835280"/>
            <a:ext cx="67053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324480" cy="430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98772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094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9960" y="4267080"/>
            <a:ext cx="398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t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microlitos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44144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1488960"/>
            <a:ext cx="6624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808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con inclusiones fluida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12920" y="1447920"/>
            <a:ext cx="6840360" cy="483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988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87036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Oscuras y formando líneas. Corresponden a gases o líquidos atrapados en minerales.Pueden tener distintas for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229" t="21470" r="30582" b="16065"/>
          <a:stretch/>
        </p:blipFill>
        <p:spPr>
          <a:xfrm>
            <a:off x="175248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Valentina Flores Aqueveque</dc:creator>
  <dc:description/>
  <dc:language>en-US</dc:language>
  <cp:lastModifiedBy>Kyty</cp:lastModifiedBy>
  <dcterms:modified xsi:type="dcterms:W3CDTF">2007-04-19T21:41:03Z</dcterms:modified>
  <cp:revision>18</cp:revision>
  <dc:subject>Clase 5</dc:subject>
  <dc:title>Rocas siliciclásticas</dc:title>
</cp:coreProperties>
</file>