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CCA-8A84-483A-8EFE-C1660A02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26F-C71E-43E2-93B8-9507C90F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1DF-2EFB-4622-ABF3-7B357974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792-CCB1-4D75-B785-CAA03DCA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6B23-6EE1-4203-AB59-7320BA30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1A99-E915-43F2-8AE1-56D3888E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E6D-2315-4F51-A1C7-8A12B9DC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D9A8-6FD6-45BA-8E67-52E08494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5B25-8E34-4A44-B549-03E0088C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EEB4-69D9-47CD-8F10-DF6A1AD0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12B5-1D9F-425C-8EE4-31A9299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CD9-992F-4C4E-B826-C2CEB120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E2E5-20F8-44AA-9CC3-D195AB85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E153-7C76-412D-8FD6-82A4CE7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FCF4-0BB9-4C37-A072-B918F531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0C42-9812-417C-907F-23D4FF95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D2E9-8599-4673-981D-1B549B3C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6DA-B482-4A28-8936-0767B787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ABB-8641-402D-A2F0-9EED2BD7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930-3038-4E6A-9855-7B81DFB0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C2D-F880-4E44-9303-1DA83CB2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023-CBEC-4159-8F20-D92E3C9B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DD4-0B05-4BA2-AD40-BC76A79B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59F-43CE-408D-9763-AEFE8219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A111-8B72-4065-8D4C-A43FF6113D44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F6AB-6510-4768-B6E7-46E0AFA03B41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523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82400"/>
                </a:solidFill>
                <a:latin typeface="Times New Roman"/>
              </a:rPr>
              <a:t>ROCAS SILICICLÁSTICA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esquistos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33520" y="1444680"/>
            <a:ext cx="6796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paralel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1812960"/>
            <a:ext cx="67816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cruzad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00600" y="5334120"/>
            <a:ext cx="403848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5432400"/>
            <a:ext cx="39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ontactos suturados (metamórfic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de cuarzo monocristalino y fragmentos de lutita o pizarra (caf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 cizallado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010280" cy="470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00600" y="5334120"/>
            <a:ext cx="388620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2120" y="54450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Extinción ondulosa de los cristales individuales producto del s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743880" cy="457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4280" y="5029200"/>
            <a:ext cx="4114800" cy="1523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13200" y="511488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uarzo de grano muy fino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con fragmentos subangulosos a suredondeados de cuarzo, chert. Cemento rico en ox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rcRect l="28183" t="21470" r="8536" b="16065"/>
          <a:stretch/>
        </p:blipFill>
        <p:spPr>
          <a:xfrm>
            <a:off x="1697040" y="1371600"/>
            <a:ext cx="6456240" cy="4842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lagioclas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76520" y="1430280"/>
            <a:ext cx="65959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Microclin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62240" y="1295280"/>
            <a:ext cx="70196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82320" y="460080"/>
            <a:ext cx="73407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Ortoclasa (nícoles paralelos)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Alterado, cuarzo no alterado. Relieve &lt; bálsamo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7816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82320" y="50796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82400"/>
                </a:solidFill>
                <a:latin typeface="Times New Roman"/>
              </a:rPr>
              <a:t>Ortoclasa </a:t>
            </a:r>
            <a:br>
              <a:rPr sz="3600"/>
            </a:br>
            <a:r>
              <a:rPr b="0" lang="es-ES_tradnl" sz="3000" spc="-1" strike="noStrike">
                <a:solidFill>
                  <a:srgbClr val="482400"/>
                </a:solidFill>
                <a:latin typeface="Times New Roman"/>
              </a:rPr>
              <a:t>(nícoles cruzados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19200" y="1689120"/>
            <a:ext cx="6862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mponentes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672320" cy="371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27520" y="606600"/>
            <a:ext cx="29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82400"/>
                </a:solidFill>
                <a:latin typeface="Times New Roman"/>
              </a:rPr>
              <a:t>Compon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8613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Fragmento roca metamórfica (FRM)</a:t>
            </a:r>
            <a:br>
              <a:rPr sz="3000"/>
            </a:b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IZARRA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28640" y="1676520"/>
            <a:ext cx="6677280" cy="4789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66920" y="3429000"/>
            <a:ext cx="4608720" cy="2087640"/>
          </a:xfrm>
          <a:prstGeom prst="ellipse">
            <a:avLst/>
          </a:prstGeom>
          <a:noFill/>
          <a:ln w="38160">
            <a:solidFill>
              <a:srgbClr val="dfd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82320" y="55872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FRM </a:t>
            </a:r>
            <a:br>
              <a:rPr sz="3200"/>
            </a:b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QUIST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630072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sedimentaria (FRS)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paralelos)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670536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6480"/>
            <a:ext cx="891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S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cruzados)</a:t>
            </a:r>
            <a:br>
              <a:rPr sz="3200"/>
            </a:b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89040" y="1676520"/>
            <a:ext cx="664056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volcánica (FRV)</a:t>
            </a:r>
            <a:br>
              <a:rPr sz="32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Pg en masa de grano muy fino (centr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Frag. con cxs de qz en matriz de arcilla (?) (derecha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x. individuales de qz y pg.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553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ígnea</a:t>
            </a:r>
            <a:br>
              <a:rPr sz="32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Izq. y centro: FRV básica (pg, px, opacos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Abajo: frag rx plutónicas de grano grueso (pg, fd, px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Dcha: anfíbola</a:t>
            </a:r>
            <a:endParaRPr b="0" lang="en-US" sz="1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7057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Matriz arcillosa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Grauwacka (arenisca con más del 15% de matriz)</a:t>
            </a: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19040" y="1371600"/>
            <a:ext cx="698688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uarzo mono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835280"/>
            <a:ext cx="67053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324480" cy="4303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990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98772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6094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9960" y="4267080"/>
            <a:ext cx="3987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tinción levemente ond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gunas vacuolas y microlitos 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enomórfico (anhed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ípico de gra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44144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47920" y="1488960"/>
            <a:ext cx="6624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808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con inclusiones fluida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12920" y="1447920"/>
            <a:ext cx="6840360" cy="4836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5520" y="380988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87036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Oscuras y formando líneas. Corresponden a gases o líquidos atrapados en minerales.Pueden tener distintas for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5229" t="21470" r="30582" b="16065"/>
          <a:stretch/>
        </p:blipFill>
        <p:spPr>
          <a:xfrm>
            <a:off x="175248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3:31:27Z</dcterms:created>
  <dc:creator>Valentina Flores Aqueveque</dc:creator>
  <dc:description/>
  <dc:language>en-US</dc:language>
  <cp:lastModifiedBy>Kyty</cp:lastModifiedBy>
  <dcterms:modified xsi:type="dcterms:W3CDTF">2007-04-19T21:41:03Z</dcterms:modified>
  <cp:revision>18</cp:revision>
  <dc:subject>Clase 5</dc:subject>
  <dc:title>Rocas siliciclásticas</dc:title>
</cp:coreProperties>
</file>