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6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png" ContentType="image/png"/>
  <Override PartName="/ppt/media/image28.jpeg" ContentType="image/jpeg"/>
  <Override PartName="/ppt/media/image21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6F3F-1976-45CC-9904-FD7EE6F1D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4CA7A-EDE1-4447-B186-71899EF2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978-A50F-4D6C-A98D-9E906244E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17F87-99DA-4A7D-9FC8-FE433312A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4F5B-6B15-4F9F-936F-3A1D3D959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1EF64-6B49-4675-8C8B-BB435A396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A3D08-BFAE-4EC1-8F37-C858C74F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50BE-051A-482A-ABF0-5C7DEE61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7FA29-3920-4B7F-AD10-66EBB0EED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C4DF-8EC0-4E9A-8DF6-8C71373A7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7C1ED-C632-46DE-A5AF-25256DA4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AAFF-5137-4E27-A57A-CDC3FF8D9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736E-3DCF-4D1B-9963-18F698225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26A3-81A5-4C56-BFBF-CD1643F6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2466-914D-4E96-AE3F-15C32A8D8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9C76E-6938-4C6F-8905-596F414D2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7C79E-BD30-4771-B8F0-985078C3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F6E9-9F2D-44E2-8B14-3D8588350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4D9B0-E67C-4E29-8C40-2DC68AE5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C336-58D9-42A0-A7D1-1567BC752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C105-8D57-471A-9B00-46639606C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A94ED-A780-4CAE-AB26-073A89A4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E28-4055-49D9-AD9C-DE55EBF17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70DD-7430-41AB-9C07-C7C24954C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0D194-2639-4E1C-BA7D-07308C21C303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139ED-F58C-4C36-A200-72ECF7D1BA76}" type="slidenum">
              <a:rPr b="0" lang="es-E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523520"/>
            <a:ext cx="68580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482400"/>
                </a:solidFill>
                <a:latin typeface="Times New Roman"/>
              </a:rPr>
              <a:t>ROCAS SILICICLÁSTICAS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esquistos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433520" y="1444680"/>
            <a:ext cx="6796080" cy="48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paralel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447920" y="1812960"/>
            <a:ext cx="6781680" cy="42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59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s-ES_tradnl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0" lang="es-ES_tradnl" sz="3500" spc="-1" strike="noStrike">
                <a:solidFill>
                  <a:srgbClr val="482400"/>
                </a:solidFill>
                <a:latin typeface="Times New Roman"/>
              </a:rPr>
              <a:t>Cuarzo policristalino (nícoles cruzados)</a:t>
            </a:r>
            <a:endParaRPr b="0" lang="en-US" sz="35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600200" y="1828800"/>
            <a:ext cx="6705720" cy="444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800600" y="5334120"/>
            <a:ext cx="403848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15080" y="5432400"/>
            <a:ext cx="39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ontactos suturados (metamórfic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de cuarzo monocristalino y fragmentos de lutita o pizarra (caf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 cizallado</a:t>
            </a:r>
            <a:br>
              <a:rPr sz="4000"/>
            </a:b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371600" y="1371600"/>
            <a:ext cx="7010280" cy="4708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00600" y="5334120"/>
            <a:ext cx="3886200" cy="121896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02120" y="5445000"/>
            <a:ext cx="365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Extinción ondulosa de los cristales individuales producto del strai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6743880" cy="457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724280" y="5029200"/>
            <a:ext cx="4114800" cy="152388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13200" y="511488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uarzo de grano muy fino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matriz con fragmentos subangulosos a suredondeados de cuarzo, chert. Cemento rico en ox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2"/>
          <a:srcRect l="28183" t="21470" r="8536" b="16065"/>
          <a:stretch/>
        </p:blipFill>
        <p:spPr>
          <a:xfrm>
            <a:off x="1697040" y="1371600"/>
            <a:ext cx="6456240" cy="4842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her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62120" y="40644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Plagioclas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1676520" y="1430280"/>
            <a:ext cx="6595920" cy="46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80880"/>
            <a:ext cx="734040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Microclina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362240" y="1295280"/>
            <a:ext cx="701964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82320" y="460080"/>
            <a:ext cx="734076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Ortoclasa (nícoles paralelos)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Alterado, cuarzo no alterado. Relieve &lt; bálsamo</a:t>
            </a:r>
            <a:endParaRPr b="0" lang="en-US" sz="2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600200" y="1676520"/>
            <a:ext cx="678168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82320" y="50796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82400"/>
                </a:solidFill>
                <a:latin typeface="Times New Roman"/>
              </a:rPr>
              <a:t>Ortoclasa </a:t>
            </a:r>
            <a:br>
              <a:rPr sz="3600"/>
            </a:br>
            <a:r>
              <a:rPr b="0" lang="es-ES_tradnl" sz="3000" spc="-1" strike="noStrike">
                <a:solidFill>
                  <a:srgbClr val="482400"/>
                </a:solidFill>
                <a:latin typeface="Times New Roman"/>
              </a:rPr>
              <a:t>(nícoles cruzados)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519200" y="1689120"/>
            <a:ext cx="6862680" cy="46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componentes" descr=""/>
          <p:cNvPicPr/>
          <p:nvPr/>
        </p:nvPicPr>
        <p:blipFill>
          <a:blip r:embed="rId2"/>
          <a:stretch/>
        </p:blipFill>
        <p:spPr>
          <a:xfrm>
            <a:off x="990720" y="1905120"/>
            <a:ext cx="7672320" cy="371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127520" y="606600"/>
            <a:ext cx="297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482400"/>
                </a:solidFill>
                <a:latin typeface="Times New Roman"/>
              </a:rPr>
              <a:t>Componen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512640"/>
            <a:ext cx="786132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Fragmento roca metamórfica (FRM)</a:t>
            </a:r>
            <a:br>
              <a:rPr sz="3000"/>
            </a:br>
            <a:r>
              <a:rPr b="0" lang="en-US" sz="3000" spc="-1" strike="noStrike">
                <a:solidFill>
                  <a:srgbClr val="482400"/>
                </a:solidFill>
                <a:latin typeface="Times New Roman"/>
              </a:rPr>
              <a:t>PIZARRA</a:t>
            </a:r>
            <a:endParaRPr b="0" lang="en-US" sz="3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628640" y="1676520"/>
            <a:ext cx="6677280" cy="47894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66920" y="3429000"/>
            <a:ext cx="4608720" cy="2087640"/>
          </a:xfrm>
          <a:prstGeom prst="ellipse">
            <a:avLst/>
          </a:prstGeom>
          <a:noFill/>
          <a:ln w="38160">
            <a:solidFill>
              <a:srgbClr val="dfd6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82320" y="558720"/>
            <a:ext cx="734076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FRM </a:t>
            </a:r>
            <a:br>
              <a:rPr sz="3200"/>
            </a:br>
            <a:r>
              <a:rPr b="0" lang="en-US" sz="3200" spc="-1" strike="noStrike">
                <a:solidFill>
                  <a:srgbClr val="482400"/>
                </a:solidFill>
                <a:latin typeface="Times New Roman"/>
              </a:rPr>
              <a:t>ESQUISTO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1828800" y="1676520"/>
            <a:ext cx="6300720" cy="44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sedimentaria (FRS)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paralelos)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676520" y="1676520"/>
            <a:ext cx="670536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240" y="996480"/>
            <a:ext cx="891540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S </a:t>
            </a:r>
            <a:br>
              <a:rPr sz="3200"/>
            </a:b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ARENISCA (nícoles cruzados)</a:t>
            </a:r>
            <a:br>
              <a:rPr sz="3200"/>
            </a:b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589040" y="1676520"/>
            <a:ext cx="6640560" cy="44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86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volcánica (FRV)</a:t>
            </a:r>
            <a:br>
              <a:rPr sz="32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Pg en masa de grano muy fino (centro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Frag. con cxs de qz en matriz de arcilla (?) (derecha)</a:t>
            </a:r>
            <a:br>
              <a:rPr sz="2000"/>
            </a:b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Cx. individuales de qz y pg.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1371600" y="1752480"/>
            <a:ext cx="6553080" cy="466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Fragmento roca ígnea</a:t>
            </a:r>
            <a:br>
              <a:rPr sz="32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Izq. y centro: FRV básica (pg, px, opacos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Abajo: frag rx plutónicas de grano grueso (pg, fd, px)</a:t>
            </a:r>
            <a:br>
              <a:rPr sz="1800"/>
            </a:br>
            <a:r>
              <a:rPr b="0" lang="es-ES_tradnl" sz="1800" spc="-1" strike="noStrike">
                <a:solidFill>
                  <a:srgbClr val="482400"/>
                </a:solidFill>
                <a:latin typeface="Times New Roman"/>
              </a:rPr>
              <a:t>Dcha: anfíbola</a:t>
            </a:r>
            <a:endParaRPr b="0" lang="en-US" sz="1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1371600" y="1828800"/>
            <a:ext cx="670572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907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Matriz arcillosa</a:t>
            </a:r>
            <a:br>
              <a:rPr sz="3200"/>
            </a:br>
            <a:r>
              <a:rPr b="0" lang="es-ES_tradnl" sz="2400" spc="-1" strike="noStrike">
                <a:solidFill>
                  <a:srgbClr val="482400"/>
                </a:solidFill>
                <a:latin typeface="Times New Roman"/>
              </a:rPr>
              <a:t>Grauwacka (arenisca con más del 15% de matriz)</a:t>
            </a:r>
            <a:r>
              <a:rPr b="0" lang="es-ES_tradnl" sz="32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319040" y="1371600"/>
            <a:ext cx="6986880" cy="48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12560"/>
            <a:ext cx="7772400" cy="88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482400"/>
                </a:solidFill>
                <a:latin typeface="Times New Roman"/>
              </a:rPr>
              <a:t>Cuarzo mono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1447920" y="1835280"/>
            <a:ext cx="6705360" cy="45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6324480" cy="43034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-990720" y="281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952880" y="398772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62120" y="609480"/>
            <a:ext cx="716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079960" y="4267080"/>
            <a:ext cx="3987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Extinción levemente ondul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Algunas vacuolas y microlitos (?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Xenomórfico (anhedr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Típico de gran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plutó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447920" y="144144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447920" y="1488960"/>
            <a:ext cx="6624360" cy="46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06280" y="221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266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763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82400"/>
                </a:solidFill>
                <a:latin typeface="Times New Roman"/>
              </a:rPr>
              <a:t>Cuarzo volcánic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447920" y="1378080"/>
            <a:ext cx="6781680" cy="479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con inclusiones fluida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12920" y="1447920"/>
            <a:ext cx="6840360" cy="483696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105520" y="3809880"/>
            <a:ext cx="3886200" cy="144792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3870360"/>
            <a:ext cx="358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82400"/>
                </a:solidFill>
                <a:latin typeface="Times New Roman"/>
              </a:rPr>
              <a:t>Oscuras y formando líneas. Corresponden a gases o líquidos atrapados en minerales.Pueden tener distintas form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Cuarzo policristalino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5229" t="21470" r="30582" b="16065"/>
          <a:stretch/>
        </p:blipFill>
        <p:spPr>
          <a:xfrm>
            <a:off x="1752480" y="1523880"/>
            <a:ext cx="617220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6T03:31:27Z</dcterms:created>
  <dc:creator>Valentina Flores Aqueveque</dc:creator>
  <dc:description/>
  <dc:language>en-US</dc:language>
  <cp:lastModifiedBy>Kyty</cp:lastModifiedBy>
  <dcterms:modified xsi:type="dcterms:W3CDTF">2007-04-19T21:41:03Z</dcterms:modified>
  <cp:revision>18</cp:revision>
  <dc:subject>Clase 5</dc:subject>
  <dc:title>Rocas siliciclásticas</dc:title>
</cp:coreProperties>
</file>