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7D5-8E2C-4FD2-BE6C-6A7A8667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940-4A4C-4385-A236-8AEF79DF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91D-B788-4CBD-A1B4-37AA9721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DB0-C81A-411C-AF48-5EB7B251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5811-9929-4718-9BFA-1F172EEC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404A-A217-4E2F-AEC1-01BBD4DB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C5FD-4CC7-44EF-8AD5-E7AD43CB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306C-046E-44DA-B71F-6F2CB537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25A1-EF0C-48AB-90A3-CAF02B94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509E-2BF7-4936-BB2F-5A185A81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A395-DA01-4251-9233-77F260C6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328-ED62-4CDD-A912-C1049CC1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D5E2-F052-4894-9862-28DC1334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6F51-35B6-4918-AAB0-4E3FF70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A45F-6926-4FEC-B5A5-7D4BC292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7017-C854-4BBF-A962-97F7F44A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896C-CA33-4CB9-B75E-5F49A7D1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06A-1035-490F-A4B4-30E83C6A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FAF-2FCC-4F19-8687-F1B03510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316-459B-456B-909D-3A2F87B3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925-6312-4F74-BDAF-4986B7A6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F70-F27E-4ECA-967F-1C753A9E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D3B-525C-4001-86AE-ED1B6D15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CF5-2E13-497B-8CA4-0E11AAB0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0F28-5075-4968-8B70-6B5CFFD2F6AA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EA67-47D2-4109-A5A2-1D23716C36E4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523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82400"/>
                </a:solidFill>
                <a:latin typeface="Times New Roman"/>
              </a:rPr>
              <a:t>ROCAS SILICICLÁSTICA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esquistos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33520" y="1444680"/>
            <a:ext cx="67960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paralel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1812960"/>
            <a:ext cx="67816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cruzad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00600" y="5334120"/>
            <a:ext cx="403848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15080" y="5432400"/>
            <a:ext cx="39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ontactos suturados (metamórfic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de cuarzo monocristalino y fragmentos de lutita o pizarra (caf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 cizallado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010280" cy="470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00600" y="5334120"/>
            <a:ext cx="388620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2120" y="54450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Extinción ondulosa de los cristales individuales producto del s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743880" cy="457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24280" y="5029200"/>
            <a:ext cx="4114800" cy="1523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13200" y="511488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uarzo de grano muy fino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con fragmentos subangulosos a suredondeados de cuarzo, chert. Cemento rico en ox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rcRect l="28183" t="21470" r="8536" b="16065"/>
          <a:stretch/>
        </p:blipFill>
        <p:spPr>
          <a:xfrm>
            <a:off x="1697040" y="1371600"/>
            <a:ext cx="6456240" cy="4842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lagioclas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76520" y="1430280"/>
            <a:ext cx="65959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Microclin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62240" y="1295280"/>
            <a:ext cx="70196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82320" y="460080"/>
            <a:ext cx="73407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Ortoclasa (nícoles paralelos)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Alterado, cuarzo no alterado. Relieve &lt; bálsamo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7816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82320" y="50796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82400"/>
                </a:solidFill>
                <a:latin typeface="Times New Roman"/>
              </a:rPr>
              <a:t>Ortoclasa </a:t>
            </a:r>
            <a:br>
              <a:rPr sz="3600"/>
            </a:br>
            <a:r>
              <a:rPr b="0" lang="es-ES_tradnl" sz="3000" spc="-1" strike="noStrike">
                <a:solidFill>
                  <a:srgbClr val="482400"/>
                </a:solidFill>
                <a:latin typeface="Times New Roman"/>
              </a:rPr>
              <a:t>(nícoles cruzados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19200" y="1689120"/>
            <a:ext cx="6862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mponentes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672320" cy="371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27520" y="606600"/>
            <a:ext cx="29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82400"/>
                </a:solidFill>
                <a:latin typeface="Times New Roman"/>
              </a:rPr>
              <a:t>Compon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8613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Fragmento roca metamórfica (FRM)</a:t>
            </a:r>
            <a:br>
              <a:rPr sz="3000"/>
            </a:b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IZARRA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28640" y="1676520"/>
            <a:ext cx="6677280" cy="4789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66920" y="3429000"/>
            <a:ext cx="4608720" cy="2087640"/>
          </a:xfrm>
          <a:prstGeom prst="ellipse">
            <a:avLst/>
          </a:prstGeom>
          <a:noFill/>
          <a:ln w="38160">
            <a:solidFill>
              <a:srgbClr val="dfd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82320" y="55872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FRM </a:t>
            </a:r>
            <a:br>
              <a:rPr sz="3200"/>
            </a:b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QUIST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630072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sedimentaria (FRS)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paralelos)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670536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6480"/>
            <a:ext cx="891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S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cruzados)</a:t>
            </a:r>
            <a:br>
              <a:rPr sz="3200"/>
            </a:b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89040" y="1676520"/>
            <a:ext cx="664056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volcánica (FRV)</a:t>
            </a:r>
            <a:br>
              <a:rPr sz="32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Pg en masa de grano muy fino (centr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Frag. con cxs de qz en matriz de arcilla (?) (derecha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x. individuales de qz y pg.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553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ígnea</a:t>
            </a:r>
            <a:br>
              <a:rPr sz="32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Izq. y centro: FRV básica (pg, px, opacos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Abajo: frag rx plutónicas de grano grueso (pg, fd, px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Dcha: anfíbola</a:t>
            </a:r>
            <a:endParaRPr b="0" lang="en-US" sz="1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7057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Matriz arcillosa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Grauwacka (arenisca con más del 15% de matriz)</a:t>
            </a: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19040" y="1371600"/>
            <a:ext cx="698688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12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uarzo mono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47920" y="1835280"/>
            <a:ext cx="67053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324480" cy="4303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9907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98772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6094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9960" y="4267080"/>
            <a:ext cx="3987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tinción levemente ond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gunas vacuolas y microlitos 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enomórfico (anhed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ípico de gra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144144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47920" y="1488960"/>
            <a:ext cx="6624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808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con inclusiones fluida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12920" y="1447920"/>
            <a:ext cx="6840360" cy="4836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05520" y="380988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87036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Oscuras y formando líneas. Corresponden a gases o líquidos atrapados en minerales.Pueden tener distintas for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5229" t="21470" r="30582" b="16065"/>
          <a:stretch/>
        </p:blipFill>
        <p:spPr>
          <a:xfrm>
            <a:off x="1752480" y="15238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3:31:27Z</dcterms:created>
  <dc:creator>Valentina Flores Aqueveque</dc:creator>
  <dc:description/>
  <dc:language>en-US</dc:language>
  <cp:lastModifiedBy>Kyty</cp:lastModifiedBy>
  <dcterms:modified xsi:type="dcterms:W3CDTF">2007-04-19T21:41:03Z</dcterms:modified>
  <cp:revision>18</cp:revision>
  <dc:subject>Clase 5</dc:subject>
  <dc:title>Rocas siliciclásticas</dc:title>
</cp:coreProperties>
</file>