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435-4694-4DFD-A1DF-D8EC28E7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98C-E264-44D6-9AA5-2A3D31BC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057-685C-44CD-AC75-A077670A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898-4874-43CD-8A45-87E48A69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CAB-E013-4FE7-9167-23148B9E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4B1-0FC4-4829-908E-B42CD0FA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D68-F3F8-4335-8BF9-0F11EEC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166-05B6-4E0C-A0D4-03CBF894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799-125E-4B31-AE2E-CEBBC42B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E2B-EC9A-4B11-8560-6AA307FC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51E-DA0A-4513-9F40-E784AA8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0FA-1044-407F-AA98-EE5F889B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39F7-48A6-467F-A5B9-F6040CDB7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ó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Epidota </a:t>
            </a: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ot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Unicode MS"/>
              </a:rPr>
              <a:t>Cuarzo (N//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Alteración Propi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Fí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Supérge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</a:rPr>
              <a:t>Alteración Supérge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Cuarzo (N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Plagioclasas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(N//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 Unicode MS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Calc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Feldespato (ortocla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Unicode MS"/>
              </a:rPr>
              <a:t>Feldespato (ortoclas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Unicode MS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Secretaria</cp:lastModifiedBy>
  <dcterms:modified xsi:type="dcterms:W3CDTF">2007-09-03T01:42:18Z</dcterms:modified>
  <cp:revision>11</cp:revision>
  <dc:subject/>
  <dc:title>Alteración Hidrotermal</dc:title>
</cp:coreProperties>
</file>