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A04-88F5-4836-973E-B866084D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FF9-1BD5-42F7-8145-CB9B9DB7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683-CDBB-4449-B9C0-1294FF97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76E-2BC3-4C63-9145-84CFFBAC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D6C-6A5D-4473-BFAD-F935DFD5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8C5-5605-4114-8EDD-93FEE916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AD3-1B23-4F5C-9E03-88020EBE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E64-525E-4F8B-B544-34A4253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779-392C-400E-A859-CEAAD504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C63-0918-45E1-8F9A-0CF5CEB7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39F-FF8F-4247-B8C3-C26807B1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3EC-1C2E-40AF-B49D-34B9FC2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BA0-E2C4-488C-B4A8-C41B23086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528120"/>
            <a:ext cx="7524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eración en Cortes Transparen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71016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emestre primavera 200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Metalogén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6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Epidota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360" y="765000"/>
            <a:ext cx="3968640" cy="293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9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Unicode MS"/>
              </a:rPr>
              <a:t>Cuarzo (N//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Supérge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Supérge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Cuarzo (N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Plagioclasas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(N//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 Unicode MS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411360"/>
            <a:ext cx="5257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189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Calc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Feldespato (ortocla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Feldespato (ortocla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Secretaria</cp:lastModifiedBy>
  <dcterms:modified xsi:type="dcterms:W3CDTF">2007-09-03T01:42:18Z</dcterms:modified>
  <cp:revision>11</cp:revision>
  <dc:subject/>
  <dc:title>Alteración Hidrotermal</dc:title>
</cp:coreProperties>
</file>