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90C-2C3F-4078-83B1-9B776669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2724-7EC6-4B25-AC93-DF423CC3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D42-989B-44B8-9388-F69E3691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365-24FB-44F2-AAE6-0BF43061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076-C18A-42DF-B09B-F95FC66D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64E-10CA-46F4-A219-FB110534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D25-6C19-4FE7-AC83-E89BAD3B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B89-3690-45A5-A720-DFC6FC01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08D-D50C-4BCF-961F-D1920A5B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2B4-4401-4C17-9733-F003B492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7599-3E0F-4F17-8927-62E0C5E1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ACE9-BA9C-435B-9561-7DCB2851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0597-193E-469E-922C-4D78EEDA2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08000" y="528120"/>
            <a:ext cx="7524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lteración en Cortes Transparen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62520" y="3710160"/>
            <a:ext cx="697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Semestre primavera 200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Metalogén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96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Epidota </a:t>
            </a: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3360" y="765000"/>
            <a:ext cx="3968640" cy="2932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1280" y="38178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788000" y="7650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88000" y="3860640"/>
            <a:ext cx="396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ot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ot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Alteración Pot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ot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ropi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ropi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ropi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Unicode MS"/>
              </a:rPr>
              <a:t>Cuarzo (N//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ropi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Supérge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Supérge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</a:rPr>
              <a:t>Cuarzo (N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Plagioclasas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(N//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4000" y="-36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 Unicode MS"/>
              </a:rPr>
              <a:t>Plagioclas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3411360"/>
            <a:ext cx="52578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3640" y="18900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</a:rPr>
              <a:t>Calc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Feldespato (ortoclas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</a:rPr>
              <a:t>Feldespato (ortoclas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Secretaria</cp:lastModifiedBy>
  <dcterms:modified xsi:type="dcterms:W3CDTF">2007-09-03T01:42:18Z</dcterms:modified>
  <cp:revision>11</cp:revision>
  <dc:subject/>
  <dc:title>Alteración Hidrotermal</dc:title>
</cp:coreProperties>
</file>