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A4BE-5688-43BB-A44A-F264E4911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BF78-3C89-4741-B8FD-757229DD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45CD-774B-422E-8167-D04764996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E5D0-B346-4A6A-9021-AEC7DD80B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3F1A-BDCC-445D-A432-423F5F04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4894-99D5-4539-9AE5-EE2D337B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F227-911A-4763-963D-A78C6C78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7FD7-0D04-4D69-A60B-7A22654F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06F5-ED61-499A-8A31-387933CB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CD8A-47E2-4535-9390-C0BB99EA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065F-3BA9-472D-9E1B-CA9314D5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FE6C-9A34-46FF-B420-0B64EAD1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714C-29C1-4797-906D-39FFE1E10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08000" y="528120"/>
            <a:ext cx="7524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Alteración en Cortes Transparent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62520" y="3710160"/>
            <a:ext cx="6971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Times New Roman"/>
              </a:rPr>
              <a:t>Semestre primavera 200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Times New Roman"/>
              </a:rPr>
              <a:t>Metalogéne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Unicode MS"/>
              </a:rPr>
              <a:t>Biot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96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Unicode MS"/>
              </a:rPr>
              <a:t>Biot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Unicode MS"/>
              </a:rPr>
              <a:t>Epidota </a:t>
            </a: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s-ES" sz="4400" spc="-1" strike="noStrike">
                <a:solidFill>
                  <a:srgbClr val="000000"/>
                </a:solidFill>
                <a:latin typeface="Arial Unicode MS"/>
              </a:rPr>
              <a:t>Clor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3360" y="765000"/>
            <a:ext cx="3968640" cy="2932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1280" y="3817800"/>
            <a:ext cx="3960720" cy="2924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788000" y="765000"/>
            <a:ext cx="3960720" cy="2924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788000" y="3860640"/>
            <a:ext cx="3960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Alteración Potás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Alteración Potás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Alteración Potás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Alteración Potás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Alteración Propilí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Alteración Propilí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Alteración Propilí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 Unicode MS"/>
              </a:rPr>
              <a:t>Cuarzo (N//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Alteración Propilí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</a:rPr>
              <a:t>Alteración Fíli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Unicode MS"/>
              </a:rPr>
              <a:t>Alteración Fíli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Unicode MS"/>
              </a:rPr>
              <a:t>Alteración Fíli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Unicode MS"/>
              </a:rPr>
              <a:t>Alteración Fíli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Unicode MS"/>
              </a:rPr>
              <a:t>Alteración Fíli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Unicode MS"/>
              </a:rPr>
              <a:t>Alteración Supérge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Unicode MS"/>
              </a:rPr>
              <a:t>Alteración Supérge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0" y="25992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 Unicode MS"/>
              </a:rPr>
              <a:t>Cuarzo (N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395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Unicode MS"/>
              </a:rPr>
              <a:t>Plagioclasas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 Unicode MS"/>
              </a:rPr>
              <a:t>(N//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64000" y="-360"/>
            <a:ext cx="55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 Unicode MS"/>
              </a:rPr>
              <a:t>Plagioclas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86200" y="3411360"/>
            <a:ext cx="525780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03640" y="18900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 Unicode MS"/>
              </a:rPr>
              <a:t>Calc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Unicode MS"/>
              </a:rPr>
              <a:t>Feldespato (ortoclas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 Unicode MS"/>
              </a:rPr>
              <a:t>Feldespato (ortoclas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Unicode MS"/>
              </a:rPr>
              <a:t>Biot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4:31:41Z</dcterms:created>
  <dc:creator>Natalia Astudillo</dc:creator>
  <dc:description/>
  <dc:language>en-US</dc:language>
  <cp:lastModifiedBy>Secretaria</cp:lastModifiedBy>
  <dcterms:modified xsi:type="dcterms:W3CDTF">2007-09-03T01:42:18Z</dcterms:modified>
  <cp:revision>11</cp:revision>
  <dc:subject/>
  <dc:title>Alteración Hidrotermal</dc:title>
</cp:coreProperties>
</file>