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060-6C93-4192-B0E9-FD328A46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858-8C19-4185-8DE9-85D1F68D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21D-709E-4A5E-8F10-BC609382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8CF-9A10-49A1-A781-E7F020EE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4C87-3FD0-4AF7-B024-555770AE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0ECE-126A-4D7E-AA34-FEA8142D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A7A5-17A5-4A64-B91F-7C5C5DB5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C7B5-A712-4893-BD0A-F566EA7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AE5B-18D5-4562-84F5-C2AF556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79F-2FD5-46EC-9F70-9D7256B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993D-7548-40EF-972F-A6003A0D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174-A4A6-4478-BC92-D5BC6DC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762-CD9C-4A4C-818C-F5D85CC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B4E0-E3F0-425A-A4C3-136810B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BC20-3440-4601-9412-6B8E48BD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FAF-6EC3-4A94-9CE8-F9B2EE8C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0476-3693-42A2-9FC9-2B77BBF8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605-66C6-4BFC-AB26-14C3CB67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2A2-3CCA-461C-B2D7-231249C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87E-9AB1-46BD-BDD0-F7F9F2FB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D56-DE0D-445D-B30B-FBDF1B3D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478-3BB0-4EF0-909B-EB0DE16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48B-08B8-49EE-9E14-4926A65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A90-CAF9-435F-9340-E72EF785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7673-19B7-4028-B6EB-B5629C3FEF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5906-93FA-46B3-94EF-7E0188B0C7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999900"/>
                </a:solidFill>
                <a:latin typeface="Garamond"/>
              </a:rPr>
              <a:t>Alteración Supérgena, Enriquecimiento Secundario y Depósitos Exótico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076640"/>
            <a:ext cx="6400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Auxiliar Metalogén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. Carolina S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imavera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gunas característ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ización de cobre como cemento de gravas aluviales y, en menor grado, recubriendo los planos de fracturas de las rocas bas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eden presentar zonación de alteración y mineralización que depende de la reactividad de las rocas basales y de la razón Cu/Fe/S del depósito fuen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52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ndes Depósi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200.000 a 3.50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ósitos Median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60.000 a 40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ósitos pequeñ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0 a 1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84720" y="0"/>
          <a:ext cx="2411640" cy="74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0"/>
                    <a:ext cx="241164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348000" y="6165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ünchmeyer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Depósitos Exótico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ch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agas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 Plan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ebrada Blan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Huinquinti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Uj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chu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ga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Radomiro To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ó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Teso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ami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Exótica            v/s             Damia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ósito madre: Chuquicam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erpo Lentic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ineralización exótica en gra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urrimiento intermitente de soluciones ácidas con cob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. madre: El Salv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erpo mantifor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curre en un 90% en rocas volcanoclásticas andesí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urrimiento de soluciones favorecido por sistema estructu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Referenci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ünchmeyer, C., 1994. Los Depósitos Exóticos: Productos de Migración Lateral Asociada a Sistemas Porfíricos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º Congreso Geológico Chileno, Concepción. Actas Volumen II, pag. 1602-160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ünchmeyer, C., 1996. Exotic Deposits – Products of Lateral Migration of Supergene Solutions From Porphyry Copper Deposits. Society of Economic Geologists, Special Publication Number 5, pp.43-5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illitoe, R. And McKee, E., 1996 Age of Supergene Oxidation and Enrichment in the Chilean Porphyry Copper Province. Economic Geology, v. 91, pp 164-17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e, T., Becker, T., Renne, P. and Brimhall, G., 2001. Chronology of Exotic Mineralization at El Salvador, Chile, by 40Ar/39Ar Dating of Copper Wad and Supergene Alunite. Economic Geology, vol. 96, pp. 351-36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unte Metalogénesis: Víctor Maksaev, Brian Town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Pórfidos Cuprífer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pósitos de gran tonelaje y baja 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origen magmático-hidrot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acción fluido-roca genera zonación de alteración hidrot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ización primaria: sulfuros de Fe y C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Procesos de Alteración Supérge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a mayor parte de los pórfidos cupríferos no son económicos a menos que hayan desarrollado enriquecimiento secundario o supérge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equilibrio de la mineralogía primaria a las condiciones oxidantes sobre el nivel freático (implica procesos de erosión, exhumación y meteoriza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xidación de sulfuros libera cationes metálicos y aniones sulf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eden ser redepositados cuando reaccionan con iones carbonato, silicato, sulfato o sulfu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19280" y="2579760"/>
            <a:ext cx="6227640" cy="4278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0"/>
            <a:ext cx="79912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rebuchet MS"/>
              </a:rPr>
              <a:t>Precipitación bajo en nivel de agua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ubterráneas → Enriquecimiento secundario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(calcosina, cove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060640"/>
            <a:ext cx="6264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rebuchet MS"/>
              </a:rPr>
              <a:t>Precipitación sobre nivel freátic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es oxidados de Cu         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malaquita, crisocola,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acam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7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¿Qué es un depósito de Cu exótico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es oxidados de Cu, (silicatos, cloruros, óxidos y carbonatos), depositados en gravas y en la roca de caja subyacente por soluciones derivadas desde los depósitos de pórfidos cupríferos (Münchmeyer, 1996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lejo sistema que reúne procesos como el ESE, transporte lateral del Cu y precipitación de minerales (Mote et al, 200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ig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cionado con procesos de oxidación y enriquecimiento secundario en pórfidos cupríf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onente horizontal de movimiento de solucion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migración lateral de soluciones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      cargadas de elementos metá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Depositación a cierta distancia de la fuente: </a:t>
            </a:r>
            <a:r>
              <a:rPr b="0" lang="en-US" sz="2800" spc="-1" strike="noStrike">
                <a:solidFill>
                  <a:srgbClr val="800080"/>
                </a:solidFill>
                <a:latin typeface="Trebuchet MS"/>
                <a:ea typeface="Arial"/>
              </a:rPr>
              <a:t>depósitos de Cu tipo Exótico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692280"/>
          <a:ext cx="72504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72504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94036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Münchmeyer,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25360"/>
            <a:ext cx="79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01080" y="119700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cesos de oxidación y enriquecimiento supérgeno en Chile: activos desde el Oligoceno temprano al Mioceno medio (34-14 Ma)(Sillitoe &amp; McKee, 199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6600"/>
                </a:solidFill>
                <a:latin typeface="Trebuchet MS"/>
              </a:rPr>
              <a:t>Importante alteración sericítica rica en Py, responsable de gran parte de la lixiviación y  enriquecimiento secundario de Cu en estos 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Algunos depósitos hospedados totalmente por gra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6600"/>
                </a:solidFill>
                <a:latin typeface="Trebuchet MS"/>
              </a:rPr>
              <a:t>Actividad supérgena habría cesado con el comienzo del período de hiperaridez, aproximadamente a los 14 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1:31:34Z</dcterms:created>
  <dc:creator>PREGRADO10</dc:creator>
  <dc:description/>
  <dc:language>en-US</dc:language>
  <cp:lastModifiedBy>GeoDell1</cp:lastModifiedBy>
  <dcterms:modified xsi:type="dcterms:W3CDTF">2007-08-20T19:10:37Z</dcterms:modified>
  <cp:revision>9</cp:revision>
  <dc:subject/>
  <dc:title>Depósitos de Cu exóticos y su relación con pórfidos cupríferos</dc:title>
</cp:coreProperties>
</file>