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56E0-55AE-4472-81A8-912B80A62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E0AE-C47A-41E4-BA18-F4B9467A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94FD-911F-4DA2-B0A0-E0F918E5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1763-96EB-4107-88D2-696A87355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6369-FFD9-4376-BBAB-8A0B1679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4396-FDAC-48E1-A580-D317A905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6F78-38FC-475B-8469-04DA524E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9098-5AE9-4C67-B598-886EB6B9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C8FD-AA94-4F79-812A-AF67122F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BCF8-39AF-4720-B752-A04E2C75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3DD0-C0DB-47C1-B5A4-BB7322E4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EFB5-5989-4A63-A059-6ED2DA8A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6ECF-C39B-48C6-857A-232B53C5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87D4-C00F-4BE6-92C6-20121540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6B6B-0A1F-42F4-B3B9-575241BC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2135-8CAC-4AE5-BB23-0B7E610A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EF66-141A-4926-819F-BC78BC6C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EC2F-4D24-49C9-A096-8C2300A5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2314-54FC-4EE0-A25C-6CD3E712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66BC-1801-4BB1-BE9F-06008601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B748-7D10-4428-B88E-DEB81C84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B099-3D45-46DD-A359-9297EBCA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35AC-4B2B-47C4-957C-73464AED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F74B-4618-4C8B-BBCE-7CEA5785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72DF-4636-4B55-8606-AD6574048FD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459B-81C8-42FD-8A24-5C672DF82F7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200" spc="-1" strike="noStrike">
                <a:solidFill>
                  <a:srgbClr val="999900"/>
                </a:solidFill>
                <a:latin typeface="Garamond"/>
              </a:rPr>
              <a:t>Alteración Supérgena, Enriquecimiento Secundario y Depósitos Exóticos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32000" y="4076640"/>
            <a:ext cx="6400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Auxiliar Metalogéne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M. Carolina So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rimavera 200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lgunas característ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ineralización de cobre como cemento de gravas aluviales y, en menor grado, recubriendo los planos de fracturas de las rocas bas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ueden presentar zonación de alteración y mineralización que depende de la reactividad de las rocas basales y de la razón Cu/Fe/S del depósito fuent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5256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randes Depósi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.200.000 a 3.500.000 ton Cu fi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pósitos Median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60.000 a 400.000 ton Cu fi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pósitos pequeñ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00 a 10.000 ton Cu fi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084720" y="0"/>
          <a:ext cx="2411640" cy="741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0"/>
                    <a:ext cx="2411640" cy="74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3348000" y="6165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ünchmeyer,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9900"/>
                </a:solidFill>
                <a:latin typeface="Garamond"/>
              </a:rPr>
              <a:t>Depósitos Exóticos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och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Sagas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a Plana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Quebrada Blan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Huinquintip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Uj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Ichu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agar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Radomiro Tom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xót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l Teso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Damia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9900"/>
                </a:solidFill>
                <a:latin typeface="Garamond"/>
              </a:rPr>
              <a:t>Exótica            v/s             Damian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Depósito madre: Chuquicam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erpo Lenticu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ineralización exótica en grav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scurrimiento intermitente de soluciones ácidas con cob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2920" y="184428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Dep. madre: El Salv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erpo mantifor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Ocurre en un 90% en rocas volcanoclásticas andesít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scurrimiento de soluciones favorecido por sistema estructur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9900"/>
                </a:solidFill>
                <a:latin typeface="Garamond"/>
              </a:rPr>
              <a:t>Referenci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Münchmeyer, C., 1994. Los Depósitos Exóticos: Productos de Migración Lateral Asociada a Sistemas Porfíricos.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7º Congreso Geológico Chileno, Concepción. Actas Volumen II, pag. 1602-1606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Münchmeyer, C., 1996. Exotic Deposits – Products of Lateral Migration of Supergene Solutions From Porphyry Copper Deposits. Society of Economic Geologists, Special Publication Number 5, pp.43-58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Sillitoe, R. And McKee, E., 1996 Age of Supergene Oxidation and Enrichment in the Chilean Porphyry Copper Province. Economic Geology, v. 91, pp 164-179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ote, T., Becker, T., Renne, P. and Brimhall, G., 2001. Chronology of Exotic Mineralization at El Salvador, Chile, by 40Ar/39Ar Dating of Copper Wad and Supergene Alunite. Economic Geology, vol. 96, pp. 351-366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punte Metalogénesis: Víctor Maksaev, Brian Townl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9900"/>
                </a:solidFill>
                <a:latin typeface="Garamond"/>
              </a:rPr>
              <a:t>Pórfidos Cuprífer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pósitos de gran tonelaje y baja 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 origen magmático-hidroterm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teracción fluido-roca genera zonación de alteración hidroterm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ineralización primaria: sulfuros de Fe y C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9900"/>
                </a:solidFill>
                <a:latin typeface="Garamond"/>
              </a:rPr>
              <a:t>Procesos de Alteración Supérgen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La mayor parte de los pórfidos cupríferos no son económicos a menos que hayan desarrollado enriquecimiento secundario o supérgen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Reequilibrio de la mineralogía primaria a las condiciones oxidantes sobre el nivel freático (implica procesos de erosión, exhumación y meteorizació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Oxidación de sulfuros libera cationes metálicos y aniones sulfa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ueden ser redepositados cuando reaccionan con iones carbonato, silicato, sulfato o sulfu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619280" y="2579760"/>
            <a:ext cx="6227640" cy="4278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4360" y="0"/>
            <a:ext cx="799128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rebuchet MS"/>
              </a:rPr>
              <a:t>Precipitación bajo en nivel de aguas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subterráneas → Enriquecimiento secundario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  (calcosina, coveli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060640"/>
            <a:ext cx="6264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rebuchet MS"/>
              </a:rPr>
              <a:t>Precipitación sobre nivel freático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inerales oxidados de Cu            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malaquita, crisocola,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tacam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49780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9900"/>
                </a:solidFill>
                <a:latin typeface="Garamond"/>
              </a:rPr>
              <a:t>¿Qué es un depósito de Cu exótico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inerales oxidados de Cu, (silicatos, cloruros, óxidos y carbonatos), depositados en gravas y en la roca de caja subyacente por soluciones derivadas desde los depósitos de pórfidos cupríferos (Münchmeyer, 1996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plejo sistema que reúne procesos como el ESE, transporte lateral del Cu y precipitación de minerales (Mote et al, 2001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ig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lacionado con procesos de oxidación y enriquecimiento secundario en pórfidos cuprífer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ponente horizontal de movimiento de solucion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migración lateral de soluciones 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      cargadas de elementos metálic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Depositación a cierta distancia de la fuente: </a:t>
            </a:r>
            <a:r>
              <a:rPr b="0" lang="en-US" sz="2800" spc="-1" strike="noStrike">
                <a:solidFill>
                  <a:srgbClr val="800080"/>
                </a:solidFill>
                <a:latin typeface="Trebuchet MS"/>
                <a:ea typeface="Arial"/>
              </a:rPr>
              <a:t>depósitos de Cu tipo Exóticos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00000" y="692280"/>
          <a:ext cx="725040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692280"/>
                    <a:ext cx="725040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940360" y="6165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(Münchmeyer, 199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125360"/>
            <a:ext cx="792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101080" y="1197000"/>
            <a:ext cx="647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Procesos de oxidación y enriquecimiento supérgeno en Chile: activos desde el Oligoceno temprano al Mioceno medio (34-14 Ma)(Sillitoe &amp; McKee, 1996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6600"/>
                </a:solidFill>
                <a:latin typeface="Trebuchet MS"/>
              </a:rPr>
              <a:t>Importante alteración sericítica rica en Py, responsable de gran parte de la lixiviación y  enriquecimiento secundario de Cu en estos sistem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Algunos depósitos hospedados totalmente por grav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6600"/>
                </a:solidFill>
                <a:latin typeface="Trebuchet MS"/>
              </a:rPr>
              <a:t>Actividad supérgena habría cesado con el comienzo del período de hiperaridez, aproximadamente a los 14 M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21:31:34Z</dcterms:created>
  <dc:creator>PREGRADO10</dc:creator>
  <dc:description/>
  <dc:language>en-US</dc:language>
  <cp:lastModifiedBy>GeoDell1</cp:lastModifiedBy>
  <dcterms:modified xsi:type="dcterms:W3CDTF">2007-08-20T19:10:37Z</dcterms:modified>
  <cp:revision>9</cp:revision>
  <dc:subject/>
  <dc:title>Depósitos de Cu exóticos y su relación con pórfidos cupríferos</dc:title>
</cp:coreProperties>
</file>