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037-752D-4823-80AC-74B2C9B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964-D61B-4ABC-B4BE-342BB3A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80E-5B3F-4845-BF13-46666E4B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950-33DC-4C90-BADB-A30604D1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8B54-78A7-4C46-8570-55EDDE84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F58-53AA-4025-BD8C-710E1BC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4FBA-CD13-4283-BA1D-EF064B0B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1958-132F-4688-80D9-4D9018DC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550B-75A1-49A9-BC93-EEC2B54A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3B98-7D51-4A83-8C45-4E2505C4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CF4-D07F-4AD0-8CD5-3061971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25A-E664-412A-BE8E-BAF9942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ECA8-8C02-48A9-9BEA-2C3CA13E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D48-E4B4-47AC-9636-1C8D146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DF3-EC07-4740-845B-45547C4B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DC62-E555-4A7C-B8E1-12320302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A53F-1259-41C0-96D9-9FE30FCF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6AD-2E29-4480-83C1-ED1A249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A5D-0795-4100-AB2B-1FADF1D2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85B-F7E4-4F34-AB3F-62A6DA4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78E-117B-440D-9455-A9EDC9C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CCF-51FF-4903-93B3-C9F7400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6ED-1B1B-4E9E-BC3C-8246797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D63-6160-4FB7-8A47-8EA69B6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57E7-0D95-4603-8A96-31CB083214A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1FB-02A3-4E57-9408-5CD6ACD5C3E6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aeaea"/>
                </a:solidFill>
                <a:latin typeface="Verdana"/>
              </a:rPr>
              <a:t>Primavera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Odin the Great</cp:lastModifiedBy>
  <dcterms:modified xsi:type="dcterms:W3CDTF">2007-08-13T21:00:01Z</dcterms:modified>
  <cp:revision>3</cp:revision>
  <dc:subject/>
  <dc:title>Pórfidos Cupríferos</dc:title>
</cp:coreProperties>
</file>