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wmf" ContentType="image/x-wmf"/>
  <Override PartName="/ppt/media/image3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7F44-C6E9-4C56-ABBC-F6B42D0A3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29AA-1507-4244-ADC7-FF2E48B8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7BC4-9778-48D3-A0AD-55AE39477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B599-8EF3-47CC-94B3-614BCCF4F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D0F99-0693-4A23-B07F-40FE8E138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88242-7FCC-41E9-8818-2FD04A034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463C0-C9E7-4F89-BAAB-EC65B613F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FD4BE-ADD3-472F-92AB-57BB55651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89A33-7E54-4DE5-AA4E-5B81AC14A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6C22A-DFCF-4C44-9593-9B609427D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6C259-BDAF-4315-B761-5925DE37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9643-89D2-4597-8D20-4840FBBE3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98900-B9FB-43C1-9221-191C3FB6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23D30-65A6-4CDA-B5F4-6ED4A83F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4332F-ACB0-4E0A-8FE0-44CB902CE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4FA6E-1B34-42A0-8E92-747640836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8B485-3FFA-438D-9E74-90A40E825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F857-CA2C-4580-B181-34F4FF69F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6210-B982-43D6-849D-9C421BE60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0325-C09F-4E85-9AE2-244810018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A28A-3E11-435A-B5CB-DECD0A7A8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539D-58B1-4FCF-9DF6-7B5F8A1A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1FDF-3C42-4AB1-B36F-34136305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DE22-C683-4D59-B34F-009AD3FD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B66A6-4DD0-4B78-A834-CC2873632BAB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C591A-E125-4B83-BD8B-1D06C116C0AE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Pórfidos Cupríferos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eaeaea"/>
                </a:solidFill>
                <a:latin typeface="Verdana"/>
              </a:rPr>
              <a:t>Auxiliar Metalogénesi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eaeaea"/>
                </a:solidFill>
                <a:latin typeface="Verdana"/>
              </a:rPr>
              <a:t>Primavera</a:t>
            </a:r>
            <a:r>
              <a:rPr b="0" lang="es-ES" sz="3600" spc="-1" strike="noStrike">
                <a:solidFill>
                  <a:srgbClr val="eaeaea"/>
                </a:solidFill>
                <a:latin typeface="Verdana"/>
              </a:rPr>
              <a:t> 2007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curren asociados a sistemas estructurale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(Ej. Zona de Falla de Atacama: Chuqui, RT, Mina Sur, MM, El Abra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En general no ocurren solos </a:t>
            </a:r>
            <a:r>
              <a:rPr b="0" lang="es-ES" sz="3200" spc="-1" strike="noStrike">
                <a:solidFill>
                  <a:srgbClr val="eec85e"/>
                </a:solidFill>
                <a:latin typeface="Verdana"/>
              </a:rPr>
              <a:t>(CLUSTER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88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580000" y="692280"/>
            <a:ext cx="3384720" cy="45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eec85e"/>
                </a:solidFill>
                <a:latin typeface="Verdana"/>
              </a:rPr>
              <a:t>Cr-inf: Andacollo, Domeyko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eec85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ec85e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eec85e"/>
                </a:solidFill>
                <a:latin typeface="Verdana"/>
              </a:rPr>
              <a:t>Paleoceno-Eoceno Inf: Cerro Colorado, Lomas Bayas, Spence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eec85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ec85e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eec85e"/>
                </a:solidFill>
                <a:latin typeface="Verdana"/>
              </a:rPr>
              <a:t>Eoceno Sup- Oligoceno Inf: Qda. Blanca, Rosario, Ujina, El Abra, RT, Chuquicamata, La Escondida, El Salvador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eec85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ec85e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eec85e"/>
                </a:solidFill>
                <a:latin typeface="Verdana"/>
              </a:rPr>
              <a:t>Mioceno sup-plioceno: Los Pelambres, Río Blanco, Los Bronces, El Teniente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Zonación de Alteración y mineralizació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ineralización principalmente diseminada y en vetilla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ineralización primaria: Py, Cpy, B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úcleo de baja ley con Py, que grada hacia fuera en una zona de men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odelo de alteración y mineralización de Lowell y Guilbert, 1970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3332160" cy="37162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843280" y="3618000"/>
            <a:ext cx="3311280" cy="3240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5651640" y="0"/>
            <a:ext cx="32382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Distribución de sulfuros hipógeno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741320" y="1773360"/>
            <a:ext cx="5659560" cy="41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Alteración Supérgena y Enriquecimiento Secundario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Proceso de reequilibrio de la mineralogía hipógena (hidrotermal) a las condiciones oxidantes cerca de la superfici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La mayor parte de los pórfidos cupríferos no son económicos a menos que hayan desarrollado enriquecimiento secundario o supérgeno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692360" y="1100160"/>
            <a:ext cx="5757840" cy="57578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84360" y="33336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erfil de Enriquecimiento Secundari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¿Qué es un pórfido cuprífero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Yacimiento de mena de Cu-(Mo-Au) de origen hidroterma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De alto tonelaje y baja le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Genéticamente relacionados a complejos intrusivo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53964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ás del 50% de la producción de Cu mundial proviene de este tipo de depósito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hile: 16 pórfidos cupríferos en explotació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lgunos de los más grandes del mundo: Chuquicamata y El Tenient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39640" y="980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Rocas de caja intruídas por los pórfidos pueden ser de cualquier tipo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ineralización primaria constituida por sulfuros en forma diseminada y en vetilla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Zonación de alteración hidrotermal alrededor del intrusivo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Génesi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6868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rigen magmático hidrotermal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mbiente típico: Arcos magmáticos relacionados a subducción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258920" y="2565360"/>
            <a:ext cx="648180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ocas calco-alcalinas (típicas de ambiente de subducción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619280" y="2133720"/>
            <a:ext cx="5977080" cy="4484520"/>
            <a:chOff x="1619280" y="2133720"/>
            <a:chExt cx="5977080" cy="4484520"/>
          </a:xfrm>
        </p:grpSpPr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1619280" y="2133720"/>
              <a:ext cx="5977080" cy="448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2906640" y="2363040"/>
              <a:ext cx="1843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89280" y="3827880"/>
              <a:ext cx="18468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07080" y="5501880"/>
              <a:ext cx="1843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La formación de estos depósitos incluye un mecanismo llamado 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SEGUNDA EBULLICIÓN o EBULLICIÓN RETRÓGRADA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enera hidrofracturamient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539640" y="4724280"/>
            <a:ext cx="1584360" cy="649440"/>
          </a:xfrm>
          <a:prstGeom prst="rightArrow">
            <a:avLst>
              <a:gd name="adj1" fmla="val 50000"/>
              <a:gd name="adj2" fmla="val 60989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627280" y="472428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ec85e"/>
                </a:solidFill>
                <a:latin typeface="Verdana"/>
              </a:rPr>
              <a:t>Stockwork, brechizació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439272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219640" y="1125360"/>
            <a:ext cx="3313080" cy="54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irculación de aguas magmáticas hidrotermal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nfriamiento del sistema producto de la circulación de aguas subterráneas (celdas convectivas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omplejos iónicos desestabilizan y precipitan sulfuros metálico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n Chil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Son principalmente de Cu-M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lgunos tienen Au (Potrerillos, El Salvador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sociados a rocas calco-alcalinas de composición variable, generalmente intrusivos granodioríticos y tonalítico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6T08:24:25Z</dcterms:created>
  <dc:creator>marisoto</dc:creator>
  <dc:description/>
  <dc:language>en-US</dc:language>
  <cp:lastModifiedBy>Odin the Great</cp:lastModifiedBy>
  <dcterms:modified xsi:type="dcterms:W3CDTF">2007-08-13T21:00:01Z</dcterms:modified>
  <cp:revision>3</cp:revision>
  <dc:subject/>
  <dc:title>Pórfidos Cupríferos</dc:title>
</cp:coreProperties>
</file>