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BE9-6624-4F78-9CF3-623BA988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E849-5588-4958-9A63-6EC6751B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990-F63A-48B1-974E-A553748F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FA9-765D-4EDE-8AC0-72E5B245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6913-126E-4D86-A7D4-8BFC2B96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31BD-431B-4ADA-A174-A52F5EC1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9406-E7DB-449E-8AB2-6327ACA5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7835-09E4-461F-BB55-F73B9CB3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25FA-66BB-478A-8BE3-427B937C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CC4D-337E-434C-98A2-24FFE8EF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4FEF-96CF-4172-8BA1-CC7DA602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E4A-C8D8-4507-B513-3773B403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A0D8-4EE5-4CC0-A88E-3E0F7143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1D71-5109-434B-991E-44A8EFBE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7202-C32B-4FE1-9A8D-2D0C7BF2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9144-147A-4D78-94A5-E1025CF4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EDD0-B69F-4699-BCA9-084AD205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936-DF24-4512-B4B5-BBBB7F27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D3E-3595-4B19-9D94-1F963274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53A-FF4A-4545-9EE7-9F5E77C7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ECB-8DDB-49A7-B8B0-C5B1A780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D20-AC30-4577-A45E-843009DE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588-38B1-43FB-9360-F5D4B2E3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5E4-1ACB-4BDE-9433-60791525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E855-BD1D-47B2-B4A8-C3F4B56FD2C2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2FF1-8842-4052-93F0-38C8DDCCAD21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Pórfidos Cuprífero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Auxiliar Metalogénesi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aeaea"/>
                </a:solidFill>
                <a:latin typeface="Verdana"/>
              </a:rPr>
              <a:t>Primavera</a:t>
            </a: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 200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curren asociados a sistemas estructural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(Ej. Zona de Falla de Atacama: Chuqui, RT, Mina Sur, MM, El Abr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general no ocurren solos </a:t>
            </a: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(CLUSTE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692280"/>
            <a:ext cx="338472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Cr-inf: Andacollo, Domeyk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Paleoceno-Eoceno Inf: Cerro Colorado, Lomas Bayas, Spenc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Eoceno Sup- Oligoceno Inf: Qda. Blanca, Rosario, Ujina, El Abra, RT, Chuquicamata, La Escondida, El Salvado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Mioceno sup-plioceno: Los Pelambres, Río Blanco, Los Bronces, El Tenient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Zonación de Alteración y mineraliz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ncipalmente diseminada y en vetill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maria: Py, Cpy, B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úcleo de baja ley con Py, que grada hacia fuera en una zona de men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odelo de alteración y mineralización de Lowell y Guilbert, 1970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332160" cy="3716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843280" y="3618000"/>
            <a:ext cx="3311280" cy="324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651640" y="0"/>
            <a:ext cx="3238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istribución de sulfuros hipóge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41320" y="1773360"/>
            <a:ext cx="56595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lteración Supérgena y Enriquecimiento Secundari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Proceso de reequilibrio de la mineralogía hipógena (hidrotermal) a las condiciones oxidantes cerca de la superfici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 mayor parte de los pórfidos cupríferos no son económicos a menos que hayan desarrollado enriquecimiento secundario o supérgen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1100160"/>
            <a:ext cx="5757840" cy="5757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rfil de Enriquecimiento Secundar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¿Qué es un pórfido cuprífero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Yacimiento de mena de Cu-(Mo-Au) de origen hidrote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De alto tonelaje y baja le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néticamente relacionados a complejos intrusiv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ás del 50% de la producción de Cu mundial proviene de este tipo de depósit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hile: 16 pórfidos cupríferos en explot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de los más grandes del mundo: Chuquicamata y El Tenie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Rocas de caja intruídas por los pórfidos pueden ser de cualquier tip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ineralización primaria constituida por sulfuros en forma diseminada y en vetill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Zonación de alteración hidrotermal alrededor del intrusiv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gen magmático hidroterm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mbiente típico: Arcos magmáticos relacionados a subduc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4818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cas calco-alcalinas (típicas de ambiente de subducció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619280" y="2133720"/>
            <a:ext cx="5977080" cy="4484520"/>
            <a:chOff x="1619280" y="2133720"/>
            <a:chExt cx="5977080" cy="448452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619280" y="2133720"/>
              <a:ext cx="5977080" cy="44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906640" y="236304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89280" y="3827880"/>
              <a:ext cx="1846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7080" y="550188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a formación de estos depósitos incluye un mecanismo llamado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EGUNDA EBULLICIÓN o EBULLICIÓN RETRÓGRAD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nera hidrofracturamien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724280"/>
            <a:ext cx="1584360" cy="649440"/>
          </a:xfrm>
          <a:prstGeom prst="rightArrow">
            <a:avLst>
              <a:gd name="adj1" fmla="val 50000"/>
              <a:gd name="adj2" fmla="val 609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4724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Stockwork, brechiz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3927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19640" y="1125360"/>
            <a:ext cx="33130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irculación de aguas magmáticas hidroterma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friamiento del sistema producto de la circulación de aguas subterráneas (celdas convectiva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plejos iónicos desestabilizan y precipitan sulfuros metálic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 Chi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n principalmente de Cu-M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tienen Au (Potrerillos, El Salvado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sociados a rocas calco-alcalinas de composición variable, generalmente intrusivos granodioríticos y tonalític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8:24:25Z</dcterms:created>
  <dc:creator>marisoto</dc:creator>
  <dc:description/>
  <dc:language>en-US</dc:language>
  <cp:lastModifiedBy>Odin the Great</cp:lastModifiedBy>
  <dcterms:modified xsi:type="dcterms:W3CDTF">2007-08-13T21:00:01Z</dcterms:modified>
  <cp:revision>3</cp:revision>
  <dc:subject/>
  <dc:title>Pórfidos Cupríferos</dc:title>
</cp:coreProperties>
</file>