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CC5-F02F-4F4A-A223-DFB8919B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3B9-81E2-4EC6-B36E-C22B0A8F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5C96-AD8D-4720-BB2C-2B38FAB0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EB4-149D-4D54-9BED-D833E506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CA8D-6635-40DC-9A63-5C8B3550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2A47-9C9A-40C5-9EAA-AFEF9EF9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0294-1A29-4626-A178-78711911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9944-0A9D-4650-954D-3E4DCA25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C196-6519-4B6F-AC52-09501047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DDB7-FDE8-4A38-988A-3909D076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0729-9AD0-4305-B274-C55CB87A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7DA-C864-4D4B-99D3-8D27F80A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2A78-883A-48E7-9A51-881FF94D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645C-E04F-4710-A5CF-F1B38459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0E2C-4451-49FF-85F0-52787CB0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EA88-477E-42E7-AD87-2B4CA29C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CF21-7E13-4C41-B00E-DDC5352B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F973-0824-42E1-87EE-8F644F3F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142-D8C8-46CB-B606-C706CB10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57F-5226-468E-A447-31840F68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E0D-658D-4ABB-ACAC-D292892E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100D-C73C-4DF4-8397-714ED884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5FD-5C84-462A-8685-205E6029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A3A-FFB5-4CC6-B8CD-6CC44343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B376-8030-4F91-8FDE-3DC0957C4D4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5461-50CA-4E77-83AF-BBD5BA2B144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Alteración Hidroterm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lase Auxiliar N°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etalogén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07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Arial"/>
              </a:rPr>
              <a:t>Albitización: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asociado con alteración propilítica de alta temperatura, ocurre por lo general como reemplazo selectivo de plagioclasas junto con actinoli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Arial"/>
              </a:rPr>
              <a:t>Alteración cuarzo-sericita: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principalmente cuarzo y sericita con mxs. accesorios como clorita, illita y pi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T° entre 100 y 250°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pH entre 5 y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40388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Arial"/>
              </a:rPr>
              <a:t>Alteración argílica moderada: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caracterizada principalmente por arcillas y mayor o menor cuarz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T° entre 150 y 300°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pH entre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03884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Arial"/>
              </a:rPr>
              <a:t>Alteración argílica avanzada: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principalmente cuarzo residual (cuarzo oqueroso o “vuggy silica”) con o sin presencia de alunita, jarosita, caolín y pi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Amplio rango de T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pH entre 1 y 3.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40384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Arial"/>
              </a:rPr>
              <a:t>Alteración carbonatada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caracterizada por calcita, dolomita, con mayor o menor sericita, pirita y/o alb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 amplio rango de T° y p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Arial"/>
              </a:rPr>
              <a:t>Alteración calcosilicatada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silicatos de Ca y Mg dependiendo de la roca huésped, caliza o dolom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 condiciones de pH neutro a alcalino a distintos rangos de T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13200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4000" y="2708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ndiciones de pH y T° de los distintos tipos de alter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Concep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Fluido hidrotermal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idos calientes, generalmente dominados por agua, a veces ácidos, que pueden transportar metales y otros compuestos en solución al lugar de  depositación o producir alteración de la roca de caj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Alteración hidrotermal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o de la mineralogía de la roca huésped como una reacción química con soluciones hidrotermales. Por Ej., minerales máficos como hornblenda o biotita pueden alterarse a clorita y los feldespatos alterarse a arcilla por efecto de la circulación de fluidos calientes por las fracturas de las ro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777000" cy="2901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4114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curre a través de: </a:t>
            </a: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transformación de fases minerales, crecimiento de nuevo minerales, disolución de minerales y/o precipitación, reacciones de intercambio iónico entre los minerales de la roca y el flui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fectos de hidrotermalismo evidenciados en asociaciones de minerales de alteración y de me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os distintos tipos de alteración e intensidad dependen de factores como </a:t>
            </a:r>
            <a:r>
              <a:rPr b="0" lang="es-MX" sz="2800" spc="-1" strike="noStrike">
                <a:solidFill>
                  <a:srgbClr val="000066"/>
                </a:solidFill>
                <a:latin typeface="Arial"/>
              </a:rPr>
              <a:t>la composición del fluido hidrotermal, composición de la roca huésped, temperatura, pH, razón agua/roca, tiempo de interacción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653000"/>
            <a:ext cx="80643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c0a00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0c0a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c0a00"/>
                </a:solidFill>
                <a:latin typeface="Tahoma"/>
              </a:rPr>
              <a:t>Asociación mineralógica estable bajo nuevas condiciones hidrotermales de temperatura, presión y composición de flu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irculación de fluidos en rocas permeable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presencia de fisuras o poros interconec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actor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b5481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-TEMPERATURA: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ás caliente &gt; efecto sobre la mineralogía origi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-COMPOSICIÓN DEL FLUIDO (pH):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enor pH, mayor ef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-DURACIÓN Y VARIACIONES INTERACCIÓN AGUA/ROCA: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yor volumen circulación aguas calientes y mayor tiempo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odificaciones mineralógicas más complet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s-ES_tradnl" sz="32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COMPOSICIÓN DE LA ROCA: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tintos minerales tienen susceptibilidad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a ser alterados. Alteraciones intensas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ineralogía resultante esencialmente independiente del tipo de roca original.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cc00"/>
                </a:solidFill>
                <a:latin typeface="Arial"/>
              </a:rPr>
              <a:t>(obliteración de la textura origi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-PRESIÓN: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to indirecto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procesos secundarios: profundidad de ebullición de fluidos, fracturamiento hidráulico (generación de brechas hidrotermales) y erupción o explosiones hidroterm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4869000"/>
            <a:ext cx="82821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c0a00"/>
                </a:solidFill>
                <a:latin typeface="Tahoma"/>
              </a:rPr>
              <a:t>Alteración </a:t>
            </a:r>
            <a:r>
              <a:rPr b="1" lang="es-ES_tradnl" sz="2000" spc="-1" strike="noStrike" u="sng">
                <a:solidFill>
                  <a:srgbClr val="0c0a00"/>
                </a:solidFill>
                <a:uFillTx/>
                <a:latin typeface="Tahoma"/>
              </a:rPr>
              <a:t>Pervasiva</a:t>
            </a:r>
            <a:r>
              <a:rPr b="1" lang="es-ES_tradnl" sz="2000" spc="-1" strike="noStrike">
                <a:solidFill>
                  <a:srgbClr val="0c0a00"/>
                </a:solidFill>
                <a:latin typeface="Tahoma"/>
              </a:rPr>
              <a:t> se refiere a aquella en que una roca está completamente alterada en todo su volumen (no confundir con alteración EXTENSIVA que se refiere a la extensión de la alteración y no al grad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5ffff"/>
                </a:solidFill>
                <a:latin typeface="Arial"/>
              </a:rPr>
              <a:t>Procesos debidos a la alteración hidroterm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358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Depositación directa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inerales se depositan directamente a partir de soluciones hidrotermales (en zonas de diaclasas, fallas, fracturas, discordancias, poros, fisur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Reemplaz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inerales de las rocas inestables a ambiente hidrotermal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reemplazo por nuevos minerales estables en nuevas condic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Lixiviación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mponentes químicos de las rocas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xtraídos por fluidos hidrotermales al atravesarlas (cationes metálicos)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roca deprimida en dichos componentes o lixivi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Clasificación de alteración hidroterm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Arial"/>
              </a:rPr>
              <a:t>Alteración Potásica: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principalmente feldespato potásico y/o biotita, con mxs. accesorios como cuarzo, magnetita, sericita, clori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T° entre 400° y 800°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pH neutro a alcal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252108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Alteración propilítica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principalmente clorita-epidota con o sin albita, calcita, pirita, con mxs. Accesorios como cuarzo, magnetita. Ocurre generalmente como halo gradacional y distal de una alteración potás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T° entre 200° y 250°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pH neutro a alcal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40384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6T19:42:43Z</dcterms:created>
  <dc:creator>PREGRADO9</dc:creator>
  <dc:description/>
  <dc:language>en-US</dc:language>
  <cp:lastModifiedBy>Odin the Great</cp:lastModifiedBy>
  <dcterms:modified xsi:type="dcterms:W3CDTF">2007-08-08T01:41:12Z</dcterms:modified>
  <cp:revision>3</cp:revision>
  <dc:subject/>
  <dc:title>Alteración Hidrotermal</dc:title>
</cp:coreProperties>
</file>