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C28-D70B-4BA8-95B5-15EBAE44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44E-BF46-487C-A2AC-3F607CF8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CBB-7172-4DB5-B9A9-34AC2859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F26-74BC-4BBA-95C9-0D5CCF06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9FDC-6663-4607-97FC-18CBA65D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9772-2810-4988-A141-0152D181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78D1-CC2B-4D1C-8B80-BC285877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890E-43C3-498A-A2EA-40D76B3C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CBC4-CED5-4BE2-A5B6-14D55777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0F62-8EC9-49C4-9B6E-7C514206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3E22-88E9-43E9-B796-193D1089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456-A1C1-43EA-9979-C0685354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A813-17C8-4A8A-85C0-FF21149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26F1-FD24-4293-AF83-8F5214B3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EEBD-297B-486D-ABD0-591697DC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42BF-F6BB-40B8-A70A-4C74275E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406F-8F35-4D6D-ADA2-C669CB08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7D0-D099-42BE-A2A7-EF0C8012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C43-DD30-4C3F-BC76-9D19AFB0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2B2-DEBF-4B8E-95A3-61D87116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0D3-A8DA-4F89-B726-55DC28B1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7A4-4F03-4A19-A378-BE46396E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CDF-D35B-484F-8EF2-13453815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913-ACAA-43E8-A74C-F000783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B2F2-4018-4CDD-BEF5-174061614B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0257-E0E7-435E-ABC0-33E5AB7851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Alteración Hidroterm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lase Auxiliar N°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etalogén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bitización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asociado con alteración propilítica de alta temperatura, ocurre por lo general como reemplazo selectivo de plagioclasas junto con actinol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cuarzo-sericit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rincipalmente cuarzo y sericita con mxs. accesorios como clorita, illita y pi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T° entre 100 y 250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H entre 5 y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4038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argílica moderad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caracterizada principalmente por arcillas y mayor o menor cuarz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T° entre 150 y 300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H entre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0388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argílica avanzad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rincipalmente cuarzo residual (cuarzo oqueroso o “vuggy silica”) con o sin presencia de alunita, jarosita, caolín y pi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Amplio rango de T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pH entre 1 y 3.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038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Arial"/>
              </a:rPr>
              <a:t>Alteración carbonatada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caracterizada por calcita, dolomita, con mayor o menor sericita, pirita y/o alb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 amplio rango de T° y 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Arial"/>
              </a:rPr>
              <a:t>Alteración calcosilicatada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silicatos de Ca y Mg dependiendo de la roca huésped, caliza o dolom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 condiciones de pH neutro a alcalino a distintos rangos de T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13200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diciones de pH y T° de los distintos tipos de alte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p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Fluido hidrotermal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idos calientes, generalmente dominados por agua, a veces ácidos, que pueden transportar metales y otros compuestos en solución al lugar de  depositación o producir alteración de la roca de ca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Alteración hidrotermal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o de la mineralogía de la roca huésped como una reacción química con soluciones hidrotermales. Por Ej., minerales máficos como hornblenda o biotita pueden alterarse a clorita y los feldespatos alterarse a arcilla por efecto de la circulación de fluidos calientes por las fracturas de las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777000" cy="2901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curre a través de: </a:t>
            </a: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transformación de fases minerales, crecimiento de nuevo minerales, disolución de minerales y/o precipitación, reacciones de intercambio iónico entre los minerales de la roca y el flu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fectos de hidrotermalismo evidenciados en asociaciones de minerales de alteración y de m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distintos tipos de alteración e intensidad dependen de factores como </a:t>
            </a: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la composición del fluido hidrotermal, composición de la roca huésped, temperatura, pH, razón agua/roca, tiempo de interacción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653000"/>
            <a:ext cx="80643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c0a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c0a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c0a00"/>
                </a:solidFill>
                <a:latin typeface="Tahoma"/>
              </a:rPr>
              <a:t>Asociación mineralógica estable bajo nuevas condiciones hidrotermales de temperatura, presión y composición de flu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irculación de fluidos en rocas permeabl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presencia de fisuras o poros interconec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actor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TEMPERATURA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ás caliente &gt; efecto sobre la mineralogía origi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COMPOSICIÓN DEL FLUIDO (pH)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nor pH, mayor ef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DURACIÓN Y VARIACIONES INTERACCIÓN AGUA/ROCA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yor volumen circulación aguas calientes y mayor tiempo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odificaciones mineralógicas más complet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COMPOSICIÓN DE LA ROCA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tintos minerales tienen susceptibilidad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a ser alterados. Alteraciones intensa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ineralogía resultante esencialmente independiente del tipo de roca original.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(obliteración de la textura origi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PRESIÓN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to indirecto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869000"/>
            <a:ext cx="82821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c0a00"/>
                </a:solidFill>
                <a:latin typeface="Tahoma"/>
              </a:rPr>
              <a:t>Alteración </a:t>
            </a:r>
            <a:r>
              <a:rPr b="1" lang="es-ES_tradnl" sz="2000" spc="-1" strike="noStrike" u="sng">
                <a:solidFill>
                  <a:srgbClr val="0c0a00"/>
                </a:solidFill>
                <a:uFillTx/>
                <a:latin typeface="Tahoma"/>
              </a:rPr>
              <a:t>Pervasiva</a:t>
            </a:r>
            <a:r>
              <a:rPr b="1" lang="es-ES_tradnl" sz="2000" spc="-1" strike="noStrike">
                <a:solidFill>
                  <a:srgbClr val="0c0a00"/>
                </a:solidFill>
                <a:latin typeface="Tahoma"/>
              </a:rPr>
              <a:t> se refiere a aquella en que una roca está completamente alterada en todo su volumen (no confundir con alteración EXTENSIVA que se refiere a la extensión de la alteración y no al gra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ffff"/>
                </a:solidFill>
                <a:latin typeface="Arial"/>
              </a:rPr>
              <a:t>Procesos debidos a la alteración hidroterm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35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Depositación directa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nerales se depositan directamente a partir de soluciones hidrotermales (en zonas de diaclasas, fallas, fracturas, discordancias, poros, fisur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Reemplaz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nerales de las rocas inestables a ambiente hidrotermal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reemplazo por nuevos minerales estables en nuevas condi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Lixiviación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ponentes químicos de las roca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xtraídos por fluidos hidrotermales al atravesarlas (cationes metálicos)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roca deprimida en dichos componentes o lixivi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Clasificación de alteración hidroterm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Potásic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rincipalmente feldespato potásico y/o biotita, con mxs. accesorios como cuarzo, magnetita, sericita, clori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T° entre 400° y 800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pH neutro a alcal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252108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Alteración propilítica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rincipalmente clorita-epidota con o sin albita, calcita, pirita, con mxs. Accesorios como cuarzo, magnetita. Ocurre generalmente como halo gradacional y distal de una alteración potás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T° entre 200° y 250°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pH neutro a alc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0384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19:42:43Z</dcterms:created>
  <dc:creator>PREGRADO9</dc:creator>
  <dc:description/>
  <dc:language>en-US</dc:language>
  <cp:lastModifiedBy>Odin the Great</cp:lastModifiedBy>
  <dcterms:modified xsi:type="dcterms:W3CDTF">2007-08-08T01:41:12Z</dcterms:modified>
  <cp:revision>3</cp:revision>
  <dc:subject/>
  <dc:title>Alteración Hidrotermal</dc:title>
</cp:coreProperties>
</file>