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C3FB-2639-457F-8ABB-4DE8C969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DF74-BD44-4167-9D45-E0C9CF21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626-BC25-4E3D-AEEE-46DBDAF3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12C-54D3-4A36-8EA4-781B8949C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46EE-059D-4244-A724-A31AB2AE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B0039-1D34-42AD-A367-26474C04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8888-33A8-4985-8A2B-A2B758D0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9DD2-B4F0-4F00-8F64-2657DAF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A871-543E-4958-8A5B-E0F0FDD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080D-5779-48F6-862C-DB4F4F52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D20B-D258-4869-A1D9-090ABFD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9CD1-88AA-4B47-B312-8007AB7B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CEF3-C8C8-4D5D-88D0-3890AE0E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33A7-8467-4F47-BB85-F92F5A58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6AB1-7E99-4D80-A542-EB053A55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6D8B-25E2-4CF0-BFA9-3FCA3F20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3AAB-FCD0-4E9C-B3DE-2C604336E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1DEA-8719-4FA7-BC41-02439250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A7B-4170-45DD-9A68-6B56B5F6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905D-2138-480A-BDF2-8C3310D8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2D8-3296-4846-8B71-5991A65E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591A-5F90-48DF-ABEE-B9A1B8FF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2CC-EEDD-46DE-99A2-79D3F2EA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849-4D55-49D6-A757-FF9F4161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4A7B-2975-4B00-8DDA-4F4812E1F19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8737-C1C5-4B86-8DB2-692258735B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Alteración Hidroterm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Clase Auxiliar N°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Metalogén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0752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bitización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asociado con alteración propilítica de alta temperatura, ocurre por lo general como reemplazo selectivo de plagioclasas junto con actinol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cuarzo-sericit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y sericita con mxs. accesorios como clorita, illita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00 y 25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5 y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4038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moder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caracterizada principalmente por arcillas y mayor o menor cuarz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T° entre 150 y 3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 pH entre 3 y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038840" cy="33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argílica avanzad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cuarzo residual (cuarzo oqueroso o “vuggy silica”) con o sin presencia de alunita, jarosita, caolín y pirit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Amplio rango de T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entre 1 y 3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rbon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caracterizada por calcita, dolomita, con mayor o menor sericita, pirita y/o alb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amplio rango de T° y 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66"/>
                </a:solidFill>
                <a:latin typeface="Arial"/>
              </a:rPr>
              <a:t>Alteración calcosilicatada: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silicatos de Ca y Mg dependiendo de la roca huésped, caliza o dolom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- condiciones de pH neutro a alcalino a distintos rangos de T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13200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24000" y="270828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Condiciones de pH y T° de los distintos tipos de altera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Concept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Fluido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luidos calientes, generalmente dominados por agua, a veces ácidos, que pueden transportar metales y otros compuestos en solución al lugar de  depositación o producir alteración de la roca de caj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hidrotermal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o de la mineralogía de la roca huésped como una reacción química con soluciones hidrotermales. Por Ej., minerales máficos como hornblenda o biotita pueden alterarse a clorita y los feldespatos alterarse a arcilla por efecto de la circulación de fluidos calientes por las fracturas de las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16000" y="620640"/>
            <a:ext cx="6777000" cy="2901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41144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Ocurre a través de: </a:t>
            </a: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transformación de fases minerales, crecimiento de nuevo minerales, disolución de minerales y/o precipitación, reacciones de intercambio iónico entre los minerales de la roca y el flui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42472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fectos de hidrotermalismo evidenciados en asociaciones de minerales de alteración y de men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os distintos tipos de alteración e intensidad dependen de factores como </a:t>
            </a: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la composición del fluido hidrotermal, composición de la roca huésped, temperatura, pH, razón agua/roca, tiempo de interacción, 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4653000"/>
            <a:ext cx="80643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c0a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c0a00"/>
                </a:solidFill>
                <a:latin typeface="Tahoma"/>
              </a:rPr>
              <a:t>Asociación mineralógica estable bajo nuevas condiciones hidrotermales de temperatura, presión y composición de flu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irculación de fluidos en rocas permeable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presencia de fisuras o poros interconect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actor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b5481"/>
                </a:solidFill>
                <a:latin typeface="Tahoma"/>
              </a:rPr>
              <a:t>   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TEMPERATUR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ás caliente &gt; efecto sobre la mineralogía origi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COMPOSICIÓN DEL FLUIDO (pH)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enor pH, mayor ef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DURACIÓN Y VARIACIONES INTERACCIÓN AGUA/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volumen circulación aguas calientes y mayor tiemp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odificaciones mineralógicas más complet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s-ES_tradnl" sz="32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COMPOSICIÓN DE LA ROCA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tintos minerales tienen susceptibilidad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a ser alterados. Alteraciones intens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ineralogía resultante esencialmente independiente del tipo de roca original.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cc00"/>
                </a:solidFill>
                <a:latin typeface="Arial"/>
              </a:rPr>
              <a:t>(obliteración de la textura origi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66"/>
                </a:solidFill>
                <a:latin typeface="Arial"/>
              </a:rPr>
              <a:t>-PRESIÓN:</a:t>
            </a:r>
            <a:r>
              <a:rPr b="0" lang="es-ES_tradnl" sz="2400" spc="-1" strike="noStrike">
                <a:solidFill>
                  <a:srgbClr val="fff0b3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to indirecto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4869000"/>
            <a:ext cx="82821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Alteración </a:t>
            </a:r>
            <a:r>
              <a:rPr b="1" lang="es-ES_tradnl" sz="2000" spc="-1" strike="noStrike" u="sng">
                <a:solidFill>
                  <a:srgbClr val="0c0a00"/>
                </a:solidFill>
                <a:uFillTx/>
                <a:latin typeface="Tahoma"/>
              </a:rPr>
              <a:t>Pervasiva</a:t>
            </a:r>
            <a:r>
              <a:rPr b="1" lang="es-ES_tradnl" sz="2000" spc="-1" strike="noStrike">
                <a:solidFill>
                  <a:srgbClr val="0c0a00"/>
                </a:solidFill>
                <a:latin typeface="Tahoma"/>
              </a:rPr>
              <a:t> se refiere a aquella en que una roca está completamente alterada en todo su volumen (no confundir con alteración EXTENSIVA que se refiere a la extensión de la alteración y no al grad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5ffff"/>
                </a:solidFill>
                <a:latin typeface="Arial"/>
              </a:rPr>
              <a:t>Procesos debidos a la alteración hidroterm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Depositación directa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se depositan directamente a partir de soluciones hidrotermales (en zonas de diaclasas, fallas, fracturas, discordancias, poros, fisur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Reemplazo: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inerales de las rocas inestables a ambiente hidrotermal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eemplazo por nuevos minerales estables en nuevas condi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Lixiviación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mponentes químicos de las rocas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extraídos por fluidos hidrotermales al atravesarlas (cationes metálicos)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roca deprimida en dichos componentes o lixivia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5ffff"/>
                </a:solidFill>
                <a:latin typeface="Tahoma"/>
              </a:rPr>
              <a:t>Clasificación de alteración hidrotermal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66"/>
                </a:solidFill>
                <a:latin typeface="Arial"/>
              </a:rPr>
              <a:t>Alteración Potásica: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principalmente feldespato potásico y/o biotita, con mxs. accesorios como cuarzo, magnetita, sericita, clorit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T° entre 400° y 800°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-pH neutro a alcali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48320" y="252108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"/>
              </a:rPr>
              <a:t>Alteración propilítica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principalmente clorita-epidota con o sin albita, calcita, pirita, con mxs. Accesorios como cuarzo, magnetita. Ocurre generalmente como halo gradacional y distal de una alteración potásic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T° entre 200° y 250°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- pH neutro a alcali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40384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6T19:42:43Z</dcterms:created>
  <dc:creator>PREGRADO9</dc:creator>
  <dc:description/>
  <dc:language>en-US</dc:language>
  <cp:lastModifiedBy>Odin the Great</cp:lastModifiedBy>
  <dcterms:modified xsi:type="dcterms:W3CDTF">2007-08-08T01:41:12Z</dcterms:modified>
  <cp:revision>3</cp:revision>
  <dc:subject/>
  <dc:title>Alteración Hidrotermal</dc:title>
</cp:coreProperties>
</file>