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362-00A1-4086-9817-DDB7B4C9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260-6C84-4EB9-8302-1E924318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39D-4BA5-4068-887E-5C46AE71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986-9902-4CA2-90C5-C0251E7D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EAC-C297-4160-826C-DE1F01B0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B80-7A18-4150-968B-ADDF73BD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F77-4F45-4238-AA9C-8CA075EE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B36-5D94-4879-BFC4-790F0FE4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ED4-AF19-4FD2-96B2-D58B44E4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94D-ED89-4BA7-8FAA-DFCAA740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C0E-9C48-4A2C-955E-BD4B66BF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C91-E45F-4442-B40A-F39E00D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7809-D152-4426-B333-5A41306DE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1:56:39Z</dcterms:created>
  <dc:creator>Fernando Poblete G.</dc:creator>
  <dc:description/>
  <dc:language>en-US</dc:language>
  <cp:lastModifiedBy>Fernando Poblete G.</cp:lastModifiedBy>
  <dcterms:modified xsi:type="dcterms:W3CDTF">2007-09-25T21:57:19Z</dcterms:modified>
  <cp:revision>1</cp:revision>
  <dc:subject/>
  <dc:title>Slide 1</dc:title>
</cp:coreProperties>
</file>