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4B3-2385-4F85-9BB7-84C3E59B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E79-72DD-4059-B9B5-661CEC6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038-9C7D-4499-9F3B-CFF69332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283-E53F-4048-8F88-5D34EDF0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287-4A05-4AC2-91CA-3198DB9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8A0-21DC-49F7-8F69-6791B2E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A88-590D-452B-8189-E7A342F9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4A1-ECD5-4B29-8D42-D2420453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7B6-E960-4552-9A57-89B9BD92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5FB-8400-4DC1-9CC3-482905E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EA7-3E7C-4A31-8143-D37C028C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E2D-6207-4380-BC27-0E6888E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2AD4-FEEA-4277-A024-4E7C35026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56:39Z</dcterms:created>
  <dc:creator>Fernando Poblete G.</dc:creator>
  <dc:description/>
  <dc:language>en-US</dc:language>
  <cp:lastModifiedBy>Fernando Poblete G.</cp:lastModifiedBy>
  <dcterms:modified xsi:type="dcterms:W3CDTF">2007-09-25T21:57:19Z</dcterms:modified>
  <cp:revision>1</cp:revision>
  <dc:subject/>
  <dc:title>Slide 1</dc:title>
</cp:coreProperties>
</file>