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4BE5-3B44-4D5D-9F63-88DA75500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84B3-741D-42A4-8EF4-03A198475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4288-9C69-4B13-BD59-B18C3FD63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75A8-59B9-4603-A29D-EA6AA82C4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AF7C-F8C1-4F3E-A70C-1E4285A90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A12D-EFA6-4EAB-8F4A-06E9B6E22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D6A4-E9E6-4514-9FC9-BFCABFFBD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3396-2033-4C12-B60D-9161F60CD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8BD4-3BCC-4748-B71D-CE49831AA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0487-F438-4E21-82FD-93647C11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C16D-9851-4596-9A22-7B98138B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A093-380B-431F-AE8E-C90C32BC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D5741-80F8-4A2B-B486-F28B276553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356000" y="0"/>
            <a:ext cx="4788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5T21:56:39Z</dcterms:created>
  <dc:creator>Fernando Poblete G.</dc:creator>
  <dc:description/>
  <dc:language>en-US</dc:language>
  <cp:lastModifiedBy>Fernando Poblete G.</cp:lastModifiedBy>
  <dcterms:modified xsi:type="dcterms:W3CDTF">2007-09-25T21:57:19Z</dcterms:modified>
  <cp:revision>1</cp:revision>
  <dc:subject/>
  <dc:title>Slide 1</dc:title>
</cp:coreProperties>
</file>