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92B-079D-470E-96F1-F0B4D9E9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15D-FA59-4613-B8D9-36D1DD80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ABD-4A16-4782-98AE-3FE4EAA7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CC3-3CC2-4520-9233-E0F8963D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EBD-7529-4B0A-A0DE-85B34C17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4FE-569D-48F2-8CA6-7CDBA882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AE5-0729-4419-B6CA-490032EA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81E-ADF4-4A96-B3CC-BA3DE1C0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55A-AD24-4BD8-A8EA-D1A57E79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EBF-7C7E-45F0-8F01-351F3FA7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5D9-12E6-4223-B56E-764A263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E22-18CC-47AD-81F0-678CA4CD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E6A8-B259-4703-BC93-3527AF183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1:56:39Z</dcterms:created>
  <dc:creator>Fernando Poblete G.</dc:creator>
  <dc:description/>
  <dc:language>en-US</dc:language>
  <cp:lastModifiedBy>Fernando Poblete G.</cp:lastModifiedBy>
  <dcterms:modified xsi:type="dcterms:W3CDTF">2007-09-25T21:57:19Z</dcterms:modified>
  <cp:revision>1</cp:revision>
  <dc:subject/>
  <dc:title>Slide 1</dc:title>
</cp:coreProperties>
</file>