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5CE-5649-4985-9CBA-D749F310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DE9-3EBD-4140-8815-8CA5B8B5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63B-AEF8-4581-9E47-219A13C2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6F3-55BC-4AE8-A946-76175BB6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829-AEB9-4730-911A-3C7E935E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505-329F-4C82-9837-B4E84900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1DE-C566-4639-984B-2039A5E0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C4B-258F-44A0-9E4B-7B55503C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E98-CCD3-4421-818C-279D11A6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42E-CCEE-4ABB-9698-B5EB7AEF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04B-559B-4093-A989-CA1848DF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7AE-25EC-4F69-9E43-88956339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E65E-FE63-4EA0-8891-2F399A9E6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1:56:39Z</dcterms:created>
  <dc:creator>Fernando Poblete G.</dc:creator>
  <dc:description/>
  <dc:language>en-US</dc:language>
  <cp:lastModifiedBy>Fernando Poblete G.</cp:lastModifiedBy>
  <dcterms:modified xsi:type="dcterms:W3CDTF">2007-09-25T21:57:19Z</dcterms:modified>
  <cp:revision>1</cp:revision>
  <dc:subject/>
  <dc:title>Slide 1</dc:title>
</cp:coreProperties>
</file>