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9E94-05F8-4715-830A-96B1F07C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CBC-CAF3-4A37-A4EA-E0C925A4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7B6-F2E3-4415-A334-00CDB279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5BFC-1BC7-480D-8641-0C71371F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AB95-6BAC-4C31-81A9-E48375D7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F4BE-AD98-4EAE-98C2-6AA69648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97C6-056E-4132-9B67-904E4B7C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FF9-1376-4452-B562-61E9ACB6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E435-F4DF-4EEF-99C4-2E9C1CAB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BBE4-1344-4501-BD44-8DF8F5B6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C84D-1D7B-4F8B-BBF3-14D0A084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CDCE-9DF0-4F26-86A2-5C29134E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0F62-1288-4FE4-A332-23CD10DF1528}" type="slidenum"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Tectosilicatos 3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Feldespatoides, zeolitas y escapolita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Escap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[3NaAlSi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NaCl]=Marialita </a:t>
            </a:r>
            <a:r>
              <a:rPr b="0" i="1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[3Ca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8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Ca(O,C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S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] = Meionita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Agregados columnares, cristales larg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débil a bastante fuerte, los más fuertes varían desde amarillo de primer orden a violeta de segundo ord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jo, n&gt;bálsam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Escap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2857680" cy="3343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281952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Feldespatoid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Leuc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Nefelin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Haüyn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ancrin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Sodal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elil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Leucita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90760" y="190476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Al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uy baja birrefringencia: 0.001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aclado polisintético desordenad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jo, menor al bálsamo, pero mayor que el de la microclin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Uniaxia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1431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Nefelin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Na,K)(Al,Si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 débil, grises de primer ord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muy bajo, n parecido a bálsam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Uniaxial negativ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2814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Haüyn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1120" y="20574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3 NaAl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CaS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3 NaAl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 a azul pálido a azul fuert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sométric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muy bajo, n menor que el bálsam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Puede mostrar una leve birrefringenci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13639" t="0" r="9091" b="0"/>
          <a:stretch/>
        </p:blipFill>
        <p:spPr>
          <a:xfrm>
            <a:off x="228600" y="1981080"/>
            <a:ext cx="38862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3781440" cy="5676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0" r="0" b="19026"/>
          <a:stretch/>
        </p:blipFill>
        <p:spPr>
          <a:xfrm>
            <a:off x="4495680" y="3733920"/>
            <a:ext cx="3861000" cy="2876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76920" y="16765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elili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3048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Sodal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590560" y="1981080"/>
            <a:ext cx="2361960" cy="53352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362320" y="1981080"/>
            <a:ext cx="2590560" cy="289584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Ze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Hidrosilicatos sódico-cálcico-alumínic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débi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j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múnmente fibrosas o columnar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Suelen presentarse en cavidades de rocas subsilíceas, como minerales secundari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Ze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Analcim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aAl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Heuland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Al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3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stilb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Ca,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3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habac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Ca,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6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Natrol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10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2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esol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10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*8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Thompsonita (N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6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scolec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10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3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Ze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2949480" cy="5029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37944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2:15:16Z</dcterms:created>
  <dc:creator>Yuki</dc:creator>
  <dc:description/>
  <dc:language>en-US</dc:language>
  <cp:lastModifiedBy>AcerDos</cp:lastModifiedBy>
  <dcterms:modified xsi:type="dcterms:W3CDTF">2007-10-02T18:20:50Z</dcterms:modified>
  <cp:revision>4</cp:revision>
  <dc:subject/>
  <dc:title>Feldespatoides, zeolitas y escapolitas</dc:title>
</cp:coreProperties>
</file>