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AD4-D384-4B79-98CD-FE9A3B42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C15-2D29-41B8-9372-1CCCC134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8EA-EDD0-4410-8069-696C7657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7EC-2016-4546-A9F4-690EBBCE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561-D96E-4B43-8162-71DCE133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3FE-2B4E-40C9-BAD9-7547458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783-983C-4651-9365-3074F9FE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057-9A27-491E-A346-DA4BA4DC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455-7D98-4041-868E-674657E5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60E-7A67-40CE-ACA5-AC7214D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B97-63A3-4468-8D82-9BD96B5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6E8-96B8-4F04-8608-19A2AC9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089D-4735-4B5D-8F5A-8BB22DAE9D10}" type="slidenum">
              <a:rPr b="0" lang="es-E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Sor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670200" cy="275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00360" y="4105440"/>
            <a:ext cx="3670200" cy="275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0360" y="263700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781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986360"/>
            <a:ext cx="1871640" cy="1871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(+ -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uele contener numerosas inclusion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prim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ordier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200480" cy="315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200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a a ver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: Manto de Arlequí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21000" cy="31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2098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pido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317840" cy="32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 verde manzan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lieve alt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660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umpellyit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268880" cy="3191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64200" cy="3197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49228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076640"/>
            <a:ext cx="2448000" cy="2376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Ciclosilicat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urmalin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café, azul, roj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Presenta pleocroísm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de tercer ord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Relieve moderad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ábito prismáti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xtinción paralela en secciones longitudina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2:19:29Z</dcterms:created>
  <dc:creator>yuki</dc:creator>
  <dc:description/>
  <dc:language>en-US</dc:language>
  <cp:lastModifiedBy>PREGRADO16</cp:lastModifiedBy>
  <dcterms:modified xsi:type="dcterms:W3CDTF">2007-11-22T18:48:43Z</dcterms:modified>
  <cp:revision>4</cp:revision>
  <dc:subject/>
  <dc:title>Diapositiva 1</dc:title>
</cp:coreProperties>
</file>