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7D5-BCAF-46DB-B078-3E4DBED8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CF2-C9EC-4D79-9CE7-7C2C1D53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F6E-E47E-41A8-BC29-74DCFC30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67C-B16C-41C5-8DF0-2EC41325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2A2-65D8-4F14-9039-3C564928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CF4-819A-4933-96EF-93B911D5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83C-E65F-4F3A-8287-B8119F0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1E0-8BEB-4725-A948-A286E6F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999-D8F2-4C42-99E1-2DA0CA4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935-1942-4BE8-BF20-0EC1D16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3F8-1507-4FC2-BB6F-4564009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E66-FD80-43F1-84E8-12A4AC4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6BB-CDB3-45F3-B67E-B2A35A5105D7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Sor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00360" y="4105440"/>
            <a:ext cx="3670200" cy="275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0360" y="263700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781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986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(+ -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uele contener numerosas inclusion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prim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00480" cy="315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0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a ver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: Manto de Arlequí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21000" cy="31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209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1784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 verde manzan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6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268880" cy="319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49228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07664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icl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café, azul, roj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Presenta pleocroísm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Relieve moderad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ábito prismát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xtinción paralela en secciones longitudina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2:19:29Z</dcterms:created>
  <dc:creator>yuki</dc:creator>
  <dc:description/>
  <dc:language>en-US</dc:language>
  <cp:lastModifiedBy>PREGRADO16</cp:lastModifiedBy>
  <dcterms:modified xsi:type="dcterms:W3CDTF">2007-11-22T18:48:43Z</dcterms:modified>
  <cp:revision>4</cp:revision>
  <dc:subject/>
  <dc:title>Diapositiva 1</dc:title>
</cp:coreProperties>
</file>