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B41A-7314-41A2-9D63-4C1CCFB4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6A3F-49E5-4EF5-B545-DFE69797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6B30-FB58-4B9B-A9F6-4DB8BE33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F116-5DFC-46F1-BC35-B9553D9D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FB47-CDC3-4B1C-A4D6-271C4570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3E8-E116-4117-B68A-CAB5F45F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F0F6-5A2D-4506-9910-9BC5535A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E712-12D2-4E76-A52A-D9AA95FE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04F-ED59-43E9-8F6D-197ECEB3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78D-F187-4002-9809-A67A4C5E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10EE-D4A6-48E7-A453-F7CA4F5F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C89-D5AC-4F8F-975A-A7DB467E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D080-5CE0-45B3-85E6-80898B15B52B}" type="slidenum"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Sorosilicat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urmali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788000" y="1989000"/>
            <a:ext cx="3670200" cy="2752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3670200" cy="275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700360" y="4105440"/>
            <a:ext cx="3670200" cy="2752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940360" y="2637000"/>
            <a:ext cx="1871640" cy="1871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2781360"/>
            <a:ext cx="1871640" cy="1871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4986360"/>
            <a:ext cx="1871640" cy="1871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urmali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317840" cy="3238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00720" y="3068640"/>
            <a:ext cx="43178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Cordieri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colora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(+ -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uele contener numerosas inclusion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uede presentar macla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lores de interferencia de primer orde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Cordieri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4200480" cy="3154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427640" y="3141720"/>
            <a:ext cx="42004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pido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colora a verd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lieve alt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lores de interferencia de tercer orden: Manto de Arlequí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pido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221000" cy="31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420984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pido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4317840" cy="3238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0" y="3284640"/>
            <a:ext cx="43178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Pumpellyi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lor verde manzana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lieve alt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Pumpellyi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3656160" cy="2741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36608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Pumpellyi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4268880" cy="3191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264200" cy="3197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08000" y="2492280"/>
            <a:ext cx="2448000" cy="2376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08720" y="4076640"/>
            <a:ext cx="2448000" cy="2376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Ciclosilicat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urmali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lores café, azul, roj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Presenta pleocroísm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lores de interferencia de tercer orde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Relieve moderad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Hábito prismátic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Extinción paralela en secciones longitudinal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2:19:29Z</dcterms:created>
  <dc:creator>yuki</dc:creator>
  <dc:description/>
  <dc:language>en-US</dc:language>
  <cp:lastModifiedBy>PREGRADO16</cp:lastModifiedBy>
  <dcterms:modified xsi:type="dcterms:W3CDTF">2007-11-22T18:48:43Z</dcterms:modified>
  <cp:revision>4</cp:revision>
  <dc:subject/>
  <dc:title>Diapositiva 1</dc:title>
</cp:coreProperties>
</file>