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EC3A-AB55-408C-AC4E-382B4ADA5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3324-5D61-498B-A5EE-CB7E329C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D751-0E88-4A7E-9A28-DFA8312C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9E3C-F865-4C3E-9DC7-E167619F4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E21C-C8D2-44CE-9279-3023ADC0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B36C-4FD1-409C-B9A3-06CD8659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44A3-7109-43F9-87B3-E9C60B83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F659-FE99-4F54-A45C-48FF1AB7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76D7-1754-41A2-8F5C-EB2B6325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557F-2F37-44F6-987B-85820D24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1AA5-9580-410F-8EBD-2477DAF9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4F0A-E20A-4BD6-B72C-1C2472D1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34C4-A162-4AD6-A303-C96A0D2D4360}" type="slidenum"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Sorosilicato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urmalin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788000" y="1989000"/>
            <a:ext cx="3670200" cy="2752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4360" y="1989000"/>
            <a:ext cx="3670200" cy="2752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700360" y="4105440"/>
            <a:ext cx="3670200" cy="2752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940360" y="2637000"/>
            <a:ext cx="1871640" cy="18716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3280" y="2781360"/>
            <a:ext cx="1871640" cy="18716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80000" y="4986360"/>
            <a:ext cx="1871640" cy="18716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urmalin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317840" cy="3238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00720" y="3068640"/>
            <a:ext cx="43178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Cordierit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ncolora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(+ -)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uele contener numerosas inclusione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uede presentar macla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olores de interferencia de primer orde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Cordierit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4200480" cy="3154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427640" y="3141720"/>
            <a:ext cx="420048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pidot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ncolora a verd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elieve alt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olores de interferencia de tercer orden: Manto de Arlequí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pidot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4221000" cy="3168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00720" y="3141720"/>
            <a:ext cx="420984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pidot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4317840" cy="3238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0" y="3284640"/>
            <a:ext cx="43178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Pumpellyit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olor verde manzana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elieve alt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Pumpellyit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3656160" cy="2741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716360" y="2276640"/>
            <a:ext cx="36608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Pumpellyit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4268880" cy="3191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264200" cy="3197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08000" y="2492280"/>
            <a:ext cx="2448000" cy="23767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08720" y="4076640"/>
            <a:ext cx="2448000" cy="23767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Ciclosilicato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urmalin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Colores café, azul, roj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Presenta pleocroísm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Colores de interferencia de tercer orde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Relieve moderad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Hábito prismátic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Extinción paralela en secciones longitudinale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2:19:29Z</dcterms:created>
  <dc:creator>yuki</dc:creator>
  <dc:description/>
  <dc:language>en-US</dc:language>
  <cp:lastModifiedBy>PREGRADO16</cp:lastModifiedBy>
  <dcterms:modified xsi:type="dcterms:W3CDTF">2007-11-22T18:48:43Z</dcterms:modified>
  <cp:revision>4</cp:revision>
  <dc:subject/>
  <dc:title>Diapositiva 1</dc:title>
</cp:coreProperties>
</file>