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502-51D8-4202-8301-673AEE52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AE4-B692-4264-899E-08E58ED7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B96-4D01-4AF3-A40B-DE1E1AB6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71C-DE8F-4374-960A-6590A6F2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176-6B74-474A-97B9-F1AF95A7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7BE-AD8F-4B31-9ED2-EA3C4836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0B2-ADDF-4AC3-8776-727FC922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E73-8AB2-4230-B972-4369A5C9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F46-6201-4A1D-8165-973640FD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CBC-78C7-4C01-A499-068D6B0D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057-8EF3-4809-B6AA-082CAFA5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759-6531-434F-A0B4-989AF1C7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33EE-1984-4FE9-9E7C-01A5360F0AA0}" type="slidenum"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Sorosilicat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3670200" cy="275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670200" cy="275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700360" y="4105440"/>
            <a:ext cx="3670200" cy="2752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940360" y="263700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78136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498636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ordier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a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(+ -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uele contener numerosas inclusion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ede presentar macl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primer ord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ordier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200480" cy="315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200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a a ver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lieve alt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tercer orden: Manto de Arlequí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221000" cy="31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2098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317840" cy="323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328464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 verde manzana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lieve alt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660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4268880" cy="3191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64200" cy="3197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2492280"/>
            <a:ext cx="2448000" cy="2376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4076640"/>
            <a:ext cx="2448000" cy="2376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iclosilicat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café, azul, roj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Presenta pleocroísm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de interferencia de tercer ord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Relieve moderad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ábito prismátic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xtinción paralela en secciones longitudina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2:19:29Z</dcterms:created>
  <dc:creator>yuki</dc:creator>
  <dc:description/>
  <dc:language>en-US</dc:language>
  <cp:lastModifiedBy>PREGRADO16</cp:lastModifiedBy>
  <dcterms:modified xsi:type="dcterms:W3CDTF">2007-11-22T18:48:43Z</dcterms:modified>
  <cp:revision>4</cp:revision>
  <dc:subject/>
  <dc:title>Diapositiva 1</dc:title>
</cp:coreProperties>
</file>