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338-E412-4134-B332-12A5216A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289-2DEA-41BD-AC7E-79D8038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0F8-0D70-4F4C-A271-70F3FBCF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EF1-FB55-48FE-8B73-EF7E3A07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45D-52E7-4F13-875C-8DF0579B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ACB-8EB1-4BCB-B297-533CFED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FF9-4EB8-488D-9B05-D271224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B72-F091-4E17-901B-E93E883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51D-519B-4F94-9F51-42966196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801-B1B6-4FD6-A992-C2176286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868-84B3-407A-9140-0F76123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ED8-8EF4-4D7B-AAD3-2AAC63F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07D7-C96C-4BFB-B490-EAD22571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anid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79728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379728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4581360"/>
            <a:ext cx="3240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lores de interferencia: grises de primer o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1628640"/>
            <a:ext cx="2736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xxs tab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Mac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531" t="5976" r="70529" b="13295"/>
          <a:stretch/>
        </p:blipFill>
        <p:spPr>
          <a:xfrm>
            <a:off x="611280" y="2060640"/>
            <a:ext cx="130968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129564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280880" cy="276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1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50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-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084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Peric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060640"/>
            <a:ext cx="122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060640"/>
            <a:ext cx="647640" cy="26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51577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étodo de la Alb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8334" t="0" r="8338" b="0"/>
          <a:stretch/>
        </p:blipFill>
        <p:spPr>
          <a:xfrm>
            <a:off x="395280" y="1628640"/>
            <a:ext cx="316872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637160" cy="247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1628640"/>
            <a:ext cx="4321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edir extinción a izquierda y derecha (sets de mac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me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levar el máximo valor a t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Método de las maclas combinadas Carlsbad-Alb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5108760" cy="157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51280" y="3294000"/>
            <a:ext cx="49910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Guía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edafologia.ugr.es/OptMine/xplortos/elonga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www.tulane.edu/~sanelson/eens211/biaxia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 la relación entre las dimensiones principales del cristal y la magnitud de los índices de refracción correspondientes a el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or índice de refracción a lo largo del mine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lento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nor índice de refracción a lo largo de minera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rápido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54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638440" cy="197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508640"/>
            <a:ext cx="345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sube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rgo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736720" cy="208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508640"/>
            <a:ext cx="36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baja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 largo l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ect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eldespatos y Plagio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ldespato Pot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rrefringencia baja (grises de primer ord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116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30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2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Microc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002120" cy="3002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5013360"/>
            <a:ext cx="3456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aja birrefring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941720"/>
            <a:ext cx="338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clado (tartá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33Z</dcterms:created>
  <dc:creator>yuki</dc:creator>
  <dc:description/>
  <dc:language>en-US</dc:language>
  <cp:lastModifiedBy>AcerDos</cp:lastModifiedBy>
  <dcterms:modified xsi:type="dcterms:W3CDTF">2007-09-13T19:55:36Z</dcterms:modified>
  <cp:revision>6</cp:revision>
  <dc:subject/>
  <dc:title>Tectosilicatos 2</dc:title>
</cp:coreProperties>
</file>