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4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1EF-A816-4F1B-B689-E1E5531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A0A-A02B-4A22-971D-E359FCDA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474-5F67-4E3A-8145-BB1B2357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F03-EB86-47CC-9CCE-7898C4BC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996-A6B7-44D9-A0F4-88317FC7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0D9-A48A-4466-BBF5-A7AF9434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64D-0679-4D24-81D8-EE9E47B3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4A2-87BE-41EE-B753-34BA9EF8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270-E19B-4B4D-9E0B-647639B3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8BD-F228-4FCD-B2AE-3CE2DF20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4A5-C9FD-4C5B-AFA9-D440A14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BB0-D201-4D6A-AD58-4831EE5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204C-F98A-430B-BDD9-7ABA8C8EF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anid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716360" y="162864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79728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356000" y="3500280"/>
            <a:ext cx="3797280" cy="28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4581360"/>
            <a:ext cx="3240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lores de interferencia: grises de primer o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1628640"/>
            <a:ext cx="2736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xxs tab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Macl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36960" cy="241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39369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5531" t="5976" r="70529" b="13295"/>
          <a:stretch/>
        </p:blipFill>
        <p:spPr>
          <a:xfrm>
            <a:off x="611280" y="2060640"/>
            <a:ext cx="130968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356000" y="2060640"/>
            <a:ext cx="129564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372360" y="2060640"/>
            <a:ext cx="1280880" cy="2763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5157720"/>
            <a:ext cx="17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6000" y="5084640"/>
            <a:ext cx="16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-Alb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5084640"/>
            <a:ext cx="136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Pericl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2060640"/>
            <a:ext cx="122400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060640"/>
            <a:ext cx="647640" cy="26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5157720"/>
            <a:ext cx="18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Gothic"/>
              </a:rPr>
              <a:t>Carls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étodo de la Alb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8334" t="0" r="8338" b="0"/>
          <a:stretch/>
        </p:blipFill>
        <p:spPr>
          <a:xfrm>
            <a:off x="395280" y="1628640"/>
            <a:ext cx="3168720" cy="2008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4637160" cy="2470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1628640"/>
            <a:ext cx="4321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Medir extinción a izquierda y derecha (sets de mac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Prome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levar el máximo valor a tab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entury Gothic"/>
              </a:rPr>
              <a:t>Método de las maclas combinadas Carlsbad-Alb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5108760" cy="1574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51280" y="3294000"/>
            <a:ext cx="49910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Guía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edafologia.ugr.es/OptMine/xplortos/elongac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http://www.tulane.edu/~sanelson/eens211/biaxia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 la relación entre las dimensiones principales del cristal y la magnitud de los índices de refracción correspondientes a ell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yor índice de refracción a lo largo del mine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lento (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nor índice de refracción a lo largo de mineral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largo rápido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5640" y="2060640"/>
            <a:ext cx="54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lon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2638440" cy="1971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4508640"/>
            <a:ext cx="345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sube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rgo 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736720" cy="208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508640"/>
            <a:ext cx="36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Color de interferencia baja</a:t>
            </a:r>
            <a:r>
              <a:rPr b="0" lang="es-E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 largo l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Tect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eldespatos y Plagiocl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Feldespato Pot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414936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rrefringencia baja (grises de primer ord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Puede presentar mac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41162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Ortocl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30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00720" y="3500280"/>
            <a:ext cx="4290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Microc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0212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1484280"/>
            <a:ext cx="4002120" cy="3002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5013360"/>
            <a:ext cx="34560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aja birrefring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941720"/>
            <a:ext cx="3384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clado (tartá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33Z</dcterms:created>
  <dc:creator>yuki</dc:creator>
  <dc:description/>
  <dc:language>en-US</dc:language>
  <cp:lastModifiedBy>AcerDos</cp:lastModifiedBy>
  <dcterms:modified xsi:type="dcterms:W3CDTF">2007-09-13T19:55:36Z</dcterms:modified>
  <cp:revision>6</cp:revision>
  <dc:subject/>
  <dc:title>Tectosilicatos 2</dc:title>
</cp:coreProperties>
</file>