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21.wmf" ContentType="image/x-wmf"/>
  <Override PartName="/ppt/media/image20.wmf" ContentType="image/x-wmf"/>
  <Override PartName="/ppt/media/image4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B6A-4FE1-4EF3-9B1A-4D4EAA0B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941-BD0B-4645-B232-F31872B3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894-3C1B-485D-94CB-84581297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71D-5A84-425A-8034-AA696215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768-9F30-4D66-9204-E58999E5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FBB-CC09-4252-9041-E02E435E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7DC-EE6D-4A43-B274-5471512D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620-0C7F-4238-8773-76EB283D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F36-DB24-4471-B124-5BABAA4D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2E7-6D80-46A8-ACBE-0C415DE5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1A3-5F27-47D5-B34C-BA24BAD4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0A7-DF62-4B98-95C1-4FD4905A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28D5-7594-4D2C-8FB4-14D9EAF28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lon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anid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936960" cy="241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936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lagiocl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lagiocl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797280" cy="28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356000" y="3500280"/>
            <a:ext cx="3797280" cy="2881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4581360"/>
            <a:ext cx="324036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ncolo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lores de interferencia: grises de primer or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1628640"/>
            <a:ext cx="2736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Cxxs tabu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Macl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lagiocl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936960" cy="241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427640" y="3500280"/>
            <a:ext cx="3936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giocl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531" t="5976" r="70529" b="13295"/>
          <a:stretch/>
        </p:blipFill>
        <p:spPr>
          <a:xfrm>
            <a:off x="611280" y="2060640"/>
            <a:ext cx="1309680" cy="272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356000" y="2060640"/>
            <a:ext cx="1295640" cy="278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372360" y="2060640"/>
            <a:ext cx="1280880" cy="2763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515772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lb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508464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Gothic"/>
              </a:rPr>
              <a:t>Carlsbad-Alb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5084640"/>
            <a:ext cx="136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Gothic"/>
              </a:rPr>
              <a:t>Pericl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2060640"/>
            <a:ext cx="1224000" cy="26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2060640"/>
            <a:ext cx="647640" cy="26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515772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Gothic"/>
              </a:rPr>
              <a:t>Carlsb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étodo de la Alb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18334" t="0" r="8338" b="0"/>
          <a:stretch/>
        </p:blipFill>
        <p:spPr>
          <a:xfrm>
            <a:off x="395280" y="1628640"/>
            <a:ext cx="3168720" cy="2008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708360" y="3933720"/>
            <a:ext cx="4637160" cy="2470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95640" y="1628640"/>
            <a:ext cx="4321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Medir extinción a izquierda y derecha (sets de mac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Promed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Repe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levar el máximo valor a tab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Método de las maclas combinadas Carlsbad-Alb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5108760" cy="1574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51280" y="3294000"/>
            <a:ext cx="49910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Guía labor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http://edafologia.ugr.es/OptMine/xplortos/elongac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http://www.tulane.edu/~sanelson/eens211/biaxial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lon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s la relación entre las dimensiones principales del cristal y la magnitud de los índices de refracción correspondientes a el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yor índice de refracción a lo largo del miner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largo lento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enor índice de refracción a lo largo de mineral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largo rápido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lon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95640" y="2060640"/>
            <a:ext cx="5472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lon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2638440" cy="1971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4508640"/>
            <a:ext cx="345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Color de interferencia sube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largo ráp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788000" y="1989000"/>
            <a:ext cx="2736720" cy="2084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88000" y="4508640"/>
            <a:ext cx="360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Color de interferencia baja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 largo l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Tectosilicato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eldespatos y Plagiocl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eldespato Pot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Ortocl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4149360"/>
            <a:ext cx="4752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iaxial neg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irrefringencia baja (grises de primer ord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Puede presentar mac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41162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Ortocl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4176720" cy="308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290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Microcl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002120" cy="3002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16360" y="1484280"/>
            <a:ext cx="4002120" cy="3002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5013360"/>
            <a:ext cx="3456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ncolo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aja birrefring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4941720"/>
            <a:ext cx="3384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aclado (tartá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iaxial neg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4:33Z</dcterms:created>
  <dc:creator>yuki</dc:creator>
  <dc:description/>
  <dc:language>en-US</dc:language>
  <cp:lastModifiedBy>AcerDos</cp:lastModifiedBy>
  <dcterms:modified xsi:type="dcterms:W3CDTF">2007-09-13T19:55:36Z</dcterms:modified>
  <cp:revision>6</cp:revision>
  <dc:subject/>
  <dc:title>Tectosilicatos 2</dc:title>
</cp:coreProperties>
</file>