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5C1-2CAB-4087-B795-0FFE0488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B35-257D-4867-B908-B961256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044-77D5-4232-98A8-9E191FF8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712-2347-4C7E-B5FE-C5B69112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7F9-F909-44BA-870D-8E052D8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086-EA3A-4AFB-841E-28848D2C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39C-DBFE-4AF1-85E5-19E401D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79B-9C65-495E-90AD-8F8BA11F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BED-196F-4405-897A-8632FAA3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A7B-97E3-4B37-9133-AAAEAFE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BFD-171B-49F6-86FC-91F9866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CBB-E41A-4151-8FCD-CB8C16D2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7A20-0EB5-4E6A-8F7C-C172E1014F7A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Inosilicatos 1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Ortopiroxenos y clinopiroxen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augita%204,5mm%20pp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6" name="augita%204,5mm%20xp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ug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geonita%20con%20textura%20chevron%202,8m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4343400" cy="287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Pige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stat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neutra, sin pleocroís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foliación en dos direcciones formando ángulo casi recto 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, color de interferencia máximo es amarillo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s simples y lamel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Hiperste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utro a verde pálido o rojo pálido, con pleocroísmo de verde a rojizo páli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xxs subhedrales prismát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amarillo a rojo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paralelo a {110}, a veces paralelo a {010} y {10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opx-I%20enstatita%20pp" descr=""/>
          <p:cNvPicPr/>
          <p:nvPr/>
        </p:nvPicPr>
        <p:blipFill>
          <a:blip r:embed="rId1"/>
          <a:srcRect l="19046" t="0" r="0" b="0"/>
          <a:stretch/>
        </p:blipFill>
        <p:spPr>
          <a:xfrm>
            <a:off x="609480" y="165744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49" name="opx-Xa%20enstatite%20xp" descr=""/>
          <p:cNvPicPr/>
          <p:nvPr/>
        </p:nvPicPr>
        <p:blipFill>
          <a:blip r:embed="rId2"/>
          <a:srcRect l="21430" t="0" r="0" b="0"/>
          <a:stretch/>
        </p:blipFill>
        <p:spPr>
          <a:xfrm>
            <a:off x="3200400" y="1676520"/>
            <a:ext cx="2514600" cy="2363760"/>
          </a:xfrm>
          <a:prstGeom prst="rect">
            <a:avLst/>
          </a:prstGeom>
          <a:ln w="0">
            <a:noFill/>
          </a:ln>
        </p:spPr>
      </p:pic>
      <p:pic>
        <p:nvPicPr>
          <p:cNvPr id="50" name="opx-Xb%20enstatite%20(no%20extinta)" descr=""/>
          <p:cNvPicPr/>
          <p:nvPr/>
        </p:nvPicPr>
        <p:blipFill>
          <a:blip r:embed="rId3"/>
          <a:stretch/>
        </p:blipFill>
        <p:spPr>
          <a:xfrm>
            <a:off x="5715000" y="169704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4038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Enstat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iópsi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, neutro, gris pálido a verde brilla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xxs subhedrales prismát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foliación en dos direcciones con ángulos 87º y 93º paralela a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fuerte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superior a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 varía entre 37º-44º; en secciones transversales al eje c es simétrica a la exfoliació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ug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, neutro, gris pálido a verde brilla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 en el centro de 2º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lano de maclas {100}, a veces también polisinté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entre 36º y 45º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Pigeo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neutra, con pleocroísmo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2º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presentar macla polisinté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con ángulo entre 22º-45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neutro a verdos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e presenta en agregados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violeta de 2º orden es el máximo color de interfer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42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" name="DIOPS-P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62" name="DIOPS-X1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Dióps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4:51:05Z</dcterms:created>
  <dc:creator>Yuki</dc:creator>
  <dc:description/>
  <dc:language>en-US</dc:language>
  <cp:lastModifiedBy>pagalvez</cp:lastModifiedBy>
  <dcterms:modified xsi:type="dcterms:W3CDTF">2007-10-16T13:30:55Z</dcterms:modified>
  <cp:revision>5</cp:revision>
  <dc:subject/>
  <dc:title>Inosilicatos I</dc:title>
</cp:coreProperties>
</file>