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D87-DA0B-40F6-B27A-55906430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866-1780-4D45-8544-889B585C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62F-D49D-4B23-9608-62B19499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324-56D2-4652-BD90-D29EE632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0B5-A2E1-49EB-A6BF-2DA08981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C9B-5DE7-4E3F-AD2A-C85C534C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CB5-5EDC-4A97-9564-E61145AD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8D6-D506-4BE9-96DA-57EBA88C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3D7-D023-4992-9655-CF1CCB53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324-04B3-4253-881C-C4072A28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24F-5C14-4771-888D-AE143940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913-65C0-4C08-ACF8-2AB91429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7433-82F6-42E3-9CF4-CC30A210D9DF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Inosilicatos 1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Ortopiroxenos y clinopiroxen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augita%204,5mm%20pp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6" name="augita%204,5mm%20xp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2320" y="5334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ug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pigeonita%20con%20textura%20chevron%202,8m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4343400" cy="2874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5334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Pigeo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Ort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nstatita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neutra, sin pleocroís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foliación en dos direcciones formando ángulo casi recto 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, color de interferencia máximo es amarillo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aclas simples y lamel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Ort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Hiperste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eutro a verde pálido o rojo pálido, con pleocroísmo de verde a rojizo páli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xxs subhedrales prismát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amarillo a rojo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paralelo a {110}, a veces paralelo a {010} y {10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negativ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Ort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opx-I%20enstatita%20pp" descr=""/>
          <p:cNvPicPr/>
          <p:nvPr/>
        </p:nvPicPr>
        <p:blipFill>
          <a:blip r:embed="rId1"/>
          <a:srcRect l="19046" t="0" r="0" b="0"/>
          <a:stretch/>
        </p:blipFill>
        <p:spPr>
          <a:xfrm>
            <a:off x="609480" y="165744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49" name="opx-Xa%20enstatite%20xp" descr=""/>
          <p:cNvPicPr/>
          <p:nvPr/>
        </p:nvPicPr>
        <p:blipFill>
          <a:blip r:embed="rId2"/>
          <a:srcRect l="21430" t="0" r="0" b="0"/>
          <a:stretch/>
        </p:blipFill>
        <p:spPr>
          <a:xfrm>
            <a:off x="3200400" y="1676520"/>
            <a:ext cx="2514600" cy="2363760"/>
          </a:xfrm>
          <a:prstGeom prst="rect">
            <a:avLst/>
          </a:prstGeom>
          <a:ln w="0">
            <a:noFill/>
          </a:ln>
        </p:spPr>
      </p:pic>
      <p:pic>
        <p:nvPicPr>
          <p:cNvPr id="50" name="opx-Xb%20enstatite%20(no%20extinta)" descr=""/>
          <p:cNvPicPr/>
          <p:nvPr/>
        </p:nvPicPr>
        <p:blipFill>
          <a:blip r:embed="rId3"/>
          <a:stretch/>
        </p:blipFill>
        <p:spPr>
          <a:xfrm>
            <a:off x="5715000" y="1697040"/>
            <a:ext cx="3200400" cy="236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4038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Enstat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Diópsi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, neutro, gris pálido a verde brillan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xxs subhedrales prismát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foliación en dos direcciones con ángulos 87º y 93º paralela a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fuerte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superior a segundo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 varía entre 37º-44º; en secciones transversales al eje c es simétrica a la exfoliació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Aug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, neutro, gris pálido a verde brillan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con ángulos de 87º y 93º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moderad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 en el centro de 2º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lano de maclas {100}, a veces también polisintét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entre 36º y 45º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Pigeon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neutra, con pleocroísmo débi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con ángulos de 87º y 93º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moderad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es de 2º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uede presentar macla polisintét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con ángulo entre 22º-45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neutro a verdos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e presenta en agregados column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con ángulos de 87º y 93º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moderad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violeta de 2º orden es el máximo color de interferenc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a 42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" name="DIOPS-P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62" name="DIOPS-X1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4572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Dióps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4:51:05Z</dcterms:created>
  <dc:creator>Yuki</dc:creator>
  <dc:description/>
  <dc:language>en-US</dc:language>
  <cp:lastModifiedBy>pagalvez</cp:lastModifiedBy>
  <dcterms:modified xsi:type="dcterms:W3CDTF">2007-10-16T13:30:55Z</dcterms:modified>
  <cp:revision>5</cp:revision>
  <dc:subject/>
  <dc:title>Inosilicatos I</dc:title>
</cp:coreProperties>
</file>