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D11C-6699-4A4A-B8CB-BA7538AFB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56D2-54AA-4286-AB8E-49FBB228C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81D2-0579-40AE-BA46-5FA6879F5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7683-1D63-4A04-877E-A5B51FBB9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D2A3-9C62-4560-B549-ED137F768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0275-CAE4-41DA-BA5E-74E0D04D9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7059-D44E-471A-824B-022E7FA8F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F86C-BA08-4448-AFEC-062D73D71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DA37-BA7C-45A2-A6FD-19C9E6974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8A32-25BA-4DFB-AE8C-F10FB100C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A7E1-16CB-4FFE-9A48-F401E29D0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BBB7-D692-4C2B-90DD-54E38700C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CE84C-399A-4132-9063-3B9B1C1AEBCD}" type="slidenum"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Inosilicatos 1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entury Gothic"/>
              </a:rPr>
              <a:t>Ortopiroxenos y clinopiroxeno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Clinopiroxeno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5" name="augita%204,5mm%20pp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4038840" cy="3029040"/>
          </a:xfrm>
          <a:prstGeom prst="rect">
            <a:avLst/>
          </a:prstGeom>
          <a:ln w="0">
            <a:noFill/>
          </a:ln>
        </p:spPr>
      </p:pic>
      <p:pic>
        <p:nvPicPr>
          <p:cNvPr id="66" name="augita%204,5mm%20xp" descr=""/>
          <p:cNvPicPr/>
          <p:nvPr/>
        </p:nvPicPr>
        <p:blipFill>
          <a:blip r:embed="rId2"/>
          <a:stretch/>
        </p:blipFill>
        <p:spPr>
          <a:xfrm>
            <a:off x="4724280" y="3505320"/>
            <a:ext cx="4038840" cy="30286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362320" y="53341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Gothic"/>
              </a:rPr>
              <a:t>Aug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Clinopiroxeno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9" name="pigeonita%20con%20textura%20chevron%202,8mm" descr=""/>
          <p:cNvPicPr/>
          <p:nvPr/>
        </p:nvPicPr>
        <p:blipFill>
          <a:blip r:embed="rId1"/>
          <a:stretch/>
        </p:blipFill>
        <p:spPr>
          <a:xfrm>
            <a:off x="1066680" y="2209680"/>
            <a:ext cx="4343400" cy="28749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362320" y="53341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Gothic"/>
              </a:rPr>
              <a:t>Pigeon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Ortopiroxeno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entury Gothic"/>
              </a:rPr>
              <a:t>Enstatita</a:t>
            </a: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Incolora a neutra, sin pleocroísmo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Exfoliación en dos direcciones formando ángulo casi recto en {110}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Extinción paralel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Birrefringencia débil, color de interferencia máximo es amarillo de primer orden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Maclas simples y lamelare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Biaxial positivo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Ortopiroxeno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entury Gothic"/>
              </a:rPr>
              <a:t>Hipersten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Neutro a verde pálido o rojo pálido, con pleocroísmo de verde a rojizo pálido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Cxxs subhedrales prismático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Birrefringencia débil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 amarillo a rojo de primer orden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Extinción paralel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Clivaje paralelo a {110}, a veces paralelo a {010} y {100}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Biaxial negativ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Ortopiroxeno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8" name="opx-I%20enstatita%20pp" descr=""/>
          <p:cNvPicPr/>
          <p:nvPr/>
        </p:nvPicPr>
        <p:blipFill>
          <a:blip r:embed="rId1"/>
          <a:srcRect l="19046" t="0" r="0" b="0"/>
          <a:stretch/>
        </p:blipFill>
        <p:spPr>
          <a:xfrm>
            <a:off x="609480" y="1657440"/>
            <a:ext cx="2590920" cy="2369880"/>
          </a:xfrm>
          <a:prstGeom prst="rect">
            <a:avLst/>
          </a:prstGeom>
          <a:ln w="0">
            <a:noFill/>
          </a:ln>
        </p:spPr>
      </p:pic>
      <p:pic>
        <p:nvPicPr>
          <p:cNvPr id="49" name="opx-Xa%20enstatite%20xp" descr=""/>
          <p:cNvPicPr/>
          <p:nvPr/>
        </p:nvPicPr>
        <p:blipFill>
          <a:blip r:embed="rId2"/>
          <a:srcRect l="21430" t="0" r="0" b="0"/>
          <a:stretch/>
        </p:blipFill>
        <p:spPr>
          <a:xfrm>
            <a:off x="3200400" y="1676520"/>
            <a:ext cx="2514600" cy="2363760"/>
          </a:xfrm>
          <a:prstGeom prst="rect">
            <a:avLst/>
          </a:prstGeom>
          <a:ln w="0">
            <a:noFill/>
          </a:ln>
        </p:spPr>
      </p:pic>
      <p:pic>
        <p:nvPicPr>
          <p:cNvPr id="50" name="opx-Xb%20enstatite%20(no%20extinta)" descr=""/>
          <p:cNvPicPr/>
          <p:nvPr/>
        </p:nvPicPr>
        <p:blipFill>
          <a:blip r:embed="rId3"/>
          <a:stretch/>
        </p:blipFill>
        <p:spPr>
          <a:xfrm>
            <a:off x="5715000" y="1697040"/>
            <a:ext cx="3200400" cy="23637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371600" y="403848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Gothic"/>
              </a:rPr>
              <a:t>Enstat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Clinopiroxeno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entury Gothic"/>
              </a:rPr>
              <a:t>Diópsido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Incoloro, neutro, gris pálido a verde brillante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Cxxs subhedrales prismático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Exfoliación en dos direcciones con ángulos 87º y 93º paralela a {110}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Birrefringencia fuerte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 superior a segundo orden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Extinción  varía entre 37º-44º; en secciones transversales al eje c es simétrica a la exfoliación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Biaxial positivo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Clinopiroxeno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entury Gothic"/>
              </a:rPr>
              <a:t>Augit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Incoloro, neutro, gris pálido a verde brillante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Clivaje con ángulos de 87º y 93ºen {110}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Birrefringencia moderada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color de interferencia en el centro de 2º orden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Plano de maclas {100}, a veces también polisintétic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Extinción entre 36º y 45º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Biaxial positivo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Clinopiroxeno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entury Gothic"/>
              </a:rPr>
              <a:t>Pigeonit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Incolora a neutra, con pleocroísmo débi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Clivaje con ángulos de 87º y 93ºen {110}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Birrefringencia moderada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colores de 2º orden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Puede presentar macla polisintétic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Extinción con ángulo entre 22º-45º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Biaxial positivo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Clinopiroxeno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Color neutro a verdoso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Se presenta en agregados columnare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Clivaje con ángulos de 87º y 93ºen {110}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Birrefringencia moderada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 violeta de 2º orden es el máximo color de interferenci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Extinción a 42º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Biaxial positivo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Clinopiroxeno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1" name="DIOPS-P1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3733560" cy="2800080"/>
          </a:xfrm>
          <a:prstGeom prst="rect">
            <a:avLst/>
          </a:prstGeom>
          <a:ln w="0">
            <a:noFill/>
          </a:ln>
        </p:spPr>
      </p:pic>
      <p:pic>
        <p:nvPicPr>
          <p:cNvPr id="62" name="DIOPS-X1" descr=""/>
          <p:cNvPicPr/>
          <p:nvPr/>
        </p:nvPicPr>
        <p:blipFill>
          <a:blip r:embed="rId2"/>
          <a:stretch/>
        </p:blipFill>
        <p:spPr>
          <a:xfrm>
            <a:off x="4267080" y="3733920"/>
            <a:ext cx="3733920" cy="28000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143000" y="45720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Gothic"/>
              </a:rPr>
              <a:t>Dióps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1T14:51:05Z</dcterms:created>
  <dc:creator>Yuki</dc:creator>
  <dc:description/>
  <dc:language>en-US</dc:language>
  <cp:lastModifiedBy>pagalvez</cp:lastModifiedBy>
  <dcterms:modified xsi:type="dcterms:W3CDTF">2007-10-16T13:30:55Z</dcterms:modified>
  <cp:revision>5</cp:revision>
  <dc:subject/>
  <dc:title>Inosilicatos I</dc:title>
</cp:coreProperties>
</file>