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F0B-3B12-419D-98AB-80CDEB41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773-063E-4F6F-A3A2-F285B486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829-BD3C-4840-832A-96EDCCC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FFF-F8B9-4531-88DF-22DF599E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B06-339F-422B-B17A-F2B37D84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8CC-A346-4062-99C5-24535AFA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AC74-EC55-48FF-933E-FC5D6C2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97F-655C-4270-A2FB-58D4E7D4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F79-4D9F-46E4-B1E6-8FA5C729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883-5989-4696-B733-FDC45F73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B1D-F73C-4C39-B94B-9171ECD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F57-AACF-4547-BD06-4C15F6D4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4E5D-230F-48B9-A177-EB8DFC1B34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ilosilicatos 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otita, Muscovita, Serp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60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72608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Crisotilo alterando oli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kins, Minerales en lámina del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K(Mg, Fe)3AlSi3O10(OH, F)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café rojizo 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resenta pleocroísmo, absorción 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de interferencia hasta rojo de segundo orden, puede estar enmasc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xtinción a punt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485640"/>
            <a:ext cx="2992680" cy="637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030640" cy="31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29400" y="2819520"/>
            <a:ext cx="2133720" cy="198108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Bt a nicoles X; extinción a punt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(OH,F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ristales tabulares, o agregados escam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según {00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puntitos, paralela a exfol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interferencia hasta 2º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7949"/>
          <a:stretch/>
        </p:blipFill>
        <p:spPr>
          <a:xfrm>
            <a:off x="304920" y="175248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4071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Nicoles  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rcRect l="0" t="0" r="9262" b="0"/>
          <a:stretch/>
        </p:blipFill>
        <p:spPr>
          <a:xfrm>
            <a:off x="304920" y="4121280"/>
            <a:ext cx="3733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 y 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9449" b="0"/>
          <a:stretch/>
        </p:blipFill>
        <p:spPr>
          <a:xfrm>
            <a:off x="0" y="1447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2702" t="0" r="20271" b="0"/>
          <a:stretch/>
        </p:blipFill>
        <p:spPr>
          <a:xfrm>
            <a:off x="4800600" y="2629080"/>
            <a:ext cx="4343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 (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g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9</a:t>
            </a: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 a verde p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stant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fibrosos-lame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amarillo de primer orden con tinte ver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largo l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Crisot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sualmente en venas de fibr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 amarillo brillante de primer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fibras largo l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98920" cy="23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701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333" t="0" r="12500" b="0"/>
          <a:stretch/>
        </p:blipFill>
        <p:spPr>
          <a:xfrm>
            <a:off x="5257800" y="1523880"/>
            <a:ext cx="3581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7:34:52Z</dcterms:created>
  <dc:creator>Yuki</dc:creator>
  <dc:description/>
  <dc:language>en-US</dc:language>
  <cp:lastModifiedBy>AcerDos</cp:lastModifiedBy>
  <dcterms:modified xsi:type="dcterms:W3CDTF">2007-10-02T18:20:35Z</dcterms:modified>
  <cp:revision>9</cp:revision>
  <dc:subject/>
  <dc:title>Filosilicatos parte 1</dc:title>
</cp:coreProperties>
</file>