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332-31C1-425D-AF62-F779200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8CF-3032-453A-8D98-E5BE937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33C-83E1-459D-8B5B-610C236C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078-84D9-43B5-A58C-E5654B3C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971-0335-45CE-A6F5-C165BE6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ED5-6307-4064-ADC0-BB74C238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516-217E-4E37-917E-155619C6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472-5E88-4E62-90E7-A32DF9D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48A-4FD9-48A8-8709-85A0AE38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730-D07D-4190-B72A-34EF71E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B07-80DD-4B79-8234-9AC4F16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9E3-95D8-4DB4-AF69-2CC2277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5368-A9DE-4CA0-A5AF-834AF65D4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Fil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lorita, Preh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 verde, a veces pleocr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anóm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Biaxial (+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Forma escamosa, abanico,cristales tab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ineral de metamorfismo de bajo grado, a menudo altera mine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888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268520" cy="323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924280"/>
            <a:ext cx="72108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472428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4149720"/>
            <a:ext cx="72072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56536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9736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897360" cy="287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205000"/>
            <a:ext cx="165744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3645000"/>
            <a:ext cx="165708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gregados hojosos, como aba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segund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 extinción en aba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9572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988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430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paral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6956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08:16Z</dcterms:created>
  <dc:creator>yuki</dc:creator>
  <dc:description/>
  <dc:language>en-US</dc:language>
  <cp:lastModifiedBy>pagalvez</cp:lastModifiedBy>
  <dcterms:modified xsi:type="dcterms:W3CDTF">2007-10-16T13:28:20Z</dcterms:modified>
  <cp:revision>4</cp:revision>
  <dc:subject/>
  <dc:title>Filosilicatos 2</dc:title>
</cp:coreProperties>
</file>