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B42-A436-4A26-A90E-C130E02A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CBC-7960-44A0-9392-C2B50D3E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CA9-BB5F-4A1E-8FE2-B0411673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B14-8DBD-4482-9A17-B410467F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F6D-C1E1-4D8D-B7F8-123CF3A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186-9B05-4E26-9063-03F96B88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6C2-5B61-45D8-928A-86922141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52B-211B-4061-8B76-21131DF6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7E5-9FA7-463D-9796-1B060F52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4BA-3877-48BE-8C86-0C2E09D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00D-0172-421B-B99D-4565834C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365-2831-4B0D-A138-20DC5FDB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466A-E228-460A-9ABA-DC125E27593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ilosilicatos part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Biotita, Muscovita, Serp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72608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726080" cy="2895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5181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Crisotilo alterando oliv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Kerr, Mineralogía ó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erkins, Minerales en lámina del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K(Mg, Fe)3AlSi3O10(OH, F)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olor café rojizo a ve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resenta pleocroísmo, absorción 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olor de interferencia hasta rojo de segundo orden, puede estar enmasca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Extinción a punt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485640"/>
            <a:ext cx="2992680" cy="637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5030640" cy="313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629400" y="2819520"/>
            <a:ext cx="2133720" cy="198108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029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Bt a nicoles X; extinción a punt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Al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(OH,F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ristales tabulares, o agregados escam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según {00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a puntitos, paralela a exfol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es de interferencia hasta 2º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neg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17949"/>
          <a:stretch/>
        </p:blipFill>
        <p:spPr>
          <a:xfrm>
            <a:off x="304920" y="1752480"/>
            <a:ext cx="371448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76920" y="4071960"/>
            <a:ext cx="3714480" cy="2786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Nicoles  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rcRect l="0" t="0" r="9262" b="0"/>
          <a:stretch/>
        </p:blipFill>
        <p:spPr>
          <a:xfrm>
            <a:off x="304920" y="4121280"/>
            <a:ext cx="3733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 y 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19449" b="0"/>
          <a:stretch/>
        </p:blipFill>
        <p:spPr>
          <a:xfrm>
            <a:off x="0" y="144792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2702" t="0" r="20271" b="0"/>
          <a:stretch/>
        </p:blipFill>
        <p:spPr>
          <a:xfrm>
            <a:off x="4800600" y="2629080"/>
            <a:ext cx="4343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 (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g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9</a:t>
            </a: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Antigorita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 a verde p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stante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gregados fibrosos-lame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:amarillo de primer orden con tinte ver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, largo l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ineral de alt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Crisoti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sualmente en venas de fibras transver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: amarillo brillante de primer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, fibras largo l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ineral de alt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598920" cy="23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570120" cy="234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ntigo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rcRect l="8333" t="0" r="12500" b="0"/>
          <a:stretch/>
        </p:blipFill>
        <p:spPr>
          <a:xfrm>
            <a:off x="5257800" y="1523880"/>
            <a:ext cx="3581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7:34:52Z</dcterms:created>
  <dc:creator>Yuki</dc:creator>
  <dc:description/>
  <dc:language>en-US</dc:language>
  <cp:lastModifiedBy>AcerDos</cp:lastModifiedBy>
  <dcterms:modified xsi:type="dcterms:W3CDTF">2007-10-02T18:20:35Z</dcterms:modified>
  <cp:revision>9</cp:revision>
  <dc:subject/>
  <dc:title>Filosilicatos parte 1</dc:title>
</cp:coreProperties>
</file>