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ACC-472D-4ADA-8183-B191AD21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59F-2A83-45D9-AEE6-39A2BAB3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567-6723-4EC3-9A62-19F67A2F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A9A-7776-4AA6-87B3-1FF33BD5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37C-8211-4273-B920-F38F9744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41A-9B82-45EE-B965-21AE63F9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A69-311B-4673-A2A7-B7C107B9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EBF-9B33-4D2E-8DF2-1785342B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2CF-7762-4985-B8F9-95E307E4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2BB-B87C-4B52-B4A9-864E967B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E5D-7D47-434C-9105-E8B04661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B56-9815-4CE4-A951-43F1DC01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6DAB-D3B5-44DA-9A86-DCF86E3F5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Filosilicato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lorita, Prehn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 verde, a veces pleocro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es de interferencia anóma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Biaxial (+ 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Forma escamosa, abanico,cristales tabu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Mineral de metamorfismo de bajo grado, a menudo altera mine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268880" cy="323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4268520" cy="323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8000" y="2924280"/>
            <a:ext cx="721080" cy="792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51640" y="4724280"/>
            <a:ext cx="720720" cy="792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4149720"/>
            <a:ext cx="720720" cy="792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2565360"/>
            <a:ext cx="720720" cy="792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897360" cy="287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3897360" cy="287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2205000"/>
            <a:ext cx="1657440" cy="2808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3645000"/>
            <a:ext cx="1657080" cy="2808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rehn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col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gregados hojosos, como aba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es de interferencia de segundo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uede presentar  extinción en aba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rehn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195720" cy="240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098880" cy="2405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0360" y="2060640"/>
            <a:ext cx="1224000" cy="1008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2060640"/>
            <a:ext cx="1224000" cy="1008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44308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icoles paral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443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icoles cru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Prehn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19640" y="2205000"/>
            <a:ext cx="269568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24000" y="558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icoles cru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0:08:16Z</dcterms:created>
  <dc:creator>yuki</dc:creator>
  <dc:description/>
  <dc:language>en-US</dc:language>
  <cp:lastModifiedBy>pagalvez</cp:lastModifiedBy>
  <dcterms:modified xsi:type="dcterms:W3CDTF">2007-10-16T13:28:20Z</dcterms:modified>
  <cp:revision>4</cp:revision>
  <dc:subject/>
  <dc:title>Filosilicatos 2</dc:title>
</cp:coreProperties>
</file>