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238-CC56-40E4-AD13-F9E6A2DA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C18C-D79F-4231-B179-84119BE2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F97F-A6A3-43E7-AE40-09391BE4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CC7-52B4-4E8D-BD21-9CF08FC5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B11-C38F-4492-9CC9-9B49A6CD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93E-9F58-4108-87BA-DEC106D3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10FF-D1B5-4588-A94D-47CAF2F1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85C3-E94F-486E-9B60-3E69A10D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ED3-5B5A-4B19-A523-01712A39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7737-5F50-4433-8770-016728D9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C420-60A3-4F79-915B-8DA06B4D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9FA-46ED-4354-8FB3-37B4E3D3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7B94-52B2-42FE-8505-C78C00D02C5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Filosilicatos part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Biotita, Muscovita, Serpen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Serpent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72608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4726080" cy="2895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8600" y="51814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Crisotilo alterando oliv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Kerr, Mineralogía ó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Perkins, Minerales en lámina del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Bio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K(Mg, Fe)3AlSi3O10(OH, F)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Color café rojizo a ve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Presenta pleocroísmo, absorción 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Color de interferencia hasta rojo de segundo orden, puede estar enmasca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Extinción a punt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Biaxial neg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Bio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485640"/>
            <a:ext cx="2992680" cy="637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33920" y="1905120"/>
            <a:ext cx="5030640" cy="3133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629400" y="2819520"/>
            <a:ext cx="2133720" cy="198108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5029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Bt a nicoles X; extinción a punt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Muscov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Al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(OH,F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ristales tabulares, o agregados escam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livaje según {00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a puntitos, paralela a exfol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es de interferencia hasta 2º o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neg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Muscov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0" b="17949"/>
          <a:stretch/>
        </p:blipFill>
        <p:spPr>
          <a:xfrm>
            <a:off x="304920" y="1752480"/>
            <a:ext cx="371448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876920" y="4071960"/>
            <a:ext cx="3714480" cy="2786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Nicoles  /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rcRect l="0" t="0" r="9262" b="0"/>
          <a:stretch/>
        </p:blipFill>
        <p:spPr>
          <a:xfrm>
            <a:off x="304920" y="4121280"/>
            <a:ext cx="37335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Biotita y Muscov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19449" b="0"/>
          <a:stretch/>
        </p:blipFill>
        <p:spPr>
          <a:xfrm>
            <a:off x="0" y="1447920"/>
            <a:ext cx="4419720" cy="4114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2702" t="0" r="20271" b="0"/>
          <a:stretch/>
        </p:blipFill>
        <p:spPr>
          <a:xfrm>
            <a:off x="4800600" y="2629080"/>
            <a:ext cx="43434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Serpentina (</a:t>
            </a:r>
            <a:r>
              <a:rPr b="0" lang="es-ES" sz="4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</a:t>
            </a:r>
            <a:r>
              <a:rPr b="0" lang="es-ES" sz="44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4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g</a:t>
            </a:r>
            <a:r>
              <a:rPr b="0" lang="es-ES" sz="44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4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44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4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44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9</a:t>
            </a: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Antigorita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o a verde pá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stante 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Agregados fibrosos-lame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 de interferencia:amarillo de primer orden con tinte verd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paralela, largo lent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ineral de alt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Serpent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Crisoti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Usualmente en venas de fibras transver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 de interferencia: amarillo brillante de primer o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paralela, fibras largo l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ineral de alt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Serpent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598920" cy="2341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3570120" cy="2347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6248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Antigo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rcRect l="8333" t="0" r="12500" b="0"/>
          <a:stretch/>
        </p:blipFill>
        <p:spPr>
          <a:xfrm>
            <a:off x="5257800" y="1523880"/>
            <a:ext cx="35812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7:34:52Z</dcterms:created>
  <dc:creator>Yuki</dc:creator>
  <dc:description/>
  <dc:language>en-US</dc:language>
  <cp:lastModifiedBy>AcerDos</cp:lastModifiedBy>
  <dcterms:modified xsi:type="dcterms:W3CDTF">2007-10-02T18:20:35Z</dcterms:modified>
  <cp:revision>9</cp:revision>
  <dc:subject/>
  <dc:title>Filosilicatos parte 1</dc:title>
</cp:coreProperties>
</file>