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E1F7-69DD-4A0C-AE04-8909AFDEE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30A0-F20D-4A0C-8B01-DC140371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43C-E017-4442-8E44-23F8CBD7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1471-7550-4AFE-A095-3C6CFA47B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4FB5-A6AF-4D44-9E2B-658E0893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BBF5-BAF3-4828-ACFF-69F2C56DD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21EF-2372-4CE0-9DA6-A817A4A5D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F414-527C-4FF0-A991-A72B20938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6ABB-D4F8-4FDC-84D1-DEE45195E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2DC-1372-4F22-B379-360ED775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3ADD-6722-4744-AFA2-9516A4DA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54E0-A3AD-496B-9E3E-AF04569C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9CC4-D642-49D2-838D-4F2BFE9A3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Filosilicato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lorita, Prehn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or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lor verde, a veces pleocro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Colores de interferencia anóma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entury Gothic"/>
              </a:rPr>
              <a:t>Biaxial (+ -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Forma escamosa, abanico,cristales tabula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Century Gothic"/>
              </a:rPr>
              <a:t>Mineral de metamorfismo de bajo grado, a menudo altera mine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r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4268880" cy="3238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4268520" cy="3238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908000" y="2924280"/>
            <a:ext cx="721080" cy="79200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651640" y="4724280"/>
            <a:ext cx="720720" cy="79236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08720" y="4149720"/>
            <a:ext cx="720720" cy="79200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48000" y="2565360"/>
            <a:ext cx="720720" cy="79236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Clor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3897360" cy="2878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356000" y="3357720"/>
            <a:ext cx="3897360" cy="2877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42920" y="2205000"/>
            <a:ext cx="1657440" cy="280836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148360" y="3645000"/>
            <a:ext cx="1657080" cy="280836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rehn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Incol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Biaxial posi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gregados hojosos, como aba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olores de interferencia de segundo 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Puede presentar  extinción en aban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entury Gothic"/>
              </a:rPr>
              <a:t>Prehn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3195720" cy="2403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098880" cy="2405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940360" y="2060640"/>
            <a:ext cx="1224000" cy="100800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35280" y="2060640"/>
            <a:ext cx="1224000" cy="1008000"/>
          </a:xfrm>
          <a:prstGeom prst="ellipse">
            <a:avLst/>
          </a:prstGeom>
          <a:noFill/>
          <a:ln w="414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58920" y="44308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Nicoles parale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219640" y="443700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Nicoles cru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entury Gothic"/>
              </a:rPr>
              <a:t>Prehn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2876400" cy="2876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219640" y="2205000"/>
            <a:ext cx="269568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124000" y="55897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entury Gothic"/>
              </a:rPr>
              <a:t>Nicoles cruz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10:08:16Z</dcterms:created>
  <dc:creator>yuki</dc:creator>
  <dc:description/>
  <dc:language>en-US</dc:language>
  <cp:lastModifiedBy>pagalvez</cp:lastModifiedBy>
  <dcterms:modified xsi:type="dcterms:W3CDTF">2007-10-16T13:28:20Z</dcterms:modified>
  <cp:revision>4</cp:revision>
  <dc:subject/>
  <dc:title>Filosilicatos 2</dc:title>
</cp:coreProperties>
</file>