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43B-0666-47A8-847A-B489147A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158-BD61-4922-8F2B-87475FCE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4DC-9CE4-4200-9204-F9E81E78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CDA-657B-4DE4-A460-65AE6685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F5A-5053-4438-9E05-16A0CEAE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0F1-3C73-40E8-A02D-8DB085F1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369-1B3D-48E3-9D8C-880A7DA8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1D8-B16D-43A4-8842-B62DD75D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DBA-668B-4623-B569-787E6C61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B9E-81B8-4910-A7C1-FD1DA827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855-2F66-45B5-B65A-896BF847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3C7-EAE5-484F-A428-1BDD7C62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E4EA-6062-4B41-BDE5-47538898E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Filosilicato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lorita, Prehn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 verde, a veces pleocro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es de interferencia anóma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Biaxial (+ 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Forma escamosa, abanico,cristales tabu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Mineral de metamorfismo de bajo grado, a menudo altera mine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268880" cy="323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4268520" cy="323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8000" y="2924280"/>
            <a:ext cx="721080" cy="792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51640" y="4724280"/>
            <a:ext cx="720720" cy="792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4149720"/>
            <a:ext cx="720720" cy="792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2565360"/>
            <a:ext cx="720720" cy="792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897360" cy="287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3897360" cy="287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2205000"/>
            <a:ext cx="1657440" cy="2808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3645000"/>
            <a:ext cx="1657080" cy="2808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rehn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col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gregados hojosos, como aba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es de interferencia de segundo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uede presentar  extinción en aba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rehn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195720" cy="240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098880" cy="2405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0360" y="2060640"/>
            <a:ext cx="1224000" cy="1008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2060640"/>
            <a:ext cx="1224000" cy="1008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44308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icoles paral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443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icoles cru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Prehn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19640" y="2205000"/>
            <a:ext cx="269568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24000" y="558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icoles cru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0:08:16Z</dcterms:created>
  <dc:creator>yuki</dc:creator>
  <dc:description/>
  <dc:language>en-US</dc:language>
  <cp:lastModifiedBy>pagalvez</cp:lastModifiedBy>
  <dcterms:modified xsi:type="dcterms:W3CDTF">2007-10-16T13:28:20Z</dcterms:modified>
  <cp:revision>4</cp:revision>
  <dc:subject/>
  <dc:title>Filosilicatos 2</dc:title>
</cp:coreProperties>
</file>