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0DB-B5EE-4BF7-8EB1-D402A620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51E-E8F8-441A-86AF-70512980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56D-62F4-4BC4-9FBA-B4848E06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F97-F10B-4F85-972C-786AFD26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8C8-D223-4D96-B880-1A9AE9E1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02C-BDC1-40D7-82DF-C8FE3D1B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751-E448-4453-ABF2-AC320312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E18-E126-467B-8985-D756DC8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1B6-C558-491B-AB28-3E7F13F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EBF-2D8D-40C8-B817-B158913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11D-D74D-4B54-8936-1566578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0D6-E535-425C-BAAB-FC0810E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458-0576-4CFD-98BA-C254FF6F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Fil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lorita, Preh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 verde, a veces pleocr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anóm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Biaxial (+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Forma escamosa, abanico,cristales tab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ineral de metamorfismo de bajo grado, a menudo altera mine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888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268520" cy="323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924280"/>
            <a:ext cx="72108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472428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4149720"/>
            <a:ext cx="72072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56536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9736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897360" cy="287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205000"/>
            <a:ext cx="165744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3645000"/>
            <a:ext cx="165708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gregados hojosos, como aba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segund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 extinción en aba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9572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988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430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paral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6956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08:16Z</dcterms:created>
  <dc:creator>yuki</dc:creator>
  <dc:description/>
  <dc:language>en-US</dc:language>
  <cp:lastModifiedBy>pagalvez</cp:lastModifiedBy>
  <dcterms:modified xsi:type="dcterms:W3CDTF">2007-10-16T13:28:20Z</dcterms:modified>
  <cp:revision>4</cp:revision>
  <dc:subject/>
  <dc:title>Filosilicatos 2</dc:title>
</cp:coreProperties>
</file>