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3CE-A6DB-4004-B25A-739DD8A0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6DC-D11D-4406-A183-5A8F022A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184-1C61-4749-9214-40BF62C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EE3-D6EF-4CD9-9ECD-7D1C93A3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690-6500-4C88-AC10-55A116C4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186-48A7-4B78-8CF0-5C19416A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938-DD92-405E-9F51-9DDB449C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A40-EF64-4D40-890D-77390962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B80-1B86-4208-9BD6-F038B64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B9E-0B6C-469B-B5BC-C110F09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D0B-4580-4A23-883D-DD4803B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A79-79A0-4FC7-A25C-B4FB9E8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F01B-37D7-4F5D-9DEC-E710940903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ilosilicatos part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otita, Muscovita, Serp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60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726080" cy="289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Crisotilo alterando oli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erkins, Minerales en lámina del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K(Mg, Fe)3AlSi3O10(OH, F)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café rojizo a ve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resenta pleocroísmo, absorción 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de interferencia hasta rojo de segundo orden, puede estar enmasc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xtinción a punt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485640"/>
            <a:ext cx="2992680" cy="637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030640" cy="31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29400" y="2819520"/>
            <a:ext cx="2133720" cy="198108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029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Bt a nicoles X; extinción a punt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(OH,F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ristales tabulares, o agregados escam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según {00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puntitos, paralela a exfol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interferencia hasta 2º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7949"/>
          <a:stretch/>
        </p:blipFill>
        <p:spPr>
          <a:xfrm>
            <a:off x="304920" y="175248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40719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Nicoles  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rcRect l="0" t="0" r="9262" b="0"/>
          <a:stretch/>
        </p:blipFill>
        <p:spPr>
          <a:xfrm>
            <a:off x="304920" y="4121280"/>
            <a:ext cx="3733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 y 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9449" b="0"/>
          <a:stretch/>
        </p:blipFill>
        <p:spPr>
          <a:xfrm>
            <a:off x="0" y="1447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2702" t="0" r="20271" b="0"/>
          <a:stretch/>
        </p:blipFill>
        <p:spPr>
          <a:xfrm>
            <a:off x="4800600" y="2629080"/>
            <a:ext cx="4343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 (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g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9</a:t>
            </a: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 a verde p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stant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fibrosos-lame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amarillo de primer orden con tinte ver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largo l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Crisot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sualmente en venas de fibras transver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 amarillo brillante de primer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fibras largo l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98920" cy="23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570120" cy="234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333" t="0" r="12500" b="0"/>
          <a:stretch/>
        </p:blipFill>
        <p:spPr>
          <a:xfrm>
            <a:off x="5257800" y="1523880"/>
            <a:ext cx="3581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7:34:52Z</dcterms:created>
  <dc:creator>Yuki</dc:creator>
  <dc:description/>
  <dc:language>en-US</dc:language>
  <cp:lastModifiedBy>AcerDos</cp:lastModifiedBy>
  <dcterms:modified xsi:type="dcterms:W3CDTF">2007-10-02T18:20:35Z</dcterms:modified>
  <cp:revision>9</cp:revision>
  <dc:subject/>
  <dc:title>Filosilicatos parte 1</dc:title>
</cp:coreProperties>
</file>