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4560-4EAC-4F90-972E-647D4A22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B85B-85FE-4573-8230-9254923BC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6C06-D5AF-4BD4-A776-4EB830B42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564A-E76A-48D5-B2E9-2D480730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51BF-45DE-4E3B-B2FE-EA680AA6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C21C-331B-487E-B318-CA9F2FE6C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283-CED8-44DE-BFDC-1EE67ACFD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217D-2C5F-48D7-BEAD-9A77B2B48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2627B-6D4B-4DAF-BD92-87FC6E89C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5877-0496-4369-8E35-09623AA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94D6-6AB4-48AD-8A7D-FB605F87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2D9-4E54-4356-8189-20C55602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CFBA-C003-4EF7-8D78-3F41743AFE02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Filosilicatos parte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otita, Muscovita, Serpenti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72608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038480" y="3581280"/>
            <a:ext cx="4726080" cy="28958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" y="518148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Crisotilo alterando oliv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Refer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Kerr, Mineralogía óp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erkins, Minerales en lámina delg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K(Mg, Fe)3AlSi3O10(OH, F)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café rojizo a ver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Presenta pleocroísmo, absorción 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Color de interferencia hasta rojo de segundo orden, puede estar enmasca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Extinción a punti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entury Gothic"/>
              </a:rPr>
              <a:t>Biaxial nega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485640"/>
            <a:ext cx="2992680" cy="6372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33920" y="1905120"/>
            <a:ext cx="5030640" cy="3133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629400" y="2819520"/>
            <a:ext cx="2133720" cy="198108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733920" y="50292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Bt a nicoles X; extinción a punti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KAl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(AlSi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10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)(OH,F)</a:t>
            </a:r>
            <a:r>
              <a:rPr b="0" lang="es-ES" sz="28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ristales tabulares, o agregados escam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livaje según {001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a puntitos, paralela a exfol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es de interferencia hasta 2º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Biaxial neg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0" b="17949"/>
          <a:stretch/>
        </p:blipFill>
        <p:spPr>
          <a:xfrm>
            <a:off x="304920" y="1752480"/>
            <a:ext cx="3714480" cy="2286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14480" cy="27860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876920" y="4071960"/>
            <a:ext cx="3714480" cy="2786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0492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entury Gothic"/>
              </a:rPr>
              <a:t>Nicoles  /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rcRect l="0" t="0" r="9262" b="0"/>
          <a:stretch/>
        </p:blipFill>
        <p:spPr>
          <a:xfrm>
            <a:off x="304920" y="4121280"/>
            <a:ext cx="3733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Biotita y Muscovi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19449" b="0"/>
          <a:stretch/>
        </p:blipFill>
        <p:spPr>
          <a:xfrm>
            <a:off x="0" y="1447920"/>
            <a:ext cx="44197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2702" t="0" r="20271" b="0"/>
          <a:stretch/>
        </p:blipFill>
        <p:spPr>
          <a:xfrm>
            <a:off x="4800600" y="2629080"/>
            <a:ext cx="4343400" cy="42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 (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H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4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Mg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i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2</a:t>
            </a:r>
            <a:r>
              <a:rPr b="0" lang="es-ES" sz="4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O</a:t>
            </a:r>
            <a:r>
              <a:rPr b="0" lang="es-ES" sz="4400" spc="-1" strike="noStrike" baseline="-30000">
                <a:solidFill>
                  <a:srgbClr val="000000"/>
                </a:solidFill>
                <a:latin typeface="Century Gothic"/>
                <a:ea typeface="Times New Roman"/>
              </a:rPr>
              <a:t>9</a:t>
            </a: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 a verde pá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stant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Agregados fibrosos-lamel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amarillo de primer orden con tinte verdo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largo lent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Crisoti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Usualmente en venas de fibras transver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Relieve ba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Color de interferencia: amarillo brillante de primer or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Extinción paralela, fibras largo l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entury Gothic"/>
              </a:rPr>
              <a:t>Mineral de alt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cc66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Serpentin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3598920" cy="2341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3570120" cy="2347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0" y="62485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entury Gothic"/>
              </a:rPr>
              <a:t>Antigo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3"/>
          <a:srcRect l="8333" t="0" r="12500" b="0"/>
          <a:stretch/>
        </p:blipFill>
        <p:spPr>
          <a:xfrm>
            <a:off x="5257800" y="1523880"/>
            <a:ext cx="35812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5T17:34:52Z</dcterms:created>
  <dc:creator>Yuki</dc:creator>
  <dc:description/>
  <dc:language>en-US</dc:language>
  <cp:lastModifiedBy>AcerDos</cp:lastModifiedBy>
  <dcterms:modified xsi:type="dcterms:W3CDTF">2007-10-02T18:20:35Z</dcterms:modified>
  <cp:revision>9</cp:revision>
  <dc:subject/>
  <dc:title>Filosilicatos parte 1</dc:title>
</cp:coreProperties>
</file>