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11A6-B79D-4F81-BD0E-34CFA0E1D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8E3F-9348-47FE-8A63-7F7D813B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546D-C4D0-41C5-A972-B421C4F9D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FB21-2E11-401C-85F0-A60F77DC3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E6B3-2B06-4F65-BA25-F19A3D75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9E8C-D84F-414F-98E6-2E3DF084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20EC-7670-4859-BD2C-D2DE44F4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613A-828A-4D33-B268-04CDB940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E64F-181F-4333-AD74-7E1B1CC1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CA77-A148-4D64-9A4B-E7713C52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AD3C-4FED-48C6-AC29-0E9B7064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8E29-2455-4570-A563-70CF9E9C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CCFA-28F2-45E0-8717-4AF7682FF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oratorio I: Columnas Estratigráf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589720"/>
            <a:ext cx="640080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41E – Estratigrafía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10920" y="1125000"/>
            <a:ext cx="78483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. Continuidad lateral original (Steensen, 166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s estratos se extienden en todas direcciones de manera finita, pudiendo éstos truncarse, acuñarse, interdigitarse o grada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692280"/>
            <a:ext cx="3949920" cy="2323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258920" y="3317760"/>
            <a:ext cx="619272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826560" y="1341360"/>
            <a:ext cx="792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iformitarianismo (Hutton, 178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presente es la llave del pasado”, esto es, los procesos que son observados hoy, son también observados en el pasado geológ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cesión Biológica o Faunística (Smith, 18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vida (y por ende los fósiles) en los diferentes períodos de la historia de la Tierra difieren entre sí, por lo que depósitos contemporáneos pueden correlacionarse y reconstruir una secuencia cronológica del registro estratigrá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942840"/>
            <a:ext cx="874872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4247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tastrofismo (Cuvier y Brongniart, 18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rupos de estratos son separados comúnmente por cambios abruptos en el registro fósil, indicando grandes catástrofes en diferentes tiempos de la historia de la Tierra. (Gaps en el registro fósi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792180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dades relativas (Lyell, 18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edades relativas de los estratos pueden inferirse viendo las relaciones de contacto entre ellos (concordantes, discordantes, gaps) y las relaciones de corte (intrusivos, fall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770580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770400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ati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ma de la Geología que se ocupa del estudio (identificación, descripción, clasificación, subdivisión) e interpretación de las unidades de rocas agrupadas por características simil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9280" y="71280"/>
            <a:ext cx="889344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60360" y="765000"/>
            <a:ext cx="8388360" cy="553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na Estratigráf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e ten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olog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sor de las 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eza rel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b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en estar representadas las relaciones de cont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ósiles y estructuras sedimentar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eden o no estar representados los intru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teos de los estratos NO  se toman en cu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pótesi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perposición (Steensen, 166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una secuencia de estratos no deformada, aquellos más antiguos se ubican en la base y los más nuevos hacia el t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7929360" cy="38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916360" y="90792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erios de polar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16360" y="1844640"/>
            <a:ext cx="3574800" cy="1800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987640" y="4292640"/>
            <a:ext cx="344484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790560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izontalidad Original (Steensen, 166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depositación de material sedimentario es en capas horizontales a subhorizontales, paralelo a la superficie de deposición (estratos inclinados indican una deformación post-deposit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878544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1471680"/>
            <a:ext cx="835344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1:02:33Z</dcterms:created>
  <dc:creator>Gonzalo Huerta Vásquez</dc:creator>
  <dc:description/>
  <dc:language>en-US</dc:language>
  <cp:lastModifiedBy>Gonzalo Huerta Vásquez</cp:lastModifiedBy>
  <dcterms:modified xsi:type="dcterms:W3CDTF">2007-07-30T03:35:41Z</dcterms:modified>
  <cp:revision>8</cp:revision>
  <dc:subject/>
  <dc:title>Laboratorio I: Columnas Estratigráficas</dc:title>
</cp:coreProperties>
</file>