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DBE-2403-411D-91D3-53DCD6E4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E2C-E4CF-46BD-BE5A-9C809143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769E-E41C-439B-A6CB-6C11B96F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88E-B3A2-4CC6-93F4-B2046EF2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23F7-D71C-4DAC-A0E0-FEC4F9B1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201E-DB28-49A0-A272-B6675700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E025-33A7-4C19-BF64-8850927E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851D-B036-483C-A0D9-BD35E276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0475-8123-4CB4-91B0-8ED1D077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B3C6-BB7C-49EC-85EA-2174E00E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D8E1-16D0-4058-8F9C-6DBBB534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479-4F40-4DE9-B97E-9E794E9A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FC9A-AFCE-4C2B-95AC-571289E4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2AF9-EEF8-4F02-9CC0-78C7F4F5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A012-0516-4072-9B99-EC07FAB1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FD37-17D5-4257-9F6B-E5C339A8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07F9-5B56-4E06-963E-F67DD682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CFB6-0DC3-498B-A921-289C7AF2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311-146E-4A51-8D53-38E1DA8B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0D69-5C7D-46CB-852F-88A19DCC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898-1E36-4E27-A61B-51E0F605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4E13-AC1F-4289-88E5-80F9CD79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842-1CCE-46C8-A1FE-443C0DF3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DFF-F7C2-4292-AACF-E2AE8B8E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F721-944E-48D7-96CE-F7EE7A3AE87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3D36-8E9B-473E-84AF-2F78050ABAD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boratorio X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pas Estratigráficos Compues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pas compuest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mbinación de toda la información disponible de una zona (alturas, litologías, bioestratigrafía, etc) en un solo map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987640" y="3789360"/>
            <a:ext cx="3096720" cy="2592000"/>
            <a:chOff x="2987640" y="3789360"/>
            <a:chExt cx="3096720" cy="2592000"/>
          </a:xfrm>
        </p:grpSpPr>
        <p:sp>
          <p:nvSpPr>
            <p:cNvPr id="93" name=""/>
            <p:cNvSpPr/>
            <p:nvPr/>
          </p:nvSpPr>
          <p:spPr>
            <a:xfrm>
              <a:off x="2987640" y="3789360"/>
              <a:ext cx="3079800" cy="2592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87640" y="3789360"/>
              <a:ext cx="1590840" cy="812880"/>
            </a:xfrm>
            <a:custGeom>
              <a:avLst/>
              <a:gdLst/>
              <a:ahLst/>
              <a:rect l="l" t="t" r="r" b="b"/>
              <a:pathLst>
                <a:path w="744" h="414">
                  <a:moveTo>
                    <a:pt x="0" y="414"/>
                  </a:moveTo>
                  <a:cubicBezTo>
                    <a:pt x="83" y="399"/>
                    <a:pt x="167" y="386"/>
                    <a:pt x="252" y="349"/>
                  </a:cubicBezTo>
                  <a:cubicBezTo>
                    <a:pt x="337" y="312"/>
                    <a:pt x="452" y="235"/>
                    <a:pt x="510" y="192"/>
                  </a:cubicBezTo>
                  <a:cubicBezTo>
                    <a:pt x="568" y="149"/>
                    <a:pt x="564" y="125"/>
                    <a:pt x="603" y="93"/>
                  </a:cubicBezTo>
                  <a:cubicBezTo>
                    <a:pt x="642" y="61"/>
                    <a:pt x="715" y="20"/>
                    <a:pt x="74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87640" y="3789360"/>
              <a:ext cx="2283840" cy="1776960"/>
            </a:xfrm>
            <a:custGeom>
              <a:avLst/>
              <a:gdLst/>
              <a:ahLst/>
              <a:rect l="l" t="t" r="r" b="b"/>
              <a:pathLst>
                <a:path w="1068" h="905">
                  <a:moveTo>
                    <a:pt x="0" y="900"/>
                  </a:moveTo>
                  <a:cubicBezTo>
                    <a:pt x="86" y="902"/>
                    <a:pt x="173" y="905"/>
                    <a:pt x="258" y="882"/>
                  </a:cubicBezTo>
                  <a:cubicBezTo>
                    <a:pt x="343" y="859"/>
                    <a:pt x="444" y="829"/>
                    <a:pt x="510" y="762"/>
                  </a:cubicBezTo>
                  <a:cubicBezTo>
                    <a:pt x="576" y="695"/>
                    <a:pt x="604" y="563"/>
                    <a:pt x="654" y="480"/>
                  </a:cubicBezTo>
                  <a:cubicBezTo>
                    <a:pt x="704" y="397"/>
                    <a:pt x="741" y="344"/>
                    <a:pt x="810" y="264"/>
                  </a:cubicBezTo>
                  <a:cubicBezTo>
                    <a:pt x="879" y="184"/>
                    <a:pt x="973" y="92"/>
                    <a:pt x="106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87640" y="3789360"/>
              <a:ext cx="3079800" cy="2288160"/>
            </a:xfrm>
            <a:custGeom>
              <a:avLst/>
              <a:gdLst/>
              <a:ahLst/>
              <a:rect l="l" t="t" r="r" b="b"/>
              <a:pathLst>
                <a:path w="1440" h="1165">
                  <a:moveTo>
                    <a:pt x="0" y="1140"/>
                  </a:moveTo>
                  <a:cubicBezTo>
                    <a:pt x="172" y="1152"/>
                    <a:pt x="345" y="1165"/>
                    <a:pt x="480" y="1104"/>
                  </a:cubicBezTo>
                  <a:cubicBezTo>
                    <a:pt x="615" y="1043"/>
                    <a:pt x="738" y="859"/>
                    <a:pt x="810" y="774"/>
                  </a:cubicBezTo>
                  <a:cubicBezTo>
                    <a:pt x="882" y="689"/>
                    <a:pt x="869" y="669"/>
                    <a:pt x="912" y="594"/>
                  </a:cubicBezTo>
                  <a:cubicBezTo>
                    <a:pt x="955" y="519"/>
                    <a:pt x="1001" y="405"/>
                    <a:pt x="1068" y="324"/>
                  </a:cubicBezTo>
                  <a:cubicBezTo>
                    <a:pt x="1135" y="243"/>
                    <a:pt x="1252" y="162"/>
                    <a:pt x="1314" y="108"/>
                  </a:cubicBezTo>
                  <a:cubicBezTo>
                    <a:pt x="1376" y="54"/>
                    <a:pt x="1419" y="18"/>
                    <a:pt x="144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8480" y="5002560"/>
              <a:ext cx="1488960" cy="1378800"/>
            </a:xfrm>
            <a:custGeom>
              <a:avLst/>
              <a:gdLst/>
              <a:ahLst/>
              <a:rect l="l" t="t" r="r" b="b"/>
              <a:pathLst>
                <a:path w="696" h="702">
                  <a:moveTo>
                    <a:pt x="0" y="702"/>
                  </a:moveTo>
                  <a:cubicBezTo>
                    <a:pt x="100" y="659"/>
                    <a:pt x="201" y="616"/>
                    <a:pt x="270" y="547"/>
                  </a:cubicBezTo>
                  <a:cubicBezTo>
                    <a:pt x="339" y="478"/>
                    <a:pt x="343" y="378"/>
                    <a:pt x="414" y="287"/>
                  </a:cubicBezTo>
                  <a:cubicBezTo>
                    <a:pt x="485" y="196"/>
                    <a:pt x="590" y="98"/>
                    <a:pt x="69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65960" y="3789360"/>
              <a:ext cx="1743120" cy="1758960"/>
            </a:xfrm>
            <a:custGeom>
              <a:avLst/>
              <a:gdLst/>
              <a:ahLst/>
              <a:rect l="l" t="t" r="r" b="b"/>
              <a:pathLst>
                <a:path w="815" h="896">
                  <a:moveTo>
                    <a:pt x="8" y="0"/>
                  </a:moveTo>
                  <a:cubicBezTo>
                    <a:pt x="4" y="62"/>
                    <a:pt x="0" y="124"/>
                    <a:pt x="20" y="204"/>
                  </a:cubicBezTo>
                  <a:cubicBezTo>
                    <a:pt x="40" y="284"/>
                    <a:pt x="57" y="372"/>
                    <a:pt x="128" y="480"/>
                  </a:cubicBezTo>
                  <a:cubicBezTo>
                    <a:pt x="199" y="588"/>
                    <a:pt x="350" y="808"/>
                    <a:pt x="446" y="852"/>
                  </a:cubicBezTo>
                  <a:cubicBezTo>
                    <a:pt x="542" y="896"/>
                    <a:pt x="644" y="817"/>
                    <a:pt x="704" y="744"/>
                  </a:cubicBezTo>
                  <a:cubicBezTo>
                    <a:pt x="764" y="671"/>
                    <a:pt x="815" y="516"/>
                    <a:pt x="806" y="414"/>
                  </a:cubicBezTo>
                  <a:cubicBezTo>
                    <a:pt x="797" y="312"/>
                    <a:pt x="688" y="201"/>
                    <a:pt x="650" y="132"/>
                  </a:cubicBezTo>
                  <a:cubicBezTo>
                    <a:pt x="612" y="63"/>
                    <a:pt x="585" y="22"/>
                    <a:pt x="57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95880" y="3789360"/>
              <a:ext cx="2671560" cy="2509920"/>
            </a:xfrm>
            <a:custGeom>
              <a:avLst/>
              <a:gdLst/>
              <a:ahLst/>
              <a:rect l="l" t="t" r="r" b="b"/>
              <a:pathLst>
                <a:path w="1249" h="1278">
                  <a:moveTo>
                    <a:pt x="13" y="0"/>
                  </a:moveTo>
                  <a:cubicBezTo>
                    <a:pt x="6" y="59"/>
                    <a:pt x="0" y="118"/>
                    <a:pt x="13" y="198"/>
                  </a:cubicBezTo>
                  <a:cubicBezTo>
                    <a:pt x="26" y="278"/>
                    <a:pt x="50" y="385"/>
                    <a:pt x="91" y="480"/>
                  </a:cubicBezTo>
                  <a:cubicBezTo>
                    <a:pt x="132" y="575"/>
                    <a:pt x="196" y="671"/>
                    <a:pt x="259" y="768"/>
                  </a:cubicBezTo>
                  <a:cubicBezTo>
                    <a:pt x="322" y="865"/>
                    <a:pt x="394" y="987"/>
                    <a:pt x="469" y="1062"/>
                  </a:cubicBezTo>
                  <a:cubicBezTo>
                    <a:pt x="544" y="1137"/>
                    <a:pt x="623" y="1187"/>
                    <a:pt x="709" y="1218"/>
                  </a:cubicBezTo>
                  <a:cubicBezTo>
                    <a:pt x="795" y="1249"/>
                    <a:pt x="908" y="1278"/>
                    <a:pt x="988" y="1248"/>
                  </a:cubicBezTo>
                  <a:cubicBezTo>
                    <a:pt x="1068" y="1218"/>
                    <a:pt x="1146" y="1095"/>
                    <a:pt x="1189" y="1038"/>
                  </a:cubicBezTo>
                  <a:cubicBezTo>
                    <a:pt x="1232" y="981"/>
                    <a:pt x="1240" y="943"/>
                    <a:pt x="1249" y="9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87640" y="5131440"/>
              <a:ext cx="1180440" cy="1249920"/>
            </a:xfrm>
            <a:custGeom>
              <a:avLst/>
              <a:gdLst/>
              <a:ahLst/>
              <a:rect l="l" t="t" r="r" b="b"/>
              <a:pathLst>
                <a:path w="552" h="636">
                  <a:moveTo>
                    <a:pt x="0" y="0"/>
                  </a:moveTo>
                  <a:cubicBezTo>
                    <a:pt x="24" y="70"/>
                    <a:pt x="48" y="141"/>
                    <a:pt x="102" y="221"/>
                  </a:cubicBezTo>
                  <a:cubicBezTo>
                    <a:pt x="156" y="301"/>
                    <a:pt x="249" y="412"/>
                    <a:pt x="324" y="481"/>
                  </a:cubicBezTo>
                  <a:cubicBezTo>
                    <a:pt x="399" y="550"/>
                    <a:pt x="475" y="593"/>
                    <a:pt x="552" y="6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97800" y="3789360"/>
              <a:ext cx="286560" cy="812880"/>
            </a:xfrm>
            <a:custGeom>
              <a:avLst/>
              <a:gdLst/>
              <a:ahLst/>
              <a:rect l="l" t="t" r="r" b="b"/>
              <a:pathLst>
                <a:path w="134" h="414">
                  <a:moveTo>
                    <a:pt x="0" y="0"/>
                  </a:moveTo>
                  <a:cubicBezTo>
                    <a:pt x="28" y="44"/>
                    <a:pt x="57" y="88"/>
                    <a:pt x="78" y="138"/>
                  </a:cubicBezTo>
                  <a:cubicBezTo>
                    <a:pt x="99" y="188"/>
                    <a:pt x="118" y="254"/>
                    <a:pt x="126" y="300"/>
                  </a:cubicBezTo>
                  <a:cubicBezTo>
                    <a:pt x="134" y="346"/>
                    <a:pt x="130" y="380"/>
                    <a:pt x="126" y="4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87640" y="3789360"/>
              <a:ext cx="2283840" cy="622080"/>
            </a:xfrm>
            <a:custGeom>
              <a:avLst/>
              <a:gdLst/>
              <a:ahLst/>
              <a:rect l="l" t="t" r="r" b="b"/>
              <a:pathLst>
                <a:path w="1068" h="317">
                  <a:moveTo>
                    <a:pt x="0" y="288"/>
                  </a:moveTo>
                  <a:cubicBezTo>
                    <a:pt x="56" y="300"/>
                    <a:pt x="112" y="312"/>
                    <a:pt x="191" y="312"/>
                  </a:cubicBezTo>
                  <a:cubicBezTo>
                    <a:pt x="270" y="312"/>
                    <a:pt x="371" y="317"/>
                    <a:pt x="474" y="288"/>
                  </a:cubicBezTo>
                  <a:cubicBezTo>
                    <a:pt x="577" y="259"/>
                    <a:pt x="711" y="186"/>
                    <a:pt x="810" y="138"/>
                  </a:cubicBezTo>
                  <a:cubicBezTo>
                    <a:pt x="909" y="90"/>
                    <a:pt x="1019" y="23"/>
                    <a:pt x="106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87640" y="4380480"/>
              <a:ext cx="3079800" cy="623880"/>
            </a:xfrm>
            <a:custGeom>
              <a:avLst/>
              <a:gdLst/>
              <a:ahLst/>
              <a:rect l="l" t="t" r="r" b="b"/>
              <a:pathLst>
                <a:path w="1440" h="318">
                  <a:moveTo>
                    <a:pt x="0" y="227"/>
                  </a:moveTo>
                  <a:cubicBezTo>
                    <a:pt x="54" y="272"/>
                    <a:pt x="108" y="318"/>
                    <a:pt x="191" y="317"/>
                  </a:cubicBezTo>
                  <a:cubicBezTo>
                    <a:pt x="274" y="316"/>
                    <a:pt x="422" y="255"/>
                    <a:pt x="498" y="221"/>
                  </a:cubicBezTo>
                  <a:cubicBezTo>
                    <a:pt x="574" y="187"/>
                    <a:pt x="584" y="147"/>
                    <a:pt x="648" y="113"/>
                  </a:cubicBezTo>
                  <a:cubicBezTo>
                    <a:pt x="712" y="79"/>
                    <a:pt x="794" y="32"/>
                    <a:pt x="882" y="16"/>
                  </a:cubicBezTo>
                  <a:cubicBezTo>
                    <a:pt x="970" y="0"/>
                    <a:pt x="1086" y="9"/>
                    <a:pt x="1179" y="16"/>
                  </a:cubicBezTo>
                  <a:cubicBezTo>
                    <a:pt x="1272" y="23"/>
                    <a:pt x="1356" y="41"/>
                    <a:pt x="1440" y="5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87640" y="4978800"/>
              <a:ext cx="3079800" cy="889200"/>
            </a:xfrm>
            <a:custGeom>
              <a:avLst/>
              <a:gdLst/>
              <a:ahLst/>
              <a:rect l="l" t="t" r="r" b="b"/>
              <a:pathLst>
                <a:path w="1440" h="453">
                  <a:moveTo>
                    <a:pt x="0" y="438"/>
                  </a:moveTo>
                  <a:cubicBezTo>
                    <a:pt x="16" y="445"/>
                    <a:pt x="33" y="453"/>
                    <a:pt x="108" y="444"/>
                  </a:cubicBezTo>
                  <a:cubicBezTo>
                    <a:pt x="183" y="435"/>
                    <a:pt x="344" y="432"/>
                    <a:pt x="450" y="384"/>
                  </a:cubicBezTo>
                  <a:cubicBezTo>
                    <a:pt x="556" y="336"/>
                    <a:pt x="631" y="218"/>
                    <a:pt x="744" y="156"/>
                  </a:cubicBezTo>
                  <a:cubicBezTo>
                    <a:pt x="857" y="94"/>
                    <a:pt x="1012" y="26"/>
                    <a:pt x="1128" y="13"/>
                  </a:cubicBezTo>
                  <a:cubicBezTo>
                    <a:pt x="1244" y="0"/>
                    <a:pt x="1342" y="39"/>
                    <a:pt x="1440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70320" y="5833800"/>
              <a:ext cx="1813680" cy="547560"/>
            </a:xfrm>
            <a:custGeom>
              <a:avLst/>
              <a:gdLst/>
              <a:ahLst/>
              <a:rect l="l" t="t" r="r" b="b"/>
              <a:pathLst>
                <a:path w="848" h="279">
                  <a:moveTo>
                    <a:pt x="0" y="279"/>
                  </a:moveTo>
                  <a:cubicBezTo>
                    <a:pt x="57" y="223"/>
                    <a:pt x="114" y="167"/>
                    <a:pt x="210" y="124"/>
                  </a:cubicBezTo>
                  <a:cubicBezTo>
                    <a:pt x="306" y="81"/>
                    <a:pt x="473" y="36"/>
                    <a:pt x="579" y="18"/>
                  </a:cubicBezTo>
                  <a:cubicBezTo>
                    <a:pt x="685" y="0"/>
                    <a:pt x="766" y="9"/>
                    <a:pt x="848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87640" y="3789360"/>
              <a:ext cx="1180440" cy="2592000"/>
            </a:xfrm>
            <a:custGeom>
              <a:avLst/>
              <a:gdLst/>
              <a:ahLst/>
              <a:rect l="l" t="t" r="r" b="b"/>
              <a:pathLst>
                <a:path w="552" h="1320">
                  <a:moveTo>
                    <a:pt x="552" y="0"/>
                  </a:moveTo>
                  <a:cubicBezTo>
                    <a:pt x="537" y="33"/>
                    <a:pt x="523" y="67"/>
                    <a:pt x="492" y="120"/>
                  </a:cubicBezTo>
                  <a:cubicBezTo>
                    <a:pt x="461" y="173"/>
                    <a:pt x="392" y="248"/>
                    <a:pt x="364" y="317"/>
                  </a:cubicBezTo>
                  <a:cubicBezTo>
                    <a:pt x="336" y="386"/>
                    <a:pt x="324" y="464"/>
                    <a:pt x="324" y="534"/>
                  </a:cubicBezTo>
                  <a:cubicBezTo>
                    <a:pt x="324" y="604"/>
                    <a:pt x="365" y="654"/>
                    <a:pt x="364" y="738"/>
                  </a:cubicBezTo>
                  <a:cubicBezTo>
                    <a:pt x="363" y="822"/>
                    <a:pt x="360" y="959"/>
                    <a:pt x="318" y="1041"/>
                  </a:cubicBezTo>
                  <a:cubicBezTo>
                    <a:pt x="276" y="1123"/>
                    <a:pt x="167" y="1183"/>
                    <a:pt x="114" y="1230"/>
                  </a:cubicBezTo>
                  <a:cubicBezTo>
                    <a:pt x="61" y="1277"/>
                    <a:pt x="30" y="1298"/>
                    <a:pt x="0" y="132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59920" y="3789360"/>
              <a:ext cx="1090800" cy="2592000"/>
            </a:xfrm>
            <a:custGeom>
              <a:avLst/>
              <a:gdLst/>
              <a:ahLst/>
              <a:rect l="l" t="t" r="r" b="b"/>
              <a:pathLst>
                <a:path w="510" h="1320">
                  <a:moveTo>
                    <a:pt x="510" y="0"/>
                  </a:moveTo>
                  <a:cubicBezTo>
                    <a:pt x="475" y="21"/>
                    <a:pt x="441" y="42"/>
                    <a:pt x="402" y="84"/>
                  </a:cubicBezTo>
                  <a:cubicBezTo>
                    <a:pt x="363" y="126"/>
                    <a:pt x="296" y="197"/>
                    <a:pt x="276" y="252"/>
                  </a:cubicBezTo>
                  <a:cubicBezTo>
                    <a:pt x="256" y="307"/>
                    <a:pt x="272" y="362"/>
                    <a:pt x="282" y="414"/>
                  </a:cubicBezTo>
                  <a:cubicBezTo>
                    <a:pt x="292" y="466"/>
                    <a:pt x="336" y="499"/>
                    <a:pt x="336" y="564"/>
                  </a:cubicBezTo>
                  <a:cubicBezTo>
                    <a:pt x="336" y="629"/>
                    <a:pt x="306" y="724"/>
                    <a:pt x="282" y="804"/>
                  </a:cubicBezTo>
                  <a:cubicBezTo>
                    <a:pt x="258" y="884"/>
                    <a:pt x="224" y="971"/>
                    <a:pt x="192" y="1041"/>
                  </a:cubicBezTo>
                  <a:cubicBezTo>
                    <a:pt x="160" y="1111"/>
                    <a:pt x="122" y="1178"/>
                    <a:pt x="90" y="1224"/>
                  </a:cubicBezTo>
                  <a:cubicBezTo>
                    <a:pt x="58" y="1270"/>
                    <a:pt x="29" y="1295"/>
                    <a:pt x="0" y="132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8480" y="3789360"/>
              <a:ext cx="1321920" cy="2592000"/>
            </a:xfrm>
            <a:custGeom>
              <a:avLst/>
              <a:gdLst/>
              <a:ahLst/>
              <a:rect l="l" t="t" r="r" b="b"/>
              <a:pathLst>
                <a:path w="618" h="1320">
                  <a:moveTo>
                    <a:pt x="618" y="0"/>
                  </a:moveTo>
                  <a:cubicBezTo>
                    <a:pt x="556" y="26"/>
                    <a:pt x="495" y="52"/>
                    <a:pt x="435" y="102"/>
                  </a:cubicBezTo>
                  <a:cubicBezTo>
                    <a:pt x="375" y="152"/>
                    <a:pt x="289" y="238"/>
                    <a:pt x="258" y="301"/>
                  </a:cubicBezTo>
                  <a:cubicBezTo>
                    <a:pt x="227" y="364"/>
                    <a:pt x="251" y="416"/>
                    <a:pt x="246" y="480"/>
                  </a:cubicBezTo>
                  <a:cubicBezTo>
                    <a:pt x="241" y="544"/>
                    <a:pt x="240" y="613"/>
                    <a:pt x="228" y="684"/>
                  </a:cubicBezTo>
                  <a:cubicBezTo>
                    <a:pt x="216" y="755"/>
                    <a:pt x="201" y="835"/>
                    <a:pt x="174" y="905"/>
                  </a:cubicBezTo>
                  <a:cubicBezTo>
                    <a:pt x="147" y="975"/>
                    <a:pt x="95" y="1035"/>
                    <a:pt x="66" y="1104"/>
                  </a:cubicBezTo>
                  <a:cubicBezTo>
                    <a:pt x="37" y="1173"/>
                    <a:pt x="18" y="1246"/>
                    <a:pt x="0" y="132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71480" y="4731480"/>
              <a:ext cx="795600" cy="1649880"/>
            </a:xfrm>
            <a:custGeom>
              <a:avLst/>
              <a:gdLst/>
              <a:ahLst/>
              <a:rect l="l" t="t" r="r" b="b"/>
              <a:pathLst>
                <a:path w="372" h="840">
                  <a:moveTo>
                    <a:pt x="372" y="0"/>
                  </a:moveTo>
                  <a:cubicBezTo>
                    <a:pt x="339" y="46"/>
                    <a:pt x="307" y="92"/>
                    <a:pt x="294" y="126"/>
                  </a:cubicBezTo>
                  <a:cubicBezTo>
                    <a:pt x="281" y="160"/>
                    <a:pt x="294" y="170"/>
                    <a:pt x="294" y="204"/>
                  </a:cubicBezTo>
                  <a:cubicBezTo>
                    <a:pt x="294" y="238"/>
                    <a:pt x="311" y="270"/>
                    <a:pt x="294" y="330"/>
                  </a:cubicBezTo>
                  <a:cubicBezTo>
                    <a:pt x="277" y="390"/>
                    <a:pt x="223" y="492"/>
                    <a:pt x="192" y="561"/>
                  </a:cubicBezTo>
                  <a:cubicBezTo>
                    <a:pt x="161" y="630"/>
                    <a:pt x="143" y="698"/>
                    <a:pt x="111" y="744"/>
                  </a:cubicBezTo>
                  <a:cubicBezTo>
                    <a:pt x="79" y="790"/>
                    <a:pt x="39" y="815"/>
                    <a:pt x="0" y="8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Tahoma"/>
              </a:rPr>
              <a:t>Método de Isolíneas </a:t>
            </a:r>
            <a:br>
              <a:rPr sz="4000"/>
            </a:br>
            <a:r>
              <a:rPr b="0" lang="es-CL" sz="32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e Roux y Rust (1989))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duce un solo set de isolíneas, recalculando la información de los mapas de base y asignándoles un número fijo que reúne iguales contribuciones de todos los mapas b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étodo paso a p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1.- Valor de porcentaje 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 = 100 / n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n = n° de mapas b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2.- Factor de conversión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 = S / (Gh – G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Gh: valor mayor en mapa b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Gl: Valor menor en mapa b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3.- Valor numérico 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V = T *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 = valor de transición = Gi –G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Gi : valor de cada es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A veces es necesario invertir los datos (p.e., valor de isópac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 = valor invertido = S - V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4.- Valor de datos compuestos (para cada estación), D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c =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Σ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i,n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  <a:ea typeface="Tahoma"/>
              </a:rPr>
              <a:t>  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*Si faltan datos en alguna est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M = n / 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d = Dc *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k : n° de mapas que aportan datos en D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plicación en el map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lotear Dc / Dd en cada estación indicada en el ma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azar intervalos de contorno (mismo método que el trazado de curvas de nivel en un mapa con alturas dad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80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03:22:07Z</dcterms:created>
  <dc:creator>Gonzalo Huerta Vásquez</dc:creator>
  <dc:description/>
  <dc:language>en-US</dc:language>
  <cp:lastModifiedBy>Gonzalo Huerta Vásquez</cp:lastModifiedBy>
  <dcterms:modified xsi:type="dcterms:W3CDTF">2007-10-01T05:04:36Z</dcterms:modified>
  <cp:revision>9</cp:revision>
  <dc:subject/>
  <dc:title>Laboratorio VII</dc:title>
</cp:coreProperties>
</file>