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3CF-F343-4125-BC36-F75EA361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13F-F8DC-4EEB-979A-63916EA3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279-07C2-4B5D-B381-C1E1223F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48E-28A7-4849-B411-7BF1520E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B195-7DE3-4543-9FDA-D557338B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1FA6-9933-4178-B2C1-22711297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6723-C1BF-4673-AC5E-9FECE11E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639A-1AA0-434C-8E0D-69D5C448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C947-0418-461C-9321-FF865FDA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0815-3926-4067-B229-EBAF38CB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E6EF-69AB-4810-9DE0-B3FC1813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A142-70C7-46F0-A4C8-4311B5E4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4590-3F43-4004-91D3-2CE5B94C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5B6C-20EF-4961-95A8-14F86215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8482-BD5D-4F0E-945D-1AE8E37D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3061-1BE5-4996-813B-9EA9D898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CBC2-7D3E-4A0A-9F68-B6C133E0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F4D-4CAE-41F4-88B7-CD60CBD8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41F-090D-4ED3-A601-325F10E8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D292-3BD9-4E62-973E-0378C065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8DD-3616-4FF8-AF08-706CC01C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979-618F-4C34-9360-D378E3EB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AFE4-42F8-4FEB-9AD4-2613C1C5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B409-94CA-4790-861D-C5773ECE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D225-5794-4777-A989-C5C950DEF58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C330-75F0-4AFC-B11B-1DFED347855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boratorio VI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pas y Per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lgoritmo del método 3 punto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1. Une los puntos de cotas extremas (mayor con menor) y divide tu recta (en partes iguales) según la cantidad de líneas de cota que tengas entre ambas. Ejemplo: si tienes sólo una cota al medio, divide la recta en 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2. Cada división que obtuviste en (1) corresponde a una altitud determinada. Entonces, une el punto intermedio de tu estrato conla división correspondiente a la misma altura, y obtendrás la líneade rumb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3. Ahora puedes ir al punto (2) del algoritmo del método de los dos pu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terminación de espesor (t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964720" cy="354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50760" y="5392800"/>
            <a:ext cx="390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13560" y="5300640"/>
            <a:ext cx="44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: Distancia horizontal (escalad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: Distancia vertical (diferencia de cot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lta: Manteo 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Línea de Rumbo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: Cualquier línea horizontal contenida en la estructura plana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Rumbo (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ρ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):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Ángulo entre la línea de rumbo y el norte geográfic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Manteo Real (manteo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: Ángulo entre la estructura planar y un plano horizontal, medido en la dirección perpendicular a la línea de rumb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Manteo aparente (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: Ángulo entre la estructura planar y un plano horizontal, medido en cualquier dire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543420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μa es el manteo aparente, μr(μ) el manteo real, y α el ángulo entre la línea de rumbo y la dirección en que se ha medido el manteo aparent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g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) = tg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)sen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Regla de las “V”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1471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ón de los estratos cortados por la top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5400000">
            <a:off x="2516760" y="948240"/>
            <a:ext cx="403884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387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5400000">
            <a:off x="1049400" y="209160"/>
            <a:ext cx="6858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eterminación de rumbo y manteo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étodo de los 2 pu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étodo de los 3 pu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lgoritmo del método 2 punto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557360"/>
            <a:ext cx="8280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1. Une los puntos que en tu afloramiento intersecten la misma cota. Con esto obtienes la línea de rumb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2. Traza una línea recta que sea perpendicular a tu línea de rumbo, y que pase por el punto de intersección de tu estrato con otra línea de cota (mayor o menor a la primer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3. La diferencia de cotas será la distancia vertical (v), y la longitud (escalada) de la línea perpendicular a las líneas de rumbo (que las une) será la distancia horizontal (h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4. Tan (manteo real)= v / 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3:22:07Z</dcterms:created>
  <dc:creator>Gonzalo Huerta Vásquez</dc:creator>
  <dc:description/>
  <dc:language>en-US</dc:language>
  <cp:lastModifiedBy>Gonzalo Huerta Vásquez</cp:lastModifiedBy>
  <dcterms:modified xsi:type="dcterms:W3CDTF">2007-09-10T04:39:36Z</dcterms:modified>
  <cp:revision>4</cp:revision>
  <dc:subject/>
  <dc:title>Laboratorio VII</dc:title>
</cp:coreProperties>
</file>