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66A-A2C9-4F98-A698-661B3FB2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9C4-D85C-47BA-8FA3-FE04741D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145-D0BC-4D27-B779-ABA3030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D21-EA44-419F-A637-9369354D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7779-641E-49E5-8BB8-90E8DD28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C5F0-65B5-46F5-8DE3-A899CA9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BC4C-86BE-47DB-ABB1-F3EC3231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352C-D200-4734-9533-DC80B324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5E60-8218-42AE-8889-ABCDA159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980-6B40-4E04-8080-8AEB4C3D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E16-1D6D-44E1-99E7-F251FC0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5A6-57F2-4909-AD6A-757B4A46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6273-34E8-4843-AF59-75DD306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BEEB-095D-4160-9146-73889E8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6273-A99F-40F9-AC44-5F9AE996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37E9-5740-4AB1-A0E9-93072CBE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293-50FC-4061-AC3C-A3440601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CE0-A15C-4FCC-856D-EB545A4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E85-521E-46AF-8F7C-1F222ACC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99D-1590-4B9B-B2A5-F103CB8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119-FE37-44DD-BD94-A703745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CCD-21D9-48A8-871A-548B8829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58D-C1AA-4B70-B869-A0262BE1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D30-69E8-406D-83C4-08F3BDC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80BD-DF05-44A3-A304-202C0506B8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1BE-86E0-4F4A-A4FF-240FCB5EFD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V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y Per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3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de cotas extremas (mayor con menor) y divide tu recta (en partes iguales) según la cantidad de líneas de cota que tengas entre ambas. Ejemplo: si tienes sólo una cota al medio, divide la recta en 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Cada división que obtuviste en (1) corresponde a una altitud determinada. Entonces, une el punto intermedio de tu estrato conla división correspondiente a la misma altura, y obtendrás la línea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Ahora puedes ir al punto (2) del algoritmo del método de los dos pu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terminación de espesor (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96472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0760" y="5392800"/>
            <a:ext cx="39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3560" y="5300640"/>
            <a:ext cx="44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: Distancia horizontal (escalad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: Distancia vertical (diferencia de cot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lta: Manteo re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ínea de Rumbo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Cualquier línea horizontal contenida en la estructura plan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Rumbo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ρ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: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Ángulo entre la línea de rumbo y el norte geográfic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Real (manteo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la dirección perpendicular a la línea de rumb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Manteo aparente (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Ángulo entre la estructura planar y un plano horizontal, medido en cualquier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4342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μa es el manteo aparente, μr(μ) el manteo real, y α el ángulo entre la línea de rumbo y la dirección en que se ha medido el manteo aparen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) = tg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)sen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gla de las “V”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ón de los estratos cortados por la top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5400000">
            <a:off x="2516760" y="948240"/>
            <a:ext cx="403884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87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5400000">
            <a:off x="1049400" y="209160"/>
            <a:ext cx="6858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eterminación de rumbo y manteo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2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étodo de los 3 pun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goritmo del método 2 punt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557360"/>
            <a:ext cx="8280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1. Une los puntos que en tu afloramiento intersecten la misma cota. Con esto obtienes la línea de rum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2. Traza una línea recta que sea perpendicular a tu línea de rumbo, y que pase por el punto de intersección de tu estrato con otra línea de cota (mayor o menor a la primer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3. La diferencia de cotas será la distancia vertical (v), y la longitud (escalada) de la línea perpendicular a las líneas de rumbo (que las une) será la distancia horizontal (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4. Tan (manteo real)= v / 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09-10T04:39:36Z</dcterms:modified>
  <cp:revision>4</cp:revision>
  <dc:subject/>
  <dc:title>Laboratorio VII</dc:title>
</cp:coreProperties>
</file>