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A61-FCD8-4FA1-8A13-19481A34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E8B-7F03-4F46-8553-78493746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4F9-0436-48C3-9CA3-88A404B3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860-4AEA-4378-93C9-8E17E2E7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2FDD-EDE0-443D-A280-59578AF5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E3E8-E185-4100-97E2-076EC4B3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7F2E-63E1-4052-9C1A-B2DEC5B3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7756-39CF-45E4-ABE8-62DEEC3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0ED1-7E3C-4FD2-8A27-BB46CCE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E4AC-3564-42DA-8440-FF47F524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1D1E-7FD8-4165-8671-03E51B7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D87-3B67-4055-ADBA-8535534D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C80E-F17E-4D8E-94E9-EC9EF9B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242-23ED-4B03-B41B-DED36EC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2A32-EBC9-4742-A6AA-16A5452D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6AC6-894F-4744-9E12-5891F753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FCCC-17B6-49CA-9009-00E7D75E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540-51F2-4929-AFBE-7EBB179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A64-ED8C-4217-9DD0-60D44E06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C71-9EB9-41C7-932E-7612D23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295-C75C-4378-A376-FE17ED2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8CA-6F82-4AD7-9DBB-F86793D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85E-B858-4170-A40C-D377583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B8C-9F1E-41A5-9A5E-44EF7AE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A61-87BC-413A-8574-298986762C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D9A1-70D7-4439-A51B-F31A4ACF2B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V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pas y Per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goritmo del método 3 punt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1. Une los puntos de cotas extremas (mayor con menor) y divide tu recta (en partes iguales) según la cantidad de líneas de cota que tengas entre ambas. Ejemplo: si tienes sólo una cota al medio, divide la recta en 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. Cada división que obtuviste en (1) corresponde a una altitud determinada. Entonces, une el punto intermedio de tu estrato conla división correspondiente a la misma altura, y obtendrás la líneade rum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3. Ahora puedes ir al punto (2) del algoritmo del método de los dos pu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ación de espesor (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0760" y="5392800"/>
            <a:ext cx="39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3560" y="5300640"/>
            <a:ext cx="44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: Distancia horizontal (escalad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: Distancia vertical (diferencia de cot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ta: 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ínea de Rumb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ualquier línea horizontal contenida en la estructura plan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Rumbo (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ρ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):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Ángulo entre la línea de rumbo y el norte geográf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Manteo Real (mante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Ángulo entre la estructura planar y un plano horizontal, medido en la dirección perpendicular a la línea de rum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Manteo aparente (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Ángulo entre la estructura planar y un plano horizontal, medido en cualquier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4342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μa es el manteo aparente, μr(μ) el manteo real, y α el ángulo entre la línea de rumbo y la dirección en que se ha medido el manteo aparent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g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) = tg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)sen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Regla de las “V”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ón de los estratos cortados por la top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5400000">
            <a:off x="2516760" y="948240"/>
            <a:ext cx="40388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87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5400000">
            <a:off x="1049400" y="209160"/>
            <a:ext cx="6858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terminación de rumbo y manteo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odo de los 2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odo de los 3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goritmo del método 2 punt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557360"/>
            <a:ext cx="8280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1. Une los puntos que en tu afloramiento intersecten la misma cota. Con esto obtienes la línea de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. Traza una línea recta que sea perpendicular a tu línea de rumbo, y que pase por el punto de intersección de tu estrato con otra línea de cota (mayor o menor a la primer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3. La diferencia de cotas será la distancia vertical (v), y la longitud (escalada) de la línea perpendicular a las líneas de rumbo (que las une) será la distancia horizontal (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4. Tan (manteo real)= v / 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09-10T04:39:36Z</dcterms:modified>
  <cp:revision>4</cp:revision>
  <dc:subject/>
  <dc:title>Laboratorio VII</dc:title>
</cp:coreProperties>
</file>